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5C3-77A4-4A1C-A588-036A6649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38E-29ED-417B-9E56-E47B0DC4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57B-6DE0-4216-A467-9F3ECEB3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223-532D-4966-AE49-403EA751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915C-CB46-4A08-96FC-66330B1B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97B7-0E75-4014-9360-66D6F12F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DFB0-C606-4F75-8048-5387020B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403D-C8D8-4F6E-8E5E-DAB5E7D6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7360-D3B9-44BF-B0C5-0F39F2AA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0119-86A4-498E-B18E-DDDE9FC4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05C7-EF26-4212-941C-9CCE973F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66B-4F4B-4693-80FA-ADB284BB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492C-0802-4CE0-BA43-0BFBCC82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B1FB-C7C5-43B9-9D2A-F718A62C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ED47-7F33-46AB-95E0-58910CF2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A909-F549-4C5F-970A-74635906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1C80-A03F-40B5-A5D2-84BD4523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6FB-74AF-4B32-9E6B-AF9D3AB9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323-2D4C-473B-B68E-01582F5D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2CE-1F75-45D9-9FDA-748DFF8A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13D-1B4D-469E-A3DE-DD1182E5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E30-79EE-49A6-9D33-7EA07D43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324-F5D1-4045-9546-8442C8D3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C11-E25C-465A-9E14-9DF54FB5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BF78-9E1D-4357-88CF-A3F1D388A2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1D40-CF6A-43AF-A2AD-5FAE85AAFF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-304920" y="-228600"/>
            <a:ext cx="9750600" cy="73137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cc66"/>
                </a:solidFill>
                <a:latin typeface="Arial"/>
              </a:rPr>
              <a:t>Русская выхухоль - чудо природ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 факторах негативно влияющих на популяции этого зверька нам расскажут знато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543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ff"/>
                </a:solidFill>
                <a:latin typeface="Arial"/>
              </a:rPr>
              <a:t>Мы за них в ответе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еловек,  помоги! Мое будущее, в твоих руках 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91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Garamond"/>
              </a:rPr>
              <a:t>Посвящается хохуле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ff"/>
                </a:solidFill>
                <a:latin typeface="Garamond"/>
              </a:rPr>
              <a:t>Хохуля – носатое чуд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тот забавный и чрезвычайно симпатичный зверек является одним из древнейших млекопитающих, который обитает в Евразии вот уже 5 млн. ле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Место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ы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ли с системе органического мира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39640" y="2276640"/>
            <a:ext cx="8496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20254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76720" y="1268280"/>
            <a:ext cx="638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Царство: 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Тип: Хорд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Класс: Млекопита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Отряд: Насекомоя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Семейство: Выхухо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Род: Выхухо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Вид: Выхухоль рус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(Desmana moschata L</a:t>
            </a: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900000" y="5661000"/>
            <a:ext cx="855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           </a:t>
            </a:r>
            <a:r>
              <a:rPr b="0" lang="ru-RU" sz="2400" spc="-1" strike="noStrike">
                <a:solidFill>
                  <a:srgbClr val="1fcef1"/>
                </a:solidFill>
                <a:latin typeface="Verdana"/>
              </a:rPr>
              <a:t>Место</a:t>
            </a: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 выхухо</a:t>
            </a:r>
            <a:r>
              <a:rPr b="0" lang="ru-RU" sz="2400" spc="-1" strike="noStrike">
                <a:solidFill>
                  <a:srgbClr val="1fcef1"/>
                </a:solidFill>
                <a:latin typeface="Verdana"/>
              </a:rPr>
              <a:t>ли </a:t>
            </a: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в</a:t>
            </a:r>
            <a:r>
              <a:rPr b="0" lang="ru-RU" sz="2400" spc="-1" strike="noStrike">
                <a:solidFill>
                  <a:srgbClr val="1fcef1"/>
                </a:solidFill>
                <a:latin typeface="Verdana"/>
              </a:rPr>
              <a:t> системе органиче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             </a:t>
            </a: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мира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26920" y="256680"/>
            <a:ext cx="76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наши дни основная часть популяции выхухоли обитает в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оссии – в основном в бассейнах рек Волги и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она, в меньшей степени – в бассейнах рек Днепра, Урала, Уй и Тобола.  Кроме России выхухоли обитают еще в Казахстане,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краине и Белоруссии, но и там их совсем немно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12061800" cy="7694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16000" y="486900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3860640"/>
            <a:ext cx="1296720" cy="6494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826920" y="299700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55897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840000">
            <a:off x="395280" y="386064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72720" y="50479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826560" y="333360"/>
            <a:ext cx="7264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прошлом выхухоль была широко распространена в бассейнах рек Днепра, Волги, Урала и ее ареал был более широким и сплошным, чем современны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начале 1970 г. На территории России обитало около 69 тыс. выхухолей. Однако с этого времени численность зверьков и область их распространения стали резко сокращаться, из – за чего вид был включен в Красную книгу России, а также в Красную книгу Всемирного союза охраны природы. (МСОП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годня осталось только 25 тыс. хоху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468720" y="1628640"/>
            <a:ext cx="9155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07:48Z</dcterms:created>
  <dc:creator>Katya</dc:creator>
  <dc:description/>
  <dc:language>en-US</dc:language>
  <cp:lastModifiedBy>User</cp:lastModifiedBy>
  <dcterms:modified xsi:type="dcterms:W3CDTF">2009-06-10T09:54:56Z</dcterms:modified>
  <cp:revision>10</cp:revision>
  <dc:subject/>
  <dc:title>Русская выхухоль - чудо природы</dc:title>
</cp:coreProperties>
</file>