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png" ContentType="image/png"/>
  <Override PartName="/ppt/media/image33.jpeg" ContentType="image/jpeg"/>
  <Override PartName="/ppt/media/image34.gif" ContentType="image/gif"/>
  <Override PartName="/ppt/media/image24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47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44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57.jpeg" ContentType="image/jpeg"/>
  <Override PartName="/ppt/media/image43.png" ContentType="image/png"/>
  <Override PartName="/ppt/media/image53.jpeg" ContentType="image/jpeg"/>
  <Override PartName="/ppt/media/image52.jpeg" ContentType="image/jpeg"/>
  <Override PartName="/ppt/media/image48.jpeg" ContentType="image/jpeg"/>
  <Override PartName="/ppt/media/image37.png" ContentType="image/png"/>
  <Override PartName="/ppt/media/image49.jpeg" ContentType="image/jpeg"/>
  <Override PartName="/ppt/media/image54.jpeg" ContentType="image/jpeg"/>
  <Override PartName="/ppt/media/image55.jpeg" ContentType="image/jpeg"/>
  <Override PartName="/ppt/media/image42.png" ContentType="image/png"/>
  <Override PartName="/ppt/media/image36.png" ContentType="image/png"/>
  <Override PartName="/ppt/media/image35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9.jpeg" ContentType="image/jpeg"/>
  <Override PartName="/ppt/media/image8.jpeg" ContentType="image/jpeg"/>
  <Override PartName="/ppt/media/image9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1823-BDBD-490E-AEE7-3D28D480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45F-D089-4BE2-87B8-A9AA6D5C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70F-8B50-45F6-8D3E-0C1D3783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B9A-F5BB-499D-B9B4-9F18C226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C897-511F-4DEE-8CCC-24FDCA87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6A00-515B-47DB-BB33-12B2517C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764B-51D8-4376-A57B-4CA120B9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621F-7AC3-4F22-B05F-2770B015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37CB-C5D3-41AD-A9F4-C9B87B13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F21F-694C-4627-8C84-DDDBE5AC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A3A7-EE92-4BC1-8064-06415417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160-9A79-4EC9-8A10-25740A7A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1511-DD65-4E91-8030-496C0700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A4CF-D308-457F-A576-BF5E6ED0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0F38-9317-4936-AF0E-49D99403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9D15-02BC-4BAC-9FF4-CF2F7EA6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30D6-0F68-4356-8D06-0337D3D4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F54C-F36B-4885-9802-57A80157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699-0281-47BA-B27D-6C96702A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19B9-657F-4117-A603-EA5E9697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A84-6768-43A7-BB0F-D8C0ED7A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5E9-982E-4685-9D1D-595779DE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8814-C1ED-4393-80C7-F565A722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E3D-B0EF-4EEF-8FA3-0C3BB4F1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1F63-19F6-4EC6-AFB7-0A3781E52B5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410B-9C79-4BF2-8AAF-DD5208DFA16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scilla.ru/images/vykh.jpg&amp;imgrefurl=http://www.scilla.ru/works/raznoe/fasad06.html&amp;usg=__f1e8EXGP0rUgBarMPXeZLDSTYCI=&amp;h=376&amp;w=580&amp;sz=65&amp;hl=ru&amp;start=9&amp;tbnid=XYUFMXWZz_nj1M:&amp;tbnh=87&amp;tbnw=134&amp;prev=/images%3Fq%3D%25D0%25B2%25D1%258B%25D1%2585%25D1%2583%25D1%2585%25D0%25BE%25D0%25BB%25D1%258C%26hl%3Dru%26sa%3D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google.com/imgres?imgurl=http://www.rustrana.ru/articles/18790/3.jpg&amp;imgrefurl=http://www.liveinternet.ru/users/flamewalker/post73424794/&amp;usg=__wxLqoinFKDFI6DVG8Awbh7lEPfA=&amp;h=290&amp;w=500&amp;sz=23&amp;hl=ru&amp;start=4&amp;tbnid=RiOwWs5mxUP8XM:&amp;tbnh=75&amp;tbnw=130&amp;prev=/images%3Fq%3D%25D0%25B2%25D1%258B%25D1%2585%25D1%2583%25D1%2585%25D0%25BE%25D0%25BB%25D1%258C%26hl%3Dru%26sa%3D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7.pn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jpeg"/><Relationship Id="rId12" Type="http://schemas.openxmlformats.org/officeDocument/2006/relationships/image" Target="../media/image42.png"/><Relationship Id="rId13" Type="http://schemas.openxmlformats.org/officeDocument/2006/relationships/image" Target="../media/image43.png"/><Relationship Id="rId1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static.oper.ru/data/gallery/l1048752485.jpg&amp;imgrefurl=http://oper.ru/gallery/view.php%3Ft%3D1048752485&amp;usg=__jnqUle9peb_4buCFHF2xEf4CGJ0=&amp;h=463&amp;w=697&amp;sz=85&amp;hl=ru&amp;start=5&amp;tbnid=sttXRtQxVrdmGM:&amp;tbnh=92&amp;tbnw=139&amp;prev=/images%3Fq%3D%25D0%25B2%25D1%258B%25D1%2585%25D1%2583%25D1%2585%25D0%25BE%25D0%25BB%25D1%258C%26hl%3Dru%26sa%3DG" TargetMode="Externa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62;&#1054;&#1044;&#1055;%20&#1064;&#1082;&#1086;&#1083;&#1100;&#1085;&#1099;&#1081;%20&#1091;&#1088;&#1086;&#1082;%20&#1086;%20&#1088;&#1091;&#1089;&#1089;&#1082;&#1086;&#1081;%20&#1074;&#1099;&#1093;&#1091;&#1093;&#1086;&#1083;&#1077;&amp;spsite=revelation.clan.su&amp;img_url=revelation.clan.su%2F_fr%2F0%2F0029964.jpg&amp;rpt=simage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biodiversity.ru/programs/vyhuh/vyhuh-leaflet.doc" TargetMode="External"/><Relationship Id="rId2" Type="http://schemas.openxmlformats.org/officeDocument/2006/relationships/hyperlink" Target="http://www.biodiversity.ru/programs/vyhuh/vyhuh-leaflet.doc" TargetMode="External"/><Relationship Id="rId3" Type="http://schemas.openxmlformats.org/officeDocument/2006/relationships/hyperlink" Target="http://www.biodiversity.ru/programs/vyhuh/vyhuh-leaflet.doc" TargetMode="External"/><Relationship Id="rId4" Type="http://schemas.openxmlformats.org/officeDocument/2006/relationships/hyperlink" Target="http://www.biodiversity.ru/programs/vyhuh/vyhuh-leaflet.doc" TargetMode="External"/><Relationship Id="rId5" Type="http://schemas.openxmlformats.org/officeDocument/2006/relationships/hyperlink" Target="http://www.biodiversity.ru/programs/vyhuh/vyhuh-leaflet.doc" TargetMode="External"/><Relationship Id="rId6" Type="http://schemas.openxmlformats.org/officeDocument/2006/relationships/hyperlink" Target="http://www.biodiversity.ru/programs/vyhuh/vyhuh-leaflet.doc" TargetMode="External"/><Relationship Id="rId7" Type="http://schemas.openxmlformats.org/officeDocument/2006/relationships/hyperlink" Target="http://www.biodiversity.ru/programs/vyhuh/vyhuh-leaflet.doc" TargetMode="External"/><Relationship Id="rId8" Type="http://schemas.openxmlformats.org/officeDocument/2006/relationships/hyperlink" Target="http://www.biodiversity.ru/programs/vyhuh/vyhuh-leaflet.doc" TargetMode="External"/><Relationship Id="rId9" Type="http://schemas.openxmlformats.org/officeDocument/2006/relationships/hyperlink" Target="http://www.biodiversity.ru/programs/vyhuh/vyhuh-leaflet.doc" TargetMode="Externa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dendrology.ru/forest/item/f00/s00/e0000420/pic/000016.jpg&amp;imgrefurl=http://dendrology.ru/forest/item/f00/s00/e0000420/index.shtml&amp;usg=__JQZDpmstPh0XNN8pjBjA570_zu8=&amp;h=440&amp;w=550&amp;sz=83&amp;hl=ru&amp;start=61&amp;tbnid=UVqoZHSVlkEa6M:&amp;tbnh=106&amp;tbnw=133&amp;prev=/images%3Fq%3D%25D0%25B2%25D1%258B%25D1%2585%25D1%2583%25D1%2585%25D0%25BE%25D0%25BB%25D1%258C%26start%3D60%26ndsp%3D20%26hl%3Dru%26sa%3DN" TargetMode="External"/><Relationship Id="rId2" Type="http://schemas.openxmlformats.org/officeDocument/2006/relationships/image" Target="../media/image55.jpeg"/><Relationship Id="rId3" Type="http://schemas.openxmlformats.org/officeDocument/2006/relationships/hyperlink" Target="http://www.biodiversity.ru/programs/vyhuh/gallery/photoalbum.html" TargetMode="External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computerra.ru/upload/nasek/krot" TargetMode="External"/><Relationship Id="rId2" Type="http://schemas.openxmlformats.org/officeDocument/2006/relationships/image" Target="../media/image57.jpeg"/><Relationship Id="rId3" Type="http://schemas.openxmlformats.org/officeDocument/2006/relationships/hyperlink" Target="http://www.biodiversity.ru/programs/vyhuh/gallery/photoalbum.html" TargetMode="External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ohotniki.com/news/69.jpg&amp;imgrefurl=http://www.ohotniki.com/new/69.htm&amp;usg=__UdGmpP9AEssusF_lzICRG3Bq5Yg=&amp;h=320&amp;w=320&amp;sz=11&amp;hl=ru&amp;start=6&amp;tbnid=5q54W2MjF1TrgM:&amp;tbnh=118&amp;tbnw=118&amp;prev=/images%3Fq%3D%25D0%25B2%25D1%258B%25D1%2585%25D1%2583%25D1%2585%25D0%25BE%25D0%25BB%25D1%258C%26hl%3Dru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ogle.com/imgres?imgurl=http://www.redbook.ru/foto_ch/vixuxol.jpg&amp;imgrefurl=http://www.redbook.ru/redbook141.html&amp;usg=__GScBaXYBMz0GxtmQoMsGfBiIZa4=&amp;h=218&amp;w=270&amp;sz=44&amp;hl=ru&amp;start=100&amp;tbnid=NuhsFkgt5Iv3WM:&amp;tbnh=91&amp;tbnw=113&amp;prev=/images%3Fq%3D%25D0%25B2%25D1%258B%25D1%2585%25D1%2583%25D1%2585%25D0%25BE%25D0%25BB%25D1%258C%26start%3D80%26ndsp%3D20%26hl%3Dru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55640" y="620640"/>
            <a:ext cx="777708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Verdana"/>
              </a:rPr>
              <a:t>По страницам</a:t>
            </a:r>
            <a:r>
              <a:rPr b="0" lang="ru-RU" sz="20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Verdana"/>
              </a:rPr>
              <a:t>                                                                                           </a:t>
            </a:r>
            <a:br>
              <a:rPr sz="4000"/>
            </a:br>
            <a:r>
              <a:rPr b="0" lang="ru-RU" sz="6000" spc="-1" strike="noStrike">
                <a:solidFill>
                  <a:srgbClr val="cc3300"/>
                </a:solidFill>
                <a:latin typeface="Verdana"/>
              </a:rPr>
              <a:t>КРАСНОЙ КНИГИ </a:t>
            </a:r>
            <a:br>
              <a:rPr sz="6000"/>
            </a:br>
            <a:r>
              <a:rPr b="0" lang="ru-RU" sz="6000" spc="-1" strike="noStrike">
                <a:solidFill>
                  <a:srgbClr val="cc3300"/>
                </a:solidFill>
                <a:latin typeface="Verdana"/>
              </a:rPr>
              <a:t>   РОССИ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Verdana"/>
              </a:rPr>
              <a:t>учитель начальных классов  Косьяненко Ольга Викторо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99"/>
                </a:solidFill>
                <a:latin typeface="Arial"/>
              </a:rPr>
              <a:t>Внешний вид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51280" y="1628640"/>
            <a:ext cx="52927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большое животное плотного сложения, весом около 500 г. и длиной тела около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0с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аликообразное тело покрыто густым волосяным покровом, на короткой и малоподвижной шеи сидит конусовидная голова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14880" r="0" b="8928"/>
          <a:stretch/>
        </p:blipFill>
        <p:spPr>
          <a:xfrm>
            <a:off x="250920" y="2133720"/>
            <a:ext cx="3397320" cy="3903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84360" y="9079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ff99"/>
                </a:solidFill>
                <a:uFillTx/>
                <a:latin typeface="Verdana"/>
              </a:rPr>
              <a:t>Русская выхухо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84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569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канчивающаяся довольно длинным подвижным хоботком с парой крупных носовых отверстий на конце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87280" y="2222640"/>
            <a:ext cx="6769440" cy="434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859280" y="692280"/>
            <a:ext cx="389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апки небольшие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images" descr="">
            <a:hlinkClick r:id="rId1"/>
          </p:cNvPr>
          <p:cNvPicPr/>
          <p:nvPr/>
        </p:nvPicPr>
        <p:blipFill>
          <a:blip r:embed="rId2"/>
          <a:srcRect l="0" t="0" r="28209" b="0"/>
          <a:stretch/>
        </p:blipFill>
        <p:spPr>
          <a:xfrm>
            <a:off x="5219640" y="3933720"/>
            <a:ext cx="2448000" cy="2214720"/>
          </a:xfrm>
          <a:prstGeom prst="rect">
            <a:avLst/>
          </a:prstGeom>
          <a:ln w="0">
            <a:noFill/>
          </a:ln>
        </p:spPr>
      </p:pic>
      <p:pic>
        <p:nvPicPr>
          <p:cNvPr id="179" name="images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3960720" cy="3692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79280" y="4437000"/>
            <a:ext cx="42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альцы соединены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лавательными перепонк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08360" y="566100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995280" y="1125360"/>
            <a:ext cx="1800360" cy="935280"/>
          </a:xfrm>
          <a:prstGeom prst="line">
            <a:avLst/>
          </a:prstGeom>
          <a:ln w="9360">
            <a:solidFill>
              <a:srgbClr val="001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13378" t="0" r="13378" b="0"/>
          <a:stretch/>
        </p:blipFill>
        <p:spPr>
          <a:xfrm>
            <a:off x="5292720" y="1628640"/>
            <a:ext cx="3292560" cy="4537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rcRect l="0" t="14880" r="0" b="8928"/>
          <a:stretch/>
        </p:blipFill>
        <p:spPr>
          <a:xfrm>
            <a:off x="5292720" y="5445000"/>
            <a:ext cx="639720" cy="735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292720" y="1197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м 20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4941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427640" y="5516640"/>
            <a:ext cx="792000" cy="711000"/>
          </a:xfrm>
          <a:prstGeom prst="rect">
            <a:avLst/>
          </a:prstGeom>
          <a:ln w="0">
            <a:noFill/>
          </a:ln>
        </p:spPr>
      </p:pic>
      <p:pic>
        <p:nvPicPr>
          <p:cNvPr id="188" name="wyhuhol-plakat" descr=""/>
          <p:cNvPicPr/>
          <p:nvPr/>
        </p:nvPicPr>
        <p:blipFill>
          <a:blip r:embed="rId4"/>
          <a:srcRect l="78220" t="70596" r="3675" b="8088"/>
          <a:stretch/>
        </p:blipFill>
        <p:spPr>
          <a:xfrm>
            <a:off x="755640" y="2349360"/>
            <a:ext cx="2521080" cy="2117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39640" y="1628640"/>
            <a:ext cx="30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ыхухо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плече у мужч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5640" y="404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b76"/>
                </a:solidFill>
                <a:uFillTx/>
                <a:latin typeface="Verdana"/>
              </a:rPr>
              <a:t>Длина тела  выхух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000"/>
                            </p:stCondLst>
                            <p:childTnLst>
                              <p:par>
                                <p:cTn id="24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Распространение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315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прошлом выхухоль была широко распространена в бассейнах рек Днепр, Волга, Урал, её ареал был сплошным и более широким, чем современный. В наши дни основная часть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опуляции выхухол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обитает в России — в основном в бассейнах рек Волги и Дона, в меньшей степени — в бассейнах рек Днепр, Урал, Уй и Тобол. Кроме России выхухоль обитает ещё в Казахстане, Украине и Белоруссии, но там её совсем немног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___________________________________________________________________________________________________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ОПУЛЯЦ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— совокупность особей одного вида, длительно занимающая определенное пространство и воспроизводящая себя в течение большого числа поколен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36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9360"/>
                            </p:stCondLst>
                            <p:childTnLst>
                              <p:par>
                                <p:cTn id="2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8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map_hahin" descr=""/>
          <p:cNvPicPr/>
          <p:nvPr/>
        </p:nvPicPr>
        <p:blipFill>
          <a:blip r:embed="rId1"/>
          <a:stretch/>
        </p:blipFill>
        <p:spPr>
          <a:xfrm>
            <a:off x="1042920" y="-22320"/>
            <a:ext cx="7561440" cy="688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Образ жизн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хухоль ведёт полуводный образ жизни в поймах рек и по берегам озёр. Она может жить только в очень чистой воде, поэтому присутствие в водоёме этих зверьков служит индикатором его экологического благополучия. Выхухоль прекрасно плавает, при нырянии может задерживать дыхание на 5 минут. Убежищем зверьку служат норы, представляющие собой сложный лабиринт подземных туннелей диаметром 15-17 см, вход в который скрыт под водо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158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ris2-4" descr=""/>
          <p:cNvPicPr/>
          <p:nvPr/>
        </p:nvPicPr>
        <p:blipFill>
          <a:blip r:embed="rId1"/>
          <a:stretch/>
        </p:blipFill>
        <p:spPr>
          <a:xfrm>
            <a:off x="-2989440" y="0"/>
            <a:ext cx="12709800" cy="6851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-306360" y="-107280"/>
            <a:ext cx="58424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Типичные местообитания выхух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80000" y="2924280"/>
            <a:ext cx="37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i-main-pic" descr="Картинка 18 из 365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202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4005360"/>
            <a:ext cx="431640" cy="24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182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ris2-3" descr=""/>
          <p:cNvPicPr/>
          <p:nvPr/>
        </p:nvPicPr>
        <p:blipFill>
          <a:blip r:embed="rId1"/>
          <a:stretch/>
        </p:blipFill>
        <p:spPr>
          <a:xfrm>
            <a:off x="-252360" y="0"/>
            <a:ext cx="979308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65920" y="6247440"/>
            <a:ext cx="5785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en-US" sz="2400" spc="-1" strike="noStrike">
                <a:solidFill>
                  <a:srgbClr val="000810"/>
                </a:solidFill>
                <a:latin typeface="Tahoma"/>
                <a:ea typeface="Times New Roman"/>
              </a:rPr>
              <a:t>Дорожки выхухоли по чистому ль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Цель: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знакомлен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с внешним видом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распространением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образом жизни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питанием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размножением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численностью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охран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ff99"/>
                </a:solidFill>
                <a:uFillTx/>
                <a:latin typeface="Verdana"/>
              </a:rPr>
              <a:t>Русской выхухо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Питание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Выхухоль практически всеядн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688360" cy="3241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68360" y="566100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Она охотно поеда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12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160"/>
                            </p:stCondLst>
                            <p:childTnLst>
                              <p:par>
                                <p:cTn id="3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660"/>
                            </p:stCondLst>
                            <p:childTnLst>
                              <p:par>
                                <p:cTn id="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пиявок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i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289320" cy="4365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 rot="770400">
            <a:off x="3995640" y="1628280"/>
            <a:ext cx="2808360" cy="2097360"/>
          </a:xfrm>
          <a:prstGeom prst="rect">
            <a:avLst/>
          </a:prstGeom>
          <a:ln w="0">
            <a:noFill/>
          </a:ln>
        </p:spPr>
      </p:pic>
      <p:pic>
        <p:nvPicPr>
          <p:cNvPr id="213" name="82" descr="Картинка 5 из 230"/>
          <p:cNvPicPr/>
          <p:nvPr/>
        </p:nvPicPr>
        <p:blipFill>
          <a:blip r:embed="rId3"/>
          <a:stretch/>
        </p:blipFill>
        <p:spPr>
          <a:xfrm rot="20307600">
            <a:off x="4643280" y="3644640"/>
            <a:ext cx="3905280" cy="278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20"/>
                            </p:stCondLst>
                            <p:childTnLst>
                              <p:par>
                                <p:cTn id="3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320"/>
                            </p:stCondLst>
                            <p:childTnLst>
                              <p:par>
                                <p:cTn id="3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320"/>
                            </p:stCondLst>
                            <p:childTnLst>
                              <p:par>
                                <p:cTn id="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моллюсков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101" descr="Картинка 6 из 365"/>
          <p:cNvPicPr/>
          <p:nvPr/>
        </p:nvPicPr>
        <p:blipFill>
          <a:blip r:embed="rId1"/>
          <a:stretch/>
        </p:blipFill>
        <p:spPr>
          <a:xfrm rot="20830800">
            <a:off x="250920" y="1699920"/>
            <a:ext cx="4714920" cy="2990880"/>
          </a:xfrm>
          <a:prstGeom prst="rect">
            <a:avLst/>
          </a:prstGeom>
          <a:ln w="0">
            <a:noFill/>
          </a:ln>
        </p:spPr>
      </p:pic>
      <p:pic>
        <p:nvPicPr>
          <p:cNvPr id="216" name="i" descr=""/>
          <p:cNvPicPr/>
          <p:nvPr/>
        </p:nvPicPr>
        <p:blipFill>
          <a:blip r:embed="rId2"/>
          <a:stretch/>
        </p:blipFill>
        <p:spPr>
          <a:xfrm flipH="1" rot="1039800">
            <a:off x="4680000" y="2852280"/>
            <a:ext cx="4464000" cy="3338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 rot="303000">
            <a:off x="4858920" y="1341360"/>
            <a:ext cx="2879640" cy="2149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 flipH="1" rot="20983800">
            <a:off x="2123640" y="4220640"/>
            <a:ext cx="2952720" cy="220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40"/>
                            </p:stCondLst>
                            <p:childTnLst>
                              <p:par>
                                <p:cTn id="3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440"/>
                            </p:stCondLst>
                            <p:childTnLst>
                              <p:par>
                                <p:cTn id="3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440"/>
                            </p:stCondLst>
                            <p:childTnLst>
                              <p:par>
                                <p:cTn id="3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440"/>
                            </p:stCondLst>
                            <p:childTnLst>
                              <p:par>
                                <p:cTn id="3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насекомых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 rot="1933200">
            <a:off x="4716360" y="259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596360" y="5734080"/>
            <a:ext cx="688680" cy="689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3024000" cy="2579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 rot="4563000">
            <a:off x="178560" y="98064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 flipH="1" rot="20599800">
            <a:off x="6948000" y="580500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 rot="4563000">
            <a:off x="639360" y="5972040"/>
            <a:ext cx="692280" cy="692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 rot="829200">
            <a:off x="1402920" y="1412640"/>
            <a:ext cx="2005200" cy="223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 rot="20291400">
            <a:off x="6372000" y="1915920"/>
            <a:ext cx="2070000" cy="2303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3132000" y="4465800"/>
            <a:ext cx="3205440" cy="23922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 rot="1293600">
            <a:off x="539280" y="3499920"/>
            <a:ext cx="2232000" cy="21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440"/>
                            </p:stCondLst>
                            <p:childTnLst>
                              <p:par>
                                <p:cTn id="4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44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12 0.00416 C 0.09688 -0.03516 0.20087 -0.07449 0.17118 -0.12746 C 0.1415 -0.18043 -0.18698 -0.24335 -0.18541 -0.31367 C -0.18385 -0.38399 0.16615 -0.49156 0.1809 -0.54962 C 0.19566 -0.60768 -0.04861 -0.64215 -0.09635 -0.66204 C -0.1441 -0.68194 -0.125 -0.67523 -0.1059 -0.66852 E">
                                      <p:cBhvr>
                                        <p:cTn id="435" dur="5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844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440"/>
                            </p:stCondLst>
                            <p:childTnLst>
                              <p:par>
                                <p:cTn id="4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 -0.02532 0.007 -0.0493 0.015 -0.0493 C 0.024 -0.0493 0.027 -0.02532 0.03 0 C 0.034 0.02798 0.037 0.05596 0.047 0.05596 C 0.056 0.05596 0.059 0.02798 0.063 0 C 0.065 -0.02532 0.069 -0.0493 0.078 -0.0493 C 0.086 -0.0493 0.09 -0.02532 0.093 0 C 0.096 0.02798 0.1 0.05596 0.109 0.05596 C 0.118 0.05596 0.125 0 0.125 0 C 0.128 -0.02532 0.131 -0.0493 0.14 -0.0493 C 0.149 -0.0493 0.152 -0.02532 0.155 0 C 0.159 0.02798 0.162 0.05596 0.172 0.05596 C 0.181 0.05596 0.184 0.02798 0.187 0 C 0.191 -0.02532 0.194 -0.0493 0.203 -0.0493 C 0.211 -0.0493 0.215 -0.02532 0.218 0 C 0.221 0.02798 0.225 0.05596 0.234 0.05596 C 0.243 0.05596 0.246 0.02798 0.25 0 E">
                                      <p:cBhvr>
                                        <p:cTn id="448" dur="5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440"/>
                            </p:stCondLst>
                            <p:childTnLst>
                              <p:par>
                                <p:cTn id="4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дождевых червей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 rot="798000">
            <a:off x="6227280" y="2349360"/>
            <a:ext cx="2376720" cy="1860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211640" y="15573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елких рыбёшек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4221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 также различные растительные кор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295200" cy="495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8317080" y="6453360"/>
            <a:ext cx="495000" cy="2952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 rot="17112000">
            <a:off x="7985160" y="6281280"/>
            <a:ext cx="295200" cy="495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 rot="2088600">
            <a:off x="8459640" y="6093000"/>
            <a:ext cx="295560" cy="495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 rot="19907400">
            <a:off x="8027640" y="6021360"/>
            <a:ext cx="295200" cy="495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7"/>
          <a:stretch/>
        </p:blipFill>
        <p:spPr>
          <a:xfrm>
            <a:off x="468360" y="5229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8"/>
          <a:stretch/>
        </p:blipFill>
        <p:spPr>
          <a:xfrm>
            <a:off x="3492360" y="4940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9"/>
          <a:stretch/>
        </p:blipFill>
        <p:spPr>
          <a:xfrm rot="20567400">
            <a:off x="3924360" y="2492280"/>
            <a:ext cx="1944720" cy="1406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valisn_gigant" descr=""/>
          <p:cNvPicPr/>
          <p:nvPr/>
        </p:nvPicPr>
        <p:blipFill>
          <a:blip r:embed="rId10"/>
          <a:stretch/>
        </p:blipFill>
        <p:spPr>
          <a:xfrm rot="20441400">
            <a:off x="2268000" y="5084280"/>
            <a:ext cx="1179720" cy="15717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bakopa_karol" descr=""/>
          <p:cNvPicPr/>
          <p:nvPr/>
        </p:nvPicPr>
        <p:blipFill>
          <a:blip r:embed="rId11"/>
          <a:stretch/>
        </p:blipFill>
        <p:spPr>
          <a:xfrm rot="728400">
            <a:off x="5148360" y="5084640"/>
            <a:ext cx="1189080" cy="1584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800" y="4151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20960" y="1989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2"/>
          <a:stretch/>
        </p:blipFill>
        <p:spPr>
          <a:xfrm>
            <a:off x="1476360" y="1341360"/>
            <a:ext cx="2376360" cy="17748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3"/>
          <a:stretch/>
        </p:blipFill>
        <p:spPr>
          <a:xfrm>
            <a:off x="-396720" y="1341360"/>
            <a:ext cx="2376360" cy="177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64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14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740"/>
                            </p:stCondLst>
                            <p:childTnLst>
                              <p:par>
                                <p:cTn id="4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740"/>
                            </p:stCondLst>
                            <p:childTnLst>
                              <p:par>
                                <p:cTn id="4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74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71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76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ff"/>
                </a:solidFill>
                <a:latin typeface="Arial"/>
              </a:rPr>
              <a:t>Размноже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 взрослой части популяции самцы и самки представлены примерно поровну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852640"/>
            <a:ext cx="5256360" cy="347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560"/>
                            </p:stCondLst>
                            <p:childTnLst>
                              <p:par>
                                <p:cTn id="5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емейная группировка русской выхухоли состоит из взрослых самца и самки и молодых, число которых может быть от одного до пят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азмножается русская выхухоль, как правило, один раз в год. Чётких сроков размножения нет (беременных самок можно обнаружить в течение всего года). Естественная продолжительность жизни выхухоли - около 5 л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32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99ff66"/>
                </a:solidFill>
                <a:latin typeface="Arial"/>
              </a:rPr>
              <a:t>Численность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91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прет на добычу привёл к росту численности выхухоли, достигшей на территории России 69 тыс. особей в начале </a:t>
            </a:r>
            <a:r>
              <a:rPr b="0" lang="ru-RU" sz="2800" spc="-1" strike="noStrike">
                <a:solidFill>
                  <a:srgbClr val="000810"/>
                </a:solidFill>
                <a:latin typeface="Verdana"/>
              </a:rPr>
              <a:t>1970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д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днако затем численность зверьков снова стала неуклонно снижатьс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0" lang="ru-RU" sz="2800" spc="-1" strike="noStrike">
                <a:solidFill>
                  <a:srgbClr val="000810"/>
                </a:solidFill>
                <a:latin typeface="Verdana"/>
              </a:rPr>
              <a:t>1985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году их было 39 тысяч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0" lang="ru-RU" sz="2800" spc="-1" strike="noStrike">
                <a:solidFill>
                  <a:srgbClr val="000810"/>
                </a:solidFill>
                <a:latin typeface="Verdana"/>
              </a:rPr>
              <a:t>2001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году — 28 тысяч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 в </a:t>
            </a:r>
            <a:r>
              <a:rPr b="0" lang="ru-RU" sz="2800" spc="-1" strike="noStrike">
                <a:solidFill>
                  <a:srgbClr val="000810"/>
                </a:solidFill>
                <a:latin typeface="Verdana"/>
              </a:rPr>
              <a:t>2005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году — только 25 тысяч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месте с численностью сокращалась и область распространения вида. Многие водоёмы, ранее заселённы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хухолями, опустел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300"/>
                            </p:stCondLst>
                            <p:childTnLst>
                              <p:par>
                                <p:cTn id="5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6380"/>
                            </p:stCondLst>
                            <p:childTnLst>
                              <p:par>
                                <p:cTn id="5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8780"/>
                            </p:stCondLst>
                            <p:childTnLst>
                              <p:par>
                                <p:cTn id="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9740"/>
                            </p:stCondLst>
                            <p:childTnLst>
                              <p:par>
                                <p:cTn id="5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1540"/>
                            </p:stCondLst>
                            <p:childTnLst>
                              <p:par>
                                <p:cTn id="5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виду резкого сокращения численности этот вид занесён в </a:t>
            </a: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Красную книгу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Российской Федерации,</a:t>
            </a:r>
            <a:r>
              <a:rPr b="0" lang="ru-RU" sz="32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кже в</a:t>
            </a:r>
            <a:r>
              <a:rPr b="0" lang="ru-RU" sz="32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Красный список МСОП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___________________________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МСОП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– международный союз охраны природ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843588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ащение численности выхухоли связано с воздействием разнообразных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антропогенны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факторов. Если в 1970-1980-е годы главными из них были загрязнение и хозяйственное освоение речных пойм и водоёмов, то сегодня едва ли не наиболее значимая причина — массовое незаконное использование ставных лесочных сетей и электроудоче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_____________________________________________________________________________________________________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АНТРОПОГЕННОЕ ВОЗДЕЙСТВИЕ на природу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различные формы влияния деятельности человека на природу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1280"/>
                            </p:stCondLst>
                            <p:childTnLst>
                              <p:par>
                                <p:cTn id="6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5360"/>
                            </p:stCondLst>
                            <p:childTnLst>
                              <p:par>
                                <p:cTn id="6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мы сообще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стематика и внешний вид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пространени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раз жизн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итани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змножени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блема резкого снижения числен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нужно сделать и что уже делается для того, чтобы сохранить выхухоль в природе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arial-of-desmana_map" descr=""/>
          <p:cNvPicPr/>
          <p:nvPr/>
        </p:nvPicPr>
        <p:blipFill>
          <a:blip r:embed="rId1"/>
          <a:stretch/>
        </p:blipFill>
        <p:spPr>
          <a:xfrm>
            <a:off x="-108000" y="372960"/>
            <a:ext cx="9433080" cy="582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Охра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1957 году в России на добычу выхухоли ввели полный запрет, действующий до сих пор. Русская выхухоль охраняется в Воронежском, Воронинском, Керженском, Мордовском, Окском, Хопёрском заповедниках и примерно в 80 заказниках в России, а также в Луганском заповеднике Украи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Verdana"/>
              </a:rPr>
              <a:t>Всероссийская конференция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Verdana"/>
              </a:rPr>
              <a:t>"Хищническая эксплуат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66ccff"/>
                </a:solidFill>
                <a:latin typeface="Verdana"/>
              </a:rPr>
              <a:t>диких животных Росси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66ccff"/>
                </a:solidFill>
                <a:latin typeface="Verdana"/>
              </a:rPr>
              <a:t>проблемы и решения"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 сохранении русской выхухол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г. Королев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осковская область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3-4 июня 2005 г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4" name="i" descr="">
            <a:hlinkClick r:id="rId1"/>
          </p:cNvPr>
          <p:cNvPicPr/>
          <p:nvPr/>
        </p:nvPicPr>
        <p:blipFill>
          <a:blip r:embed="rId2"/>
          <a:srcRect l="42399" t="0" r="0" b="0"/>
          <a:stretch/>
        </p:blipFill>
        <p:spPr>
          <a:xfrm>
            <a:off x="6372360" y="4437000"/>
            <a:ext cx="1743120" cy="1654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000"/>
                            </p:stCondLst>
                            <p:childTnLst>
                              <p:par>
                                <p:cTn id="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6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800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2" dur="2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Для сохранения русской выхухоли необходимо участие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инистерства природных ресурсов РФ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инистерства  сельского хозяйства РФ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инистерства внутренних дел РФ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енеральной прокуратура РФ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95280" y="476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убъектов Российской Федерации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еделах  ареала   выхухо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рганы местного самоуправления 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бщественные  организации в пределах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ареала выхухо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Министерства экономического разви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  торговли Р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Министерства культуры и массов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ммуникаций Р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98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wyhuhol-plakat" descr=""/>
          <p:cNvPicPr/>
          <p:nvPr/>
        </p:nvPicPr>
        <p:blipFill>
          <a:blip r:embed="rId1"/>
          <a:srcRect l="0" t="0" r="0" b="7353"/>
          <a:stretch/>
        </p:blipFill>
        <p:spPr>
          <a:xfrm>
            <a:off x="-108000" y="981000"/>
            <a:ext cx="9252000" cy="68407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0"/>
            <a:ext cx="92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ЦЕНТР  ОХРАНЫ ДИКОЙ ПРИРОДЫ – природоохранная организация, реализующая программу по сохранению русской выхухоли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Можем ли мы помочь в решении этой проблем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2076480" cy="25495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 rot="20560800">
            <a:off x="990720" y="213372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687800">
            <a:off x="6476400" y="1980720"/>
            <a:ext cx="190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736800">
            <a:off x="3733560" y="554652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9461000">
            <a:off x="7010640" y="4266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2239800">
            <a:off x="1142280" y="441936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60093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9000"/>
                            </p:stCondLst>
                            <p:childTnLst>
                              <p:par>
                                <p:cTn id="7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8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8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7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77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0" dur="77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2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4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рузья!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тр охраны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кой природы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т вас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ключиться к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ию этого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икального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еря. Помощь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ого из вас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обходим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4752720" cy="430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480"/>
                            </p:stCondLst>
                            <p:childTnLst>
                              <p:par>
                                <p:cTn id="7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7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400"/>
                            </p:stCondLst>
                            <p:childTnLst>
                              <p:par>
                                <p:cTn id="7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3960"/>
                            </p:stCondLst>
                            <p:childTnLst>
                              <p:par>
                                <p:cTn id="7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8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4520"/>
                            </p:stCondLst>
                            <p:childTnLst>
                              <p:par>
                                <p:cTn id="7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0"/>
                            </p:stCondLst>
                            <p:childTnLst>
                              <p:par>
                                <p:cTn id="7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8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520"/>
                            </p:stCondLst>
                            <p:childTnLst>
                              <p:par>
                                <p:cTn id="7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6040"/>
                            </p:stCondLst>
                            <p:childTnLst>
                              <p:par>
                                <p:cTn id="7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80"/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что 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8000" spc="-1" strike="noStrike">
                <a:solidFill>
                  <a:srgbClr val="cc3300"/>
                </a:solidFill>
                <a:latin typeface="Verdana"/>
              </a:rPr>
              <a:t>вы</a:t>
            </a: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можете    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сделать: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0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30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 Распечатайте эти листовки и разместите их на досках объявлений в местах, активно посещаемых людьми. Листовку можно распечатать с сайта ЦОДП: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biodiversity.ru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programs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/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vyhuh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vyhuh-leaflet.doc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 Убеждайте своих друзей и знакомых не использовать и не продавать лесочные сети и электролов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 Рассказывайте детям о выхухоли и проблеме ее исчезновени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6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7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7320"/>
                            </p:stCondLst>
                            <p:childTnLst>
                              <p:par>
                                <p:cTn id="8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640"/>
                            </p:stCondLst>
                            <p:childTnLst>
                              <p:par>
                                <p:cTn id="8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7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4360" y="692280"/>
            <a:ext cx="777528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ного есть зверей на свет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сех их очень любят де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о проблема есть одна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счезают иногда звери э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НАВСЕГДА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-27000" y="-1251000"/>
            <a:ext cx="9193320" cy="943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wyhuhol-plakat" descr=""/>
          <p:cNvPicPr/>
          <p:nvPr/>
        </p:nvPicPr>
        <p:blipFill>
          <a:blip r:embed="rId1"/>
          <a:srcRect l="78220" t="18382" r="2625" b="63243"/>
          <a:stretch/>
        </p:blipFill>
        <p:spPr>
          <a:xfrm>
            <a:off x="250920" y="3213000"/>
            <a:ext cx="3816360" cy="26164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11640" cy="3274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3987720" y="2144880"/>
            <a:ext cx="5156280" cy="4713120"/>
          </a:xfrm>
          <a:prstGeom prst="rect">
            <a:avLst/>
          </a:prstGeom>
          <a:ln w="0">
            <a:noFill/>
          </a:ln>
        </p:spPr>
      </p:pic>
      <p:pic>
        <p:nvPicPr>
          <p:cNvPr id="285" name="ris2-2" descr="Русская выхухоль"/>
          <p:cNvPicPr/>
          <p:nvPr/>
        </p:nvPicPr>
        <p:blipFill>
          <a:blip r:embed="rId4"/>
          <a:stretch/>
        </p:blipFill>
        <p:spPr>
          <a:xfrm>
            <a:off x="5292720" y="0"/>
            <a:ext cx="2610000" cy="302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4000"/>
                            </p:stCondLst>
                            <p:childTnLst>
                              <p:par>
                                <p:cTn id="8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6000"/>
                            </p:stCondLst>
                            <p:childTnLst>
                              <p:par>
                                <p:cTn id="8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6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914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каком заповеднике охраняют выхухолей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раг выхухол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з-за чего истребляют выхухолей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Чем служит нора для выхухолей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м заканчивается морда выхухол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емейство, к которому относится выхухол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браз жизн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0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749600"/>
          </a:xfrm>
          <a:prstGeom prst="rect">
            <a:avLst/>
          </a:prstGeom>
          <a:ln w="0">
            <a:noFill/>
          </a:ln>
        </p:spPr>
      </p:pic>
      <p:pic>
        <p:nvPicPr>
          <p:cNvPr id="291" name="11_m" descr="">
            <a:hlinkClick r:id="rId3"/>
          </p:cNvPr>
          <p:cNvPicPr/>
          <p:nvPr/>
        </p:nvPicPr>
        <p:blipFill>
          <a:blip r:embed="rId4"/>
          <a:srcRect l="0" t="0" r="48200" b="0"/>
          <a:stretch/>
        </p:blipFill>
        <p:spPr>
          <a:xfrm>
            <a:off x="7581960" y="4869000"/>
            <a:ext cx="1562040" cy="198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8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971640" y="1484280"/>
          <a:ext cx="7772400" cy="453060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3960"/>
                <a:gridCol w="46044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5e"/>
                        </a:gs>
                        <a:gs pos="50000">
                          <a:srgbClr val="0000cc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5e"/>
                        </a:gs>
                        <a:gs pos="50000">
                          <a:srgbClr val="0000cc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5e"/>
                        </a:gs>
                        <a:gs pos="50000">
                          <a:srgbClr val="0000cc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5e"/>
                        </a:gs>
                        <a:gs pos="50000">
                          <a:srgbClr val="0000cc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5e"/>
                        </a:gs>
                        <a:gs pos="50000">
                          <a:srgbClr val="0000cc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5e"/>
                        </a:gs>
                        <a:gs pos="50000">
                          <a:srgbClr val="0000cc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5e"/>
                        </a:gs>
                        <a:gs pos="50000">
                          <a:srgbClr val="0000cc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5e"/>
                        </a:gs>
                        <a:gs pos="50000">
                          <a:srgbClr val="0000cc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294" name="images" descr="Просмотреть картинку полностью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3357720"/>
            <a:ext cx="1729080" cy="1520640"/>
          </a:xfrm>
          <a:prstGeom prst="rect">
            <a:avLst/>
          </a:prstGeom>
          <a:ln w="0">
            <a:noFill/>
          </a:ln>
        </p:spPr>
      </p:pic>
      <p:pic>
        <p:nvPicPr>
          <p:cNvPr id="295" name="11_m" descr="">
            <a:hlinkClick r:id="rId3"/>
          </p:cNvPr>
          <p:cNvPicPr/>
          <p:nvPr/>
        </p:nvPicPr>
        <p:blipFill>
          <a:blip r:embed="rId4"/>
          <a:srcRect l="0" t="0" r="36862" b="0"/>
          <a:stretch/>
        </p:blipFill>
        <p:spPr>
          <a:xfrm>
            <a:off x="971640" y="2924280"/>
            <a:ext cx="1447560" cy="1512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839736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пользуемые источник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http://www.biodiversity.ru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/ programs/ vyhuh/proj05-06/action.html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ахин Г.В. Русская выхухоль // Красная книга Российской Федерации (животные). М., 2001. С. 603-605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сновский И.П. редкие и исчезающие животные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//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По страницам Красной книги. М., «Металлургия»,1987.С.27-31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родно-Заповедный фонд - бесценное наследие Рязанщины: Материалы международной конференции. Рязань: Изд-во Рязанского гос. Университета им. С. А. Есенина, 2007г. С. 103-107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704000" cy="698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Одним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из исчезающих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видов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животных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95280" y="620640"/>
            <a:ext cx="84978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Impact"/>
              </a:rPr>
              <a:t>ВЫХУХОЛЬ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Impact"/>
              <a:ea typeface="Impact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987640" y="3068640"/>
            <a:ext cx="3333960" cy="31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хухоль. Хохуля! Слово-то какое ласковое, услышишь его и невольно улыбнешься по-доброму, по-хорошему. Хохулей называют в народе русскую выхухоль, удивительного зверька, который появился на свете ни много ни мало – около 5 миллионов лет назад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images" descr="">
            <a:hlinkClick r:id="rId1"/>
          </p:cNvPr>
          <p:cNvPicPr/>
          <p:nvPr/>
        </p:nvPicPr>
        <p:blipFill>
          <a:blip r:embed="rId2"/>
          <a:srcRect l="9609" t="19218" r="19218" b="19218"/>
          <a:stretch/>
        </p:blipFill>
        <p:spPr>
          <a:xfrm>
            <a:off x="5724360" y="4581360"/>
            <a:ext cx="2400480" cy="207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440"/>
                            </p:stCondLst>
                            <p:childTnLst>
                              <p:par>
                                <p:cTn id="1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стародавние времена, когда по Земле ходили мохнатые мамонты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6098" t="18258" r="6098" b="23736"/>
          <a:stretch/>
        </p:blipFill>
        <p:spPr>
          <a:xfrm>
            <a:off x="1547640" y="1557360"/>
            <a:ext cx="5608800" cy="4127400"/>
          </a:xfrm>
          <a:prstGeom prst="rect">
            <a:avLst/>
          </a:prstGeom>
          <a:ln w="0">
            <a:noFill/>
          </a:ln>
        </p:spPr>
      </p:pic>
      <p:pic>
        <p:nvPicPr>
          <p:cNvPr id="167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5516640"/>
            <a:ext cx="142920" cy="11412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468360" y="5661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водоёмах почти по всей территории нынешней Европы жила выхухо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0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2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520"/>
                            </p:stCondLst>
                            <p:childTnLst>
                              <p:par>
                                <p:cTn id="1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8000" y="259920"/>
            <a:ext cx="8569440" cy="54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ремя шло, мамонты исчезли с лица Земли… А вот выхухоль осталась до наших дней. И мало того, благодаря стабильности условий ее обитания, с тех пор она практически не изменилась. Консервативный реликт,  или проще: живое ископаемо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т только  распространение её с тех давних времён резко уменьшилос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images" descr=""/>
          <p:cNvPicPr/>
          <p:nvPr/>
        </p:nvPicPr>
        <p:blipFill>
          <a:blip r:embed="rId1"/>
          <a:stretch/>
        </p:blipFill>
        <p:spPr>
          <a:xfrm>
            <a:off x="7502400" y="4492800"/>
            <a:ext cx="1641600" cy="2365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84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240"/>
                            </p:stCondLst>
                            <p:childTnLst>
                              <p:par>
                                <p:cTn id="1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1:08:05Z</dcterms:created>
  <dc:creator>User</dc:creator>
  <dc:description/>
  <dc:language>en-US</dc:language>
  <cp:lastModifiedBy>Алексей Новоселов</cp:lastModifiedBy>
  <dcterms:modified xsi:type="dcterms:W3CDTF">2009-07-09T17:02:32Z</dcterms:modified>
  <cp:revision>27</cp:revision>
  <dc:subject/>
  <dc:title>Слайд 1</dc:title>
</cp:coreProperties>
</file>