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44D-D660-41E8-AB99-A280A4CB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1D2-9000-4914-87AB-4776DF18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37B-F4E2-4ACD-9254-6AFCEEE1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A6B-249B-4444-8C11-57F31076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76EB7-9EC0-4B91-A99D-46D45224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C5772-7A77-479C-AD8B-9C16B9CF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2A43-4178-4DC0-9EF0-45E8C8F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2C08E-DAE9-4B9B-8B21-3D9F66B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0B9A4-825B-48DA-83DD-B77916A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2D00B-4232-4B85-963A-69EA5821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499F-D1A0-4971-81C9-17AE99A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C0E-8A84-4ACB-80F2-6642DAF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2A107-4921-4314-A45A-D427E878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9F87-E8C0-4497-A4E8-5DB65872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71116-5C66-401F-B758-2C8BABBB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5C281-AFCB-485B-BCFD-EBE066C5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3444E-B552-4894-866A-1C91488D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306-3E5B-42AB-B587-A834EE6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D7E-3BC5-4608-8E1D-EE66A280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3E4-02E3-4D1B-982A-346C7B36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573-2A3A-4BAA-8435-5C6812F7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536-CECB-4D40-8312-1F09049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B93-80A9-45D1-83E3-C75EB4D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DA5-D005-4999-BC36-17AFEEE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7CAC-71B4-4FDB-A809-B468AF5E3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C7B-F23D-40AC-A34F-93A0D9EDA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187488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2581560" cy="1838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12000" y="765000"/>
            <a:ext cx="24746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067280" y="620280"/>
            <a:ext cx="4619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истематическое положение 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:    Хордовые 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rdat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:                    Млекопитающие  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mali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яд:   Насекомоядные 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ivor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мейство:             Выхухолевые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manida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:   Выхухоль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man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:     Русская выхухоль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mana moschat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Крупнее"/>
          <p:cNvPicPr/>
          <p:nvPr/>
        </p:nvPicPr>
        <p:blipFill>
          <a:blip r:embed="rId2"/>
          <a:stretch/>
        </p:blipFill>
        <p:spPr>
          <a:xfrm>
            <a:off x="324000" y="620640"/>
            <a:ext cx="3168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6920" y="3546360"/>
            <a:ext cx="3240360" cy="2540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340000" y="692280"/>
            <a:ext cx="3240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171960" cy="223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2663640" cy="2006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2737080" cy="209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219640" y="3903840"/>
            <a:ext cx="2786040" cy="194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360" y="2781360"/>
            <a:ext cx="3019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 Мичкарь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51640" y="2637000"/>
            <a:ext cx="23619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 Виш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6093000"/>
            <a:ext cx="3276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 Карашево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219640" y="5950080"/>
            <a:ext cx="2943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 Беловощь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7:01:44Z</dcterms:created>
  <dc:creator>Татьяна</dc:creator>
  <dc:description/>
  <dc:language>en-US</dc:language>
  <cp:lastModifiedBy>Татьяна</cp:lastModifiedBy>
  <dcterms:modified xsi:type="dcterms:W3CDTF">2009-01-12T17:14:43Z</dcterms:modified>
  <cp:revision>23</cp:revision>
  <dc:subject/>
  <dc:title>Слайд 1</dc:title>
</cp:coreProperties>
</file>