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7B9-FA2D-403F-82DC-9CE96AE3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E44-4A3A-40BD-ADB8-FACC541B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B7B-1E51-4517-92DC-A27090DA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188-14F5-4F7C-A821-B713230F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17A-4AC2-44D6-8733-C06F21EA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E55-38DA-4B69-B60A-7CAE868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D3F0-C4C2-4099-98E1-9B61418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7D4-10D5-470D-807F-B5CECAE3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BB41-6880-4FE6-954F-1043F02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AC86-F07C-4A5F-AC48-801552AD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6708-D515-474A-A816-8BBCDE80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99E-C408-4C2B-B5D8-03FB5638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F086-51EF-4EEE-9A96-29CF8D2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168-3630-4664-A375-2C9AD26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471F-1138-400B-ADD3-F15B60D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76C-F1C9-42CA-B31B-3E2FC928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C496-6D9E-4269-9BFA-AD777D17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5D0-E335-44AA-BDBE-2C491DE1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014-BB8B-4B64-82EB-865090D8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286-2699-465C-A154-B798DB8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D6D-1F1C-46C0-B826-7E59A3F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C7F-E833-4053-A80E-EA3B2F2D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66D-D706-4245-B1EC-34AA7D1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BC6-61A0-40AE-9CC3-AA4949E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e5a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6168-09A1-477B-8A39-5C0072139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ce96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A968-55BE-42D0-B710-44042D229E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4360" y="333360"/>
            <a:ext cx="8208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русская 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выхухоль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8" name="vixuxol" descr="Desmana moschata"/>
          <p:cNvPicPr/>
          <p:nvPr/>
        </p:nvPicPr>
        <p:blipFill>
          <a:blip r:embed="rId1"/>
          <a:stretch/>
        </p:blipFill>
        <p:spPr>
          <a:xfrm>
            <a:off x="6227640" y="4076640"/>
            <a:ext cx="2530440" cy="20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005360"/>
            <a:ext cx="5113080" cy="23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цова Ольга Ива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У Кашарской СО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Факторы, негативно влияющие на численность русской выхухоли:</a:t>
            </a: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54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грязнение водоём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убка пойменных лес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ушение пойменных угод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регулирование стока р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стройка берегов водоём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здание водохранили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пас скота вблизи водоёмов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63376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9090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6880" y="620640"/>
            <a:ext cx="556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Берегит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природу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ahoma"/>
              </a:rPr>
              <a:t>Выхухоль.</a:t>
            </a: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лкое  животное с длинным хвостом и короткими конечност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ина тела 180— 215 м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ина хвоста 170—205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ова крупная, оканчивается уплощенным хобот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ду пальцами имеются плавательные перепо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осяной покров мягкий, бархатистый с жесткими остевыми волос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раска спины интенсивно-бурая с сильным блес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выхухоль"/>
          <p:cNvPicPr/>
          <p:nvPr/>
        </p:nvPicPr>
        <p:blipFill>
          <a:blip r:embed="rId1"/>
          <a:stretch/>
        </p:blipFill>
        <p:spPr>
          <a:xfrm>
            <a:off x="6443640" y="260280"/>
            <a:ext cx="2471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лится выхухоль по берегам рек со слабым течением, берегам небольших озер и стариц. Предпочитает водоемы глубиной 1-3м, с умеренным развитием водной растительности, заросшими кустарником берегами с крутыми уступами, необходимыми для устройства нор. Выход из норы располагается под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93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916280"/>
            <a:ext cx="651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ошлом выхухоль была широко распространена в бассейнах рек Днепр, Волга, Урал, её ареал был сплошным и более широким, чем современный. В наши дни основная часть популяции выхухоли обитает в России — в основном в бассейнах рек Волги и Дона, в меньшей степени — в бассейнах рек Днепр, Урал, Уй и Тоб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Распространение выхухоли в СССР. Выхухоль."/>
          <p:cNvPicPr/>
          <p:nvPr/>
        </p:nvPicPr>
        <p:blipFill>
          <a:blip r:embed="rId1"/>
          <a:stretch/>
        </p:blipFill>
        <p:spPr>
          <a:xfrm>
            <a:off x="0" y="-254160"/>
            <a:ext cx="914400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Естественные  враги выхухоли.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33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выхухоли много естественных врагов, которые уничтожают самих зверьков или разрушают их норы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лисица, енотовидная собака, выдра, горностай, хорь, бродячие собаки и кошк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 наибольшее давление на выхухоль оказывают акклиматизированные «чужаки» —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мериканская норка и ондат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69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246400" cy="2652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206064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80000" y="2565360"/>
            <a:ext cx="302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Причины резкого сокращения численности русской выхухоли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чиная с XVII века выхухоль активно добывалась человеком из-за меха и мускуса. Это привело к тому, что к 30-м годам XX века на территории России зверёк был истреблён почти повсеместно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Причины резкого сокращения численности русской выхухоли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1970-1980-е годы главными  факторами исчезновения выхухоли были загрязнение и сельскохозяйственное освоение речных пойм. Сегодня  наиболее значимая причина — массовое незаконное использова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авных лесочных сетей и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лектроудочек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7:37:59Z</dcterms:created>
  <dc:creator>Наталья</dc:creator>
  <dc:description/>
  <dc:language>en-US</dc:language>
  <cp:lastModifiedBy>KRAVTSOV</cp:lastModifiedBy>
  <dcterms:modified xsi:type="dcterms:W3CDTF">2009-01-10T16:19:34Z</dcterms:modified>
  <cp:revision>14</cp:revision>
  <dc:subject/>
  <dc:title>Слайд 1</dc:title>
</cp:coreProperties>
</file>