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384-FAF4-448C-815C-0491CDCE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5BE-F10C-438E-B90B-F970466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17A-4F17-451A-8816-8F63630C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E32-DAD3-407A-9804-F58922AC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4664-D860-4183-8127-0AF7BE32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BAE1-6803-4E9C-A946-CB69953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FF326-093C-4A21-80DD-34E9EFC8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9158B-F5BA-4BA3-A88D-914C40B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C44B2-4B4D-4FFB-A2D4-DE9A0F9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7FE9-C91F-4877-959B-939E7C8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708BF-497A-44AE-90DD-71D929C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EB0-AF5E-4B47-ADA6-9753C49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1789-13B4-44AF-94FE-C159F94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FBF57-33FA-4626-8A11-E867997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085AC-F388-4581-94CB-1B0C2748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B4026-67C1-4E5C-B662-86ED4B50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0F3A3-D2F2-4274-A28E-E65EFAD1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1BE4-D9BA-4E07-B186-87C2294A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02A1-5138-49AC-AC44-8E156D2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A2EF-7BC2-4E62-9D7A-4EE3300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51D2-F026-45ED-BC9C-A4C190B8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DF51-5392-4859-BF87-8CCFD29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F3D-3B1D-4443-9D31-BEA5F03D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EE69-80E4-421D-8795-9F88134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81BB-1FBD-4463-A778-7BF5F41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EAF5-FF00-48AE-AED3-18B07A7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3ACF-BF60-4E1D-8C2D-5B5A92B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2BB1-A628-419B-9521-86CB878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D274-7B1D-4CA6-AB9A-D9A70472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62D1-4911-47FF-93E0-7F686003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5AE3A-20B6-4107-929D-4D586CA1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4B983-25E9-48A4-8D70-09C13E7B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8BC53-A3BB-4538-8F52-57B08664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C49-1A4D-44E2-855F-1BCD268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245F4-4C71-4D1F-90DE-6623B20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46A00-2A15-4EF3-BB92-603B6469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71503-EC27-4F13-9040-3F02405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3D3A0-1031-43C0-B9DB-AB5EF43F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6F54E-0526-4540-84CE-03EA64A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5F0A9-CE36-4300-9DBA-42CB4E1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879A5-B3E4-484C-B24F-77243A47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33601-3C0C-4B75-9A77-804FD2DB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C79DA-4459-4746-B593-A8BD048F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99FB5-4364-43D9-9831-563C81AB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903-939F-43A5-A7FC-CAB2D71C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D1FB5-3903-4A25-900F-C2778C5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F7F79-D1FD-4B31-AC1E-B3045B3B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452A1-3DC3-48A8-8DB2-AC2583D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E6DFB-5EFC-41A6-8E0E-9F06AC6A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A6558-CACB-4792-B900-4AAE4800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3CB4B-F3F5-425F-BAC2-9A2B7EB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D112C-3D3D-46AD-92D8-212FE2E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28E98-B745-4D04-BF13-53BC201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35FED-6115-4298-AE6E-03717E28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66F35-C9F5-4683-911E-8DBD1083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4F2-B87E-4C17-B4F8-835C739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B280D-6A9A-4F25-8F11-125BF1BB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A9720-3B59-4979-BC79-63BB6247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15D2B-F3F4-4AB6-80A7-04068A66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CA428-DBC2-4E70-9199-9F62DAE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E4F19-E29D-4B0F-822E-450C420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68F47-F662-4D1D-B14F-763078C1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4DCC1-D5B0-43B2-AEF9-CE9F3293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3DF6D-EDD2-48EB-ADB2-497976C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A6970-F36E-4959-966F-81BC0A9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58884-3B99-4316-89B5-888C5C0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38D-8597-480A-A470-1CC86C1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3056D-DFBB-4BC1-A829-D2BABA0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D480A-13AE-4481-A6C3-04A8A63A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82676-48AB-41AF-A13F-6EE19A8B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9B2-317C-4852-83C9-FD4F94E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0BF-770F-45C6-BDC2-7EBB334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1E06-96A3-43B5-92C4-E2AB5A658197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C27-2A0B-453A-9243-C607AFC8B89A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A65-61AB-494E-B9C8-FEB3E44BAFDA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81A-DE30-4BA3-AAD8-627773216232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435-41BF-4323-A912-9A6A55A43D6D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BFE-09FE-4C6A-9A2B-9A9FA49B7E1C}" type="slidenum">
              <a:rPr b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-214200" y="1352880"/>
            <a:ext cx="9144000" cy="2250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прос по тем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36142"/>
                </a:solidFill>
                <a:latin typeface="Times New Roman"/>
              </a:rPr>
              <a:t>Русская выхухоль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5488920" y="4733640"/>
            <a:ext cx="2912400" cy="737640"/>
          </a:xfrm>
          <a:custGeom>
            <a:avLst/>
            <a:gdLst>
              <a:gd name="textAreaLeft" fmla="*/ 47520 w 2912400"/>
              <a:gd name="textAreaRight" fmla="*/ 2864880 w 29124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85252" h="21600">
                <a:moveTo>
                  <a:pt x="0" y="0"/>
                </a:moveTo>
                <a:lnTo>
                  <a:pt x="85252" y="0"/>
                </a:lnTo>
                <a:lnTo>
                  <a:pt x="85252" y="21600"/>
                </a:lnTo>
                <a:lnTo>
                  <a:pt x="0" y="21600"/>
                </a:lnTo>
                <a:close/>
              </a:path>
              <a:path fill="lightenLess" w="85252" h="21600">
                <a:moveTo>
                  <a:pt x="0" y="0"/>
                </a:moveTo>
                <a:lnTo>
                  <a:pt x="85252" y="0"/>
                </a:lnTo>
                <a:lnTo>
                  <a:pt x="83852" y="1400"/>
                </a:lnTo>
                <a:lnTo>
                  <a:pt x="1400" y="1400"/>
                </a:lnTo>
                <a:close/>
              </a:path>
              <a:path fill="darken" w="85252" h="21600">
                <a:moveTo>
                  <a:pt x="85252" y="0"/>
                </a:moveTo>
                <a:lnTo>
                  <a:pt x="85252" y="21600"/>
                </a:lnTo>
                <a:lnTo>
                  <a:pt x="83852" y="20200"/>
                </a:lnTo>
                <a:lnTo>
                  <a:pt x="83852" y="1400"/>
                </a:lnTo>
                <a:close/>
              </a:path>
              <a:path fill="darkenLess" w="85252" h="21600">
                <a:moveTo>
                  <a:pt x="85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852" y="20200"/>
                </a:lnTo>
                <a:close/>
              </a:path>
              <a:path fill="lighten" w="85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d26"/>
                </a:solidFill>
                <a:latin typeface="Times New Roman"/>
              </a:rPr>
              <a:t>Регистрация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04920" y="213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ac9"/>
                </a:solidFill>
                <a:latin typeface="Times New Roman"/>
              </a:rPr>
              <a:t>Задание 1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04920" y="943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усская выхухоль относится к классу…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09480" y="20995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Пресмыкающиеся (Reptilia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09480" y="2899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Земноводные (Amphibia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09480" y="3852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Птицы (Aves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480" y="484596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Млекопитающие (Mammalia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22460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6176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10"/>
          <p:cNvSpPr/>
          <p:nvPr/>
        </p:nvSpPr>
        <p:spPr>
          <a:xfrm>
            <a:off x="4989240" y="586476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636084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4920" y="213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ние 2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04920" y="11865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ем покрыто тело выхухоли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22460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36176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4998960" y="5864400"/>
            <a:ext cx="714600" cy="73476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34760"/>
              <a:gd name="textAreaBottom" fmla="*/ 688680 h 734760"/>
            </a:gdLst>
            <a:ahLst/>
            <a:rect l="textAreaLeft" t="textAreaTop" r="textAreaRight" b="textAreaBottom"/>
            <a:pathLst>
              <a:path w="21600" h="22209">
                <a:moveTo>
                  <a:pt x="0" y="0"/>
                </a:moveTo>
                <a:lnTo>
                  <a:pt x="21600" y="0"/>
                </a:lnTo>
                <a:lnTo>
                  <a:pt x="21600" y="22209"/>
                </a:lnTo>
                <a:lnTo>
                  <a:pt x="0" y="22209"/>
                </a:lnTo>
                <a:close/>
              </a:path>
              <a:path fill="lightenLess" w="21600" h="22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09">
                <a:moveTo>
                  <a:pt x="21600" y="0"/>
                </a:moveTo>
                <a:lnTo>
                  <a:pt x="21600" y="22209"/>
                </a:lnTo>
                <a:lnTo>
                  <a:pt x="20200" y="20809"/>
                </a:lnTo>
                <a:lnTo>
                  <a:pt x="20200" y="1400"/>
                </a:lnTo>
                <a:close/>
              </a:path>
              <a:path fill="darkenLess" w="21600" h="22209">
                <a:moveTo>
                  <a:pt x="21600" y="22209"/>
                </a:moveTo>
                <a:lnTo>
                  <a:pt x="0" y="22209"/>
                </a:lnTo>
                <a:lnTo>
                  <a:pt x="1400" y="20809"/>
                </a:lnTo>
                <a:lnTo>
                  <a:pt x="20200" y="20809"/>
                </a:lnTo>
                <a:close/>
              </a:path>
              <a:path fill="lighten" w="21600" h="22209">
                <a:moveTo>
                  <a:pt x="0" y="22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636084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34200" y="2125080"/>
            <a:ext cx="5695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ехом с густым ворсом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оговыми чешуйками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жесткими щетинками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ерьями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04920" y="213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ние 3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7326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ое из этих животных русская выхухоль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2460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36176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499068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636084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468440" y="2349360"/>
            <a:ext cx="3006720" cy="1078200"/>
          </a:xfrm>
          <a:prstGeom prst="rect">
            <a:avLst/>
          </a:prstGeom>
          <a:ln w="38160">
            <a:solidFill>
              <a:srgbClr val="34503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156360" y="1963800"/>
            <a:ext cx="2433600" cy="1884240"/>
          </a:xfrm>
          <a:prstGeom prst="rect">
            <a:avLst/>
          </a:prstGeom>
          <a:ln w="38160">
            <a:solidFill>
              <a:srgbClr val="34503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936720" y="3716280"/>
            <a:ext cx="3538440" cy="2019240"/>
          </a:xfrm>
          <a:prstGeom prst="rect">
            <a:avLst/>
          </a:prstGeom>
          <a:ln w="38160">
            <a:solidFill>
              <a:srgbClr val="34503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5870520" y="4221000"/>
            <a:ext cx="2719440" cy="1343160"/>
          </a:xfrm>
          <a:prstGeom prst="rect">
            <a:avLst/>
          </a:prstGeom>
          <a:ln w="38160">
            <a:solidFill>
              <a:srgbClr val="345030"/>
            </a:solidFill>
            <a:miter/>
          </a:ln>
        </p:spPr>
      </p:pic>
      <p:sp>
        <p:nvSpPr>
          <p:cNvPr id="281" name=""/>
          <p:cNvSpPr/>
          <p:nvPr/>
        </p:nvSpPr>
        <p:spPr>
          <a:xfrm>
            <a:off x="5388120" y="32068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4160" y="2786040"/>
            <a:ext cx="5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492300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509436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304920" y="213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ac9"/>
                </a:solidFill>
                <a:latin typeface="Times New Roman"/>
              </a:rPr>
              <a:t>Задание 4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4920" y="8820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На берегах каких водоемов селится выхухоль?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22460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36176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989240" y="586476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636084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6280" y="1923840"/>
            <a:ext cx="7183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оре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еки и озер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Болота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ыхухоль обитает в удалени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т водоемов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04920" y="213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ac9"/>
                </a:solidFill>
                <a:latin typeface="Times New Roman"/>
              </a:rPr>
              <a:t>Задание 5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58920" y="731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кие из перечисленных мер могут оказать помощь в деле восстановления численности русской выхухоли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22460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3617640" y="589500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989240" y="586476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6360840" y="5863320"/>
            <a:ext cx="732600" cy="736920"/>
          </a:xfrm>
          <a:custGeom>
            <a:avLst/>
            <a:gdLst>
              <a:gd name="textAreaLeft" fmla="*/ 47160 w 732600"/>
              <a:gd name="textAreaRight" fmla="*/ 685440 w 732600"/>
              <a:gd name="textAreaTop" fmla="*/ 47160 h 736920"/>
              <a:gd name="textAreaBottom" fmla="*/ 689760 h 736920"/>
            </a:gdLst>
            <a:ahLst/>
            <a:rect l="textAreaLeft" t="textAreaTop" r="textAreaRight" b="textAreaBottom"/>
            <a:pathLst>
              <a:path w="21600" h="21727">
                <a:moveTo>
                  <a:pt x="0" y="0"/>
                </a:moveTo>
                <a:lnTo>
                  <a:pt x="21600" y="0"/>
                </a:lnTo>
                <a:lnTo>
                  <a:pt x="21600" y="21727"/>
                </a:lnTo>
                <a:lnTo>
                  <a:pt x="0" y="21727"/>
                </a:lnTo>
                <a:close/>
              </a:path>
              <a:path fill="lightenLess" w="21600" h="21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7">
                <a:moveTo>
                  <a:pt x="21600" y="0"/>
                </a:moveTo>
                <a:lnTo>
                  <a:pt x="21600" y="21727"/>
                </a:lnTo>
                <a:lnTo>
                  <a:pt x="20200" y="20327"/>
                </a:lnTo>
                <a:lnTo>
                  <a:pt x="20200" y="1400"/>
                </a:lnTo>
                <a:close/>
              </a:path>
              <a:path fill="darkenLess" w="21600" h="21727">
                <a:moveTo>
                  <a:pt x="21600" y="21727"/>
                </a:moveTo>
                <a:lnTo>
                  <a:pt x="0" y="21727"/>
                </a:lnTo>
                <a:lnTo>
                  <a:pt x="1400" y="20327"/>
                </a:lnTo>
                <a:lnTo>
                  <a:pt x="20200" y="20327"/>
                </a:lnTo>
                <a:close/>
              </a:path>
              <a:path fill="lighten" w="21600" h="21727">
                <a:moveTo>
                  <a:pt x="0" y="21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540080"/>
            <a:ext cx="8283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85800" indent="-6858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сение русской выхухоли в Красную книгу Российской Федера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полного запрета на промысел выхухол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ие на радио, телевидении, в бумажных видах СМИ и сети Интернет социальной рекламы, посвящённой угрозе вымирания русской выхухоли вследствие широко использования населением лесочных сетей и электроудочек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ключение русской выхухоли в Красный список Всемирного союза охраны природы (МСОП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762120" y="657000"/>
            <a:ext cx="754380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45030"/>
                </a:solidFill>
                <a:latin typeface="Times New Roman"/>
              </a:rPr>
              <a:t>Большое спасибо за сотрудничество!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прос окончен!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2411640" y="5455080"/>
            <a:ext cx="4249440" cy="667800"/>
          </a:xfrm>
          <a:custGeom>
            <a:avLst/>
            <a:gdLst>
              <a:gd name="textAreaLeft" fmla="*/ 43200 w 4249440"/>
              <a:gd name="textAreaRight" fmla="*/ 4206240 w 42494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137386" h="21600">
                <a:moveTo>
                  <a:pt x="0" y="0"/>
                </a:moveTo>
                <a:lnTo>
                  <a:pt x="137386" y="0"/>
                </a:lnTo>
                <a:lnTo>
                  <a:pt x="137386" y="21600"/>
                </a:lnTo>
                <a:lnTo>
                  <a:pt x="0" y="21600"/>
                </a:lnTo>
                <a:close/>
              </a:path>
              <a:path fill="lightenLess" w="137386" h="21600">
                <a:moveTo>
                  <a:pt x="0" y="0"/>
                </a:moveTo>
                <a:lnTo>
                  <a:pt x="137386" y="0"/>
                </a:lnTo>
                <a:lnTo>
                  <a:pt x="135986" y="1400"/>
                </a:lnTo>
                <a:lnTo>
                  <a:pt x="1400" y="1400"/>
                </a:lnTo>
                <a:close/>
              </a:path>
              <a:path fill="darken" w="137386" h="21600">
                <a:moveTo>
                  <a:pt x="137386" y="0"/>
                </a:moveTo>
                <a:lnTo>
                  <a:pt x="137386" y="21600"/>
                </a:lnTo>
                <a:lnTo>
                  <a:pt x="135986" y="20200"/>
                </a:lnTo>
                <a:lnTo>
                  <a:pt x="135986" y="1400"/>
                </a:lnTo>
                <a:close/>
              </a:path>
              <a:path fill="darkenLess" w="137386" h="21600">
                <a:moveTo>
                  <a:pt x="13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986" y="20200"/>
                </a:lnTo>
                <a:close/>
              </a:path>
              <a:path fill="lighten" w="13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казать результат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9:24:10Z</dcterms:created>
  <dc:creator>1</dc:creator>
  <dc:description/>
  <dc:language>en-US</dc:language>
  <cp:lastModifiedBy>Elena</cp:lastModifiedBy>
  <dcterms:modified xsi:type="dcterms:W3CDTF">2009-01-14T18:04:38Z</dcterms:modified>
  <cp:revision>53</cp:revision>
  <dc:subject/>
  <dc:title>Заголовок слайда отсутствует</dc:title>
</cp:coreProperties>
</file>