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178-7F97-4BFE-8A5B-D89884A1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45D-F049-45CA-B0FB-7170ECD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8F6-1D38-4BE3-81EB-5AD6634E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D38-B6A5-42BC-926C-737D6C3C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669-7AD4-42A7-8646-A692F0E7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928-0AF1-4EB3-861B-452E39E0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DB4-6106-431A-9F1C-B62388E4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1A4-8DF2-4F98-8F65-AE8746EF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AFE-C921-4CB6-ABD2-EA9B7A3B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F12-EAFB-464F-BAAA-B61BB91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BB7-5FF1-4414-A178-C287FF28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0FD-191D-4844-94DD-58DB913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FDC9-898B-4076-85C6-4AD4A01AA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93640" y="0"/>
            <a:ext cx="8016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Gothic"/>
              </a:rPr>
              <a:t>Численность и хозяйственн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менение ареала выхухоли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5943600" y="1295280"/>
            <a:ext cx="2819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численности зверька на больших территориях весьма сложен, а в последние годы практически прекращен, поэтому судить о ее численности с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Хозяйственн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80880" y="1143000"/>
            <a:ext cx="3962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 является ценным промысловым ви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третьей четвер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ее добывали из-за мускусного запаха, а на Руси высушенными ее хвостами перекладывали белье. Позднее секрет ее мускусных желез стал применяться в парфюмерии как закрепитель запахов ду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озднее выхухолей стали добывать ради меха, причем он ценился выше бобр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фото_7"/>
          <p:cNvPicPr/>
          <p:nvPr/>
        </p:nvPicPr>
        <p:blipFill>
          <a:blip r:embed="rId1"/>
          <a:stretch/>
        </p:blipFill>
        <p:spPr>
          <a:xfrm>
            <a:off x="4267080" y="1219320"/>
            <a:ext cx="4572000" cy="494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8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ный класс</cp:lastModifiedBy>
  <dcterms:modified xsi:type="dcterms:W3CDTF">2009-01-15T06:22:3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