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510-2053-4B52-A293-40012770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738-1A6B-4DCE-9CE6-1F215AD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08D-736D-4E81-92C7-7F957E74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FA1-18D5-46E1-BA28-EC02F026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71E-7E12-4188-B1DA-9E1C0317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DC2-869A-441B-A735-A533F0AC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F7C-017F-44B7-B780-AB58EF28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F1E-4555-4DBC-AD0D-88EDED9C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23D-4F93-455C-955C-26323705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D2F-50DD-4F78-88FA-CE8E20E2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5BC-9EBF-46BA-ACAB-15C62541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A80-D3B9-4CD1-8E0C-FEED29C4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97F0-1E0D-49EB-9DE5-9D44A0D2E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фото_5"/>
          <p:cNvPicPr/>
          <p:nvPr/>
        </p:nvPicPr>
        <p:blipFill>
          <a:blip r:embed="rId1"/>
          <a:stretch/>
        </p:blipFill>
        <p:spPr>
          <a:xfrm>
            <a:off x="228600" y="374760"/>
            <a:ext cx="4114800" cy="2931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4479840" y="493560"/>
            <a:ext cx="443556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змножение и забота о потом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вая зрелость наступает в возрасте 10 – 11 месяцев .При благоприятных условиях  выхухоль может размножаться в любое время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ждается от 1 до 5 детенышей: слепых, голых и беспомощ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17680" y="3962520"/>
            <a:ext cx="8092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а новорожденных 2 – 3,3 г. Приплодов в году 2.  Первые недели самка не отходит от детенышей: согревает их, кормит, вылизывает, ревностно оберегает. Самец  живет в «семье» и занимает одну из камер семейной норы, и, видимо помогает воспитывать  и выращивать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озрасте 4 – 5 месяцев дети покидают родителей и начинают самостоятель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фото_13"/>
          <p:cNvPicPr/>
          <p:nvPr/>
        </p:nvPicPr>
        <p:blipFill>
          <a:blip r:embed="rId1"/>
          <a:stretch/>
        </p:blipFill>
        <p:spPr>
          <a:xfrm>
            <a:off x="457200" y="533520"/>
            <a:ext cx="41911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013360" y="457200"/>
            <a:ext cx="3902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наступлением весеннего тепла и все лето выхухоли живут па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вает, что на время они разлучаются, а к концу осени снова группир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скопление может привести и к «квартирному конфликту». Но в основном живут зверьки мирно, лишь иногда кто–нибудь поворчит, поурчит и успоко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половодь, покинув свои зимние убежища, затеваются брачные игры. При столкновении с соперником в этот период самцы громко щелкают зубами и кус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ный класс</cp:lastModifiedBy>
  <dcterms:modified xsi:type="dcterms:W3CDTF">2009-01-15T06:30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