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804-046E-4E0A-BFBF-FDC4A6D8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E2A-9960-40D6-AA5A-6DA1C8D4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42C-709C-448B-A99B-2FD2A9DA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9C4-8AAF-4ACA-91B6-1E29B43A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0B7-1B4E-48BD-9813-5848776F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1D1-41A3-409E-86E2-54CCE70C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5F3-EF35-4B0B-9FA3-664BFAA8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1CE-378E-4F61-8A57-C59EC5AE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087-62B9-4967-9D55-AA43D118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E20-2D3E-4791-8107-940DF1AE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512-B4C3-4F22-BF1A-C441F3BD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682-A8A5-44FA-8BDF-14E0B0FD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D0B0-C7F5-49C1-A08A-9FEA8500C9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то_14"/>
          <p:cNvPicPr/>
          <p:nvPr/>
        </p:nvPicPr>
        <p:blipFill>
          <a:blip r:embed="rId2"/>
          <a:stretch/>
        </p:blipFill>
        <p:spPr>
          <a:xfrm>
            <a:off x="304920" y="3809880"/>
            <a:ext cx="4114800" cy="26672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533520" y="152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Образ жизни выхух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04920" y="838080"/>
            <a:ext cx="57308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на, хохуля, круглый год. Излюбленные места обитания – пойменные водоемы с богатой водно-болотной растительностью с облесенными берегами. Рек с быстрым течением она избегает. Большую часть года, хохуля,  живет в норах, имеющих выход только под водой. Основная гнездовая камера расположена только под корнями  деревьев. Такое расположение маскирует камеру и защищает от обвалов. В период половодья камеры затопляет, поэтому в водоемах с сильным колебанием уровня воды, норы многоярус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фото_1"/>
          <p:cNvPicPr/>
          <p:nvPr/>
        </p:nvPicPr>
        <p:blipFill>
          <a:blip r:embed="rId3"/>
          <a:stretch/>
        </p:blipFill>
        <p:spPr>
          <a:xfrm>
            <a:off x="6095880" y="38088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78476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495680" y="3505320"/>
            <a:ext cx="4496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оме основной жилой норы, выхухоль, имеет короткие запасные норы, расположенные на расстоянии 25 – 30 м друг от друга. Такое расстояние зверек проплывает за 1 минуту. Эти норы для отдыха и выполняют роль зимнего скла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хухоли могут жить только в очень чистой воде, поэтому присутствие в водоеме этих зверьков служит индикатором его экологического благополуч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фото_2"/>
          <p:cNvPicPr/>
          <p:nvPr/>
        </p:nvPicPr>
        <p:blipFill>
          <a:blip r:embed="rId2"/>
          <a:stretch/>
        </p:blipFill>
        <p:spPr>
          <a:xfrm>
            <a:off x="698400" y="228600"/>
            <a:ext cx="7747200" cy="36576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441360" y="3886200"/>
            <a:ext cx="83217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рек всеяден и чрезвычайно прожорлив. За сутки съедает почти столько же, сколько весит сам.  Летом выхухоль питается главным образом малоподвижными донными животными: брюхоногими моллюсками, личинками насекомых, пиявками. А  зимой существенную прибавку к ее рациону составляет мелкая рыба и растительные корма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м живут по одиночке или парами; зимой в одной норе могут собираться до 12 - 15 разновозрастных зверь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ный класс</cp:lastModifiedBy>
  <dcterms:modified xsi:type="dcterms:W3CDTF">2009-01-15T06:29:3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