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A3D-BED9-4E2B-904D-83AEEDB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E84-63BD-48A0-979A-1486782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8B4-CB0F-40F0-9B4D-A7D872FC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065-E768-49C6-879A-02D0601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F83-A540-48CA-895F-1EDEBD0E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B02-C501-4C8B-A3F3-94F687BE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A75-909D-47B4-BED8-CA10349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ABF-1CEA-4853-BB6E-6E11332E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469-5E5A-48E9-8E87-E428062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4AA-2E11-40AA-8C14-28186EF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334-9EC1-4DAB-9BAF-5BB2DA5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D6C-9A0C-4730-92AB-3E10433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3C13-ECC6-44F3-A20D-2090DCB74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1c4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vy-02.jpg"/>
          <p:cNvPicPr/>
          <p:nvPr/>
        </p:nvPicPr>
        <p:blipFill>
          <a:blip r:embed="rId1"/>
          <a:stretch/>
        </p:blipFill>
        <p:spPr>
          <a:xfrm>
            <a:off x="2133720" y="3200400"/>
            <a:ext cx="5035320" cy="334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58760" y="755640"/>
            <a:ext cx="876600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c2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arial-of-desmana_map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4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441360" y="341280"/>
            <a:ext cx="35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нешний в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2280" y="121932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ое насекомоядное животное; длина тела – 18-22 см, длина хвоста – 17-21см, а масса – 380-5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сложение плотное. Глаза рудиментарные, имеют хорошо развитые в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аружного уха, слуховые отверстия смыкаются при нырянии, носовые отверстия также смыкаются при помощи особого клап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ся чувствительные волоски – вибри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сти довольно короткие, пальцы до когтей объединены плавательной перепонкой. По краям всех лап идет кайма щетинистых волосков, которая увеличивает плавательную поверхность л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фото_12"/>
          <p:cNvPicPr/>
          <p:nvPr/>
        </p:nvPicPr>
        <p:blipFill>
          <a:blip r:embed="rId2"/>
          <a:stretch/>
        </p:blipFill>
        <p:spPr>
          <a:xfrm>
            <a:off x="4724280" y="533520"/>
            <a:ext cx="4419720" cy="573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ный класс</cp:lastModifiedBy>
  <dcterms:modified xsi:type="dcterms:W3CDTF">2009-01-15T06:24:1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