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0164-7BB5-4C6F-A59C-9371E26C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C98E-6C58-46D2-AC44-9059D9B4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916-039D-417E-9F8B-7263CF6A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35DF-4A2D-4F76-9796-6D7F00B6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CEA-2FD0-4FDA-8601-D3D5E628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9581-7342-4DAB-B245-1B33C688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748A-F245-4D1B-B8D4-8862CF96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2208-0CE1-4AAC-8904-A79E60B1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542-7E7D-4F05-83D4-CF381E5B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6187-C881-4944-AC2C-932A4004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9B4-AFFD-4BA7-9EF6-01C39E2F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073B-3CAA-4083-9AD2-ACDDDFED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9582-5884-45FD-9ACF-7B52BFB91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54936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1916280"/>
            <a:ext cx="7925040" cy="45370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006600"/>
                </a:solidFill>
                <a:uFillTx/>
                <a:latin typeface="Arial"/>
              </a:rPr>
              <a:t>«Защитим русскую выхухоль!»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600"/>
            </a:b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"/>
                            </p:stCondLst>
                            <p:childTnLst>
                              <p:par>
                                <p:cTn id="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Дорожки выхухоли по чистому ль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ris2-3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351640" cy="607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00"/>
                </a:solidFill>
                <a:uFillTx/>
                <a:latin typeface="Arial"/>
              </a:rPr>
              <a:t>Меры по защите русской выхухо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го охранять места обитания выхухоли, вести учёт их числ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ходясь на берегу водоёма, не шуметь,  не разводить костры, убирать за собой мус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вить рыбу только разрешёнными сна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оться с использованием сетей и электроудочек в районах обитания выхух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вать рыболовные снасти и другие орудия лова, исключающие гибель выхух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вать специализированные охотхозяйства по разведению и содержанию зверьков в нев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мерно распространять знания об этом удивительном «живом ископаемом», чудом дожившем до наших 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роверь свои знания о русской выхухо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1-</a:t>
            </a:r>
            <a:r>
              <a:rPr b="1" i="1" lang="en-US" sz="6000" spc="-1" strike="noStrike">
                <a:solidFill>
                  <a:srgbClr val="006600"/>
                </a:solidFill>
                <a:latin typeface="Arial"/>
              </a:rPr>
              <a:t>б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, 2-</a:t>
            </a:r>
            <a:r>
              <a:rPr b="1" i="1" lang="en-US" sz="6000" spc="-1" strike="noStrike">
                <a:solidFill>
                  <a:srgbClr val="006600"/>
                </a:solidFill>
                <a:latin typeface="Arial"/>
              </a:rPr>
              <a:t>б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,  3-</a:t>
            </a:r>
            <a:r>
              <a:rPr b="1" i="1" lang="en-US" sz="6000" spc="-1" strike="noStrike">
                <a:solidFill>
                  <a:srgbClr val="006600"/>
                </a:solidFill>
                <a:latin typeface="Arial"/>
              </a:rPr>
              <a:t>а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, 4-</a:t>
            </a:r>
            <a:r>
              <a:rPr b="1" i="1" lang="en-US" sz="6000" spc="-1" strike="noStrike">
                <a:solidFill>
                  <a:srgbClr val="006600"/>
                </a:solidFill>
                <a:latin typeface="Arial"/>
              </a:rPr>
              <a:t>в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,  5-</a:t>
            </a:r>
            <a:r>
              <a:rPr b="1" i="1" lang="en-US" sz="6000" spc="-1" strike="noStrike">
                <a:solidFill>
                  <a:srgbClr val="006600"/>
                </a:solidFill>
                <a:latin typeface="Arial"/>
              </a:rPr>
              <a:t>а 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, 6-</a:t>
            </a:r>
            <a:r>
              <a:rPr b="1" i="1" lang="en-US" sz="6000" spc="-1" strike="noStrike">
                <a:solidFill>
                  <a:srgbClr val="006600"/>
                </a:solidFill>
                <a:latin typeface="Arial"/>
              </a:rPr>
              <a:t>б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,  7-</a:t>
            </a:r>
            <a:r>
              <a:rPr b="1" i="1" lang="en-US" sz="6000" spc="-1" strike="noStrike">
                <a:solidFill>
                  <a:srgbClr val="006600"/>
                </a:solidFill>
                <a:latin typeface="Arial"/>
              </a:rPr>
              <a:t>а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,  8-</a:t>
            </a:r>
            <a:r>
              <a:rPr b="1" i="1" lang="en-US" sz="6000" spc="-1" strike="noStrike">
                <a:solidFill>
                  <a:srgbClr val="006600"/>
                </a:solidFill>
                <a:latin typeface="Arial"/>
              </a:rPr>
              <a:t>в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, 9-</a:t>
            </a:r>
            <a:r>
              <a:rPr b="1" i="1" lang="en-US" sz="6000" spc="-1" strike="noStrike">
                <a:solidFill>
                  <a:srgbClr val="006600"/>
                </a:solidFill>
                <a:latin typeface="Arial"/>
              </a:rPr>
              <a:t>б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10-</a:t>
            </a:r>
            <a:r>
              <a:rPr b="1" i="1" lang="en-US" sz="6000" spc="-1" strike="noStrike">
                <a:solidFill>
                  <a:srgbClr val="006600"/>
                </a:solidFill>
                <a:latin typeface="Arial"/>
              </a:rPr>
              <a:t>б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, 11-</a:t>
            </a:r>
            <a:r>
              <a:rPr b="1" i="1" lang="en-US" sz="6000" spc="-1" strike="noStrike">
                <a:solidFill>
                  <a:srgbClr val="006600"/>
                </a:solidFill>
                <a:latin typeface="Arial"/>
              </a:rPr>
              <a:t>а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, 12-</a:t>
            </a:r>
            <a:r>
              <a:rPr b="1" i="1" lang="en-US" sz="6000" spc="-1" strike="noStrike">
                <a:solidFill>
                  <a:srgbClr val="006600"/>
                </a:solidFill>
                <a:latin typeface="Arial"/>
              </a:rPr>
              <a:t>а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, 13-</a:t>
            </a:r>
            <a:r>
              <a:rPr b="1" i="1" lang="en-US" sz="6000" spc="-1" strike="noStrike">
                <a:solidFill>
                  <a:srgbClr val="006600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 сколько вопросов вы ответили правильн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9750"/>
                            </p:stCondLst>
                            <p:childTnLst>
                              <p:par>
                                <p:cTn id="27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475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358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«Ты пришёл в гости к природе, - не делай ничего такого, что счёл бы неприличным делать в гостях».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4465800" cy="345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прозванных Ольга Вениамино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СОШ» № 4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Норильск, р-н Талн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00"/>
                </a:solidFill>
                <a:latin typeface="Arial"/>
              </a:rPr>
              <a:t>Рыбе – вода, птице – воздух,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00"/>
                </a:solidFill>
                <a:latin typeface="Arial"/>
              </a:rPr>
              <a:t>Человеку нужна Родина,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00"/>
                </a:solidFill>
                <a:latin typeface="Arial"/>
              </a:rPr>
              <a:t>Охранять природу – значит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00"/>
                </a:solidFill>
                <a:latin typeface="Arial"/>
              </a:rPr>
              <a:t>Охранять Родину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4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4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4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4600" spc="-1" strike="noStrike">
                <a:solidFill>
                  <a:srgbClr val="006600"/>
                </a:solidFill>
                <a:latin typeface="Arial"/>
              </a:rPr>
              <a:t>(К. Паустовский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Arial"/>
              </a:rPr>
              <a:t>Телеграм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«Я забавный, загадочный, малоизученный, симпатичный зверёк. Являюсь одним из древнейших млекопитающих, который обитает в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Евразии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вот уже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5 млн. лет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, дошедший до наших дней в почти не изменённом ви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Живу я в поймах рек и по берегам озёр (в основном в бассейнах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Волги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Дона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Днепра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Урала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). Тело моё продолговатой формы длиной около 20 см с короткой малоподвижной шеей, покрытое густой серебристой шерстью. С одного конца торчит длинный подвижный хоботок с крупными носовыми отверстиями (он позволяет дышать, не поднимаясь на поверхность), с другой – сплющенный с боков чешуйчатый хвост. На лапах плавательные перепонки, отороченные жёсткими волосами. Глаза маленькие, зрение слабое. Ушных раковин нет, но слух – хороший. Всё это говорит о том, что я веду полуводный образ жизни. Я прекрасно плаваю и ныряю, практически всеядна.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Меня называют «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живым ископаемым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», чудом, дожившем до наших дней, ласково меня зовут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хохуля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628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Русская выхухо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Типичные места обитания выхухо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is2-4" descr=""/>
          <p:cNvPicPr/>
          <p:nvPr/>
        </p:nvPicPr>
        <p:blipFill>
          <a:blip r:embed="rId1"/>
          <a:stretch/>
        </p:blipFill>
        <p:spPr>
          <a:xfrm>
            <a:off x="0" y="1541520"/>
            <a:ext cx="9144000" cy="531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4:25:03Z</dcterms:created>
  <dc:creator>Леон</dc:creator>
  <dc:description/>
  <dc:language>en-US</dc:language>
  <cp:lastModifiedBy>Natasha Novoselova</cp:lastModifiedBy>
  <dcterms:modified xsi:type="dcterms:W3CDTF">2009-10-23T15:12:13Z</dcterms:modified>
  <cp:revision>11</cp:revision>
  <dc:subject/>
  <dc:title>Слайд 1</dc:title>
</cp:coreProperties>
</file>