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DEE-1E91-43E9-B8F6-EEA8BE80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4E3-C264-4DEF-AC52-7290F87E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DBB-ED8C-42BD-81DF-88CB5FCD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5CC-1BD4-4CB7-9BF0-8A3ADAEA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BDB-AA38-49C0-AEC9-4723B12F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973-65DA-4145-A0D5-E2C42CD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13A-DEAD-4FBD-9263-F8BC917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FE2-DDEF-4191-A8C3-DC3A77E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7B3-B714-4A28-825D-98D75E57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540-0B7F-4268-8F0C-7B73CB8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C132-B120-457B-9CE8-F6794C9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549-B0B5-4EB4-BCCD-0D977DB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868E-74CD-4529-9657-C8F81759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8F9-D41B-4DC1-8992-D3A5BBD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9A1A-3146-48D5-A8E4-A36D0B8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7A13-BB05-4DFF-B687-6AC2C219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0AA-1995-4054-A815-AAA500B9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210-E4E1-4A4B-90BC-024D1A4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6A8-FC74-400E-8C92-DB0161A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53D-DD2D-45D1-87C0-862D2D6A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194-DD7B-4216-B1C2-DB877634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CB6-FDBF-4820-965A-866932B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8CF-1EDB-4BEC-81A4-1DDA730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E12-8987-4218-8C6B-5B78C0E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3FB-9F5A-441B-BA50-62161B342F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AB4-FAB9-455A-A249-9CBA306FC3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260280"/>
            <a:ext cx="88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езентация школьного урока о русской выхухоли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   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для детей 11-1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еста  обита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е угодья лесной зоны. Это  глубокие,  речные заводи с очень слабым течением. Небольшие озера (глубина 2-3 м.) с высокими берегами и хорошо развитой прибрежной и водной растительностью, богатой фауной беспозвоночных. В таких озерах устойчив уровень воды, они не пересыхают летом и не промерзают зимой, а берега удобны для строительства н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й лес создает определенный микроклимат в пойме, способствует благоприятному гидрорежиму водоемов. В период весенних разливов он, к тому же, выполняет защитные фун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29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3621240"/>
            <a:ext cx="468000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обенности строения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отное валикообразное тело (450 г.),длина около 20 см, короткая малоподвижная  шея, голова конусовидной формы с длинным подвижным хоботком, сплющенный с боков  чешуйчатый хвост. В 1-1,5 см от его основания располагается подхвостовая железа,  выделяющая вещества с резким мускусным запахом.Секрет подхвостовой  железы используется зверьком для мечения территории. Лапки небольшие пальцы соединены  плавательными перепонк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932360" cy="26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89600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лаза маленькие, зрение слабое. Ушные раковины отсутствуют, но слух хороший. При погружении в воду ушные щели механически закрываются, а носовые отверстия замыкаются специальными  клапанами. Мех густой, шелковистый и блестящий; на спине буроватый, на горле, груди и брюшке –серебристо – белый. Структура волосяного покрова позволяет удерживать значительное количество воздуха, когда зверек находится в воде. Это обеспечивает ненамокаемость меха при плавании зверька, что очень важно для его теплорегуляции и гидродинам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52927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раз жизни хоху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720" y="1341360"/>
            <a:ext cx="4067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верек прекрасно плавает, при нырянии задерживает дыхание на 5 минут. Выхухоль очень осторожна. Если повезет, рано утром или поздно вечером можно заметить торчащий из воды хоботок или голову высунувшегося подышать живот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21964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Взаимоотношения с соседям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74160" y="0"/>
            <a:ext cx="69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9228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Не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Лисица,выдра,горностай,хорь, ондатра и др. хищные звери – уничтожают зверьков, их норы, кормовую б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выхухоль поедает брюхоногих моллюсков, котрые являются промежуточными хозяевами трематод. Таким  образом  защищает бобров от гельми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Рыбаки избегают ставить сети в районе бобровых поселений. Они портят снасти. Это спасает выхухоль от попадания в сети, от гиб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хухоль – индикатор эколоического благополу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43528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охуля всеядна. Охотнее всего поедает пиявок, моллюсков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чинок насекомых, дождевых червей, мелких рыбешек, а также различные растительные корм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514836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змножение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6000" y="691920"/>
            <a:ext cx="4427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о взрослой популяции русской выхухоли самцы и самки представлены примерно поровну. Размножается в течение всего года. Приплод появляется в первые летние месяцы и осенью. Во время половодья Зверьки издавая своеобразные звуки, гоняются друг за другом, спарива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Беременность длится 45 – 50 дней. В начале лета появляются хохулята (до 5 в помете), голые, слепые, беззубые. В это время мать проявляет большую заботу о детях. Больше месяца кормит их молоком. К 8 -10 месяцам они переходят к самостоятельной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9467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 году в России ввели запрет на добычу выхухоли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 факторы негативно влияют на популяции этого зверь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окращение численности выхухоли связано с воздействием антропогенных фактор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0 – 1980 г. Загрязнение и сельскохозяйственное освоение речных пой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1 век- массовое незаконное использование ставных лесочных сетей и электроудоч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регулирование стока р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стройка берегов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здание водохранилищ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ас скота вблизи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ждение туристов и рыболов – любите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новные причины бедственного положения выхухоли – использование рыбаками ставных сетей.  Запутавшись в них она погибает через 5 минут. Современные сети прочны и долговечны, брошенные или забытые в водоемах превращаются в “конвейер” по уничтожению зверьк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4812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3716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ff"/>
                </a:solidFill>
                <a:latin typeface="Arial"/>
              </a:rPr>
              <a:t>Выхухоль – символ русской природы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лный запрет на промысел выхухоли не решит проблему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альная помощ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пространение на радио, телевидение, в бумажных видах СМИ и сети Интернет социальной рекламы, посвещенной угрозе вымирания русской выхухоли вследствие широкого использования населением лесочных сетей и электроудоче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 допускать рекламу запрещенных орудий лова рыбы во всех средствах СМ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роться с продажей незаконных орудий лова рыбы и их использов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ff"/>
                </a:solidFill>
                <a:latin typeface="Arial"/>
              </a:rPr>
              <a:t>Ребята!!! Вам симпатичен этот зверек?</a:t>
            </a:r>
            <a:r>
              <a:rPr b="1" i="1" lang="en-US" sz="44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076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ff"/>
                </a:solidFill>
                <a:latin typeface="Verdana"/>
              </a:rPr>
              <a:t>Подключайтесь к спасению  уникального зверя !!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Запомните сами, расскажите другим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дясь на берегу водое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шумите, не разводите костры в неположенном месте;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овите рыбу только разрешенными снаст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бирайте за собой мусо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сли в вашей местности водится этот удивительный зверек,  организуйте патрулирование прибрежной зоны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становите информационные щиты для отдыхающих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влекайте обществен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543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Мы за них в ответе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Garamond"/>
              </a:rPr>
              <a:t>Русская выхухоль малочисленный, реликтовый вид водных млекопитающих. Основные места обитания находятся в Европейской части России  Это единственное  млекопитающее в названии которого  фигурирует слово “русская”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есто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ы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и с системе органического мир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9640" y="227664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14127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40360" y="1052640"/>
            <a:ext cx="638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Царство: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Тип: Хорд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Класс: 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Отряд: Насеком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Семейство: Выхухо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Род: Выхухо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Вид: Выхухоль рус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(Desmana moschata L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97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Место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выхухо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ли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системе органиче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мира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800000" cy="820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653000"/>
            <a:ext cx="946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Этот забавный и чрезвычайно симпатичный зверек является одним из древнейших млекопитающих, который обитает в Евразии вот уже 5 млн.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56680"/>
            <a:ext cx="76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аши дни основная часть популяции выхухоли обитает в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оссии – в основном в бассейнах рек Волги 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на, в меньшей степени – в бассейнах рек Днепра, Урала, Уй и Тобола.  Кроме России выхухоли обитают еще в Казахстане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краине и Белоруссии, но и там их совсем нем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12061800" cy="769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16000" y="486900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3860640"/>
            <a:ext cx="1296720" cy="6494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826920" y="2997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55897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840000">
            <a:off x="395280" y="386064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-72720" y="50479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26560" y="333360"/>
            <a:ext cx="7264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а, Волги, Урала и ее ареал был более широким и сплошным, чем современны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1970 г. На территории России обитало около 69 тыс. выхухолей. Однако с этого времени численность зверьков и область их распространения стали резко сокращаться, из – за чего вид был включен в Красную книгу России, а также в Красную книгу Всемирного союза охраны природы. (МСОП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годня осталось только 25 тыс. хоху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468720" y="1628640"/>
            <a:ext cx="9155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07:48Z</dcterms:created>
  <dc:creator>Katya</dc:creator>
  <dc:description/>
  <dc:language>en-US</dc:language>
  <cp:lastModifiedBy>Natasha Novoselova</cp:lastModifiedBy>
  <dcterms:modified xsi:type="dcterms:W3CDTF">2009-10-25T03:15:11Z</dcterms:modified>
  <cp:revision>13</cp:revision>
  <dc:subject/>
  <dc:title>Русская выхухоль - чудо природы</dc:title>
</cp:coreProperties>
</file>