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png" ContentType="image/png"/>
  <Override PartName="/ppt/media/image17.png" ContentType="image/png"/>
  <Override PartName="/ppt/media/image15.png" ContentType="image/png"/>
  <Override PartName="/ppt/media/image5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4578-7191-467F-A3FE-0C919171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967F-16F2-460B-94D4-5615F795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E78C-3D3D-4D2F-ACB0-33B0FED9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21CA-A913-4F77-8F38-698A8ED1C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C38D-1DB0-4CDB-8EE7-28F132F3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FBA2-27AD-4C96-97F6-1F968923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0D6C-7C7B-4E94-A3AB-2F2A1FC8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6F99-D99E-451E-BC8E-7F7AA426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C4F7-0F55-4D43-A02E-1F41237D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46C4-4868-45B8-899E-00318FEA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8435-397F-486D-B563-E80A5DB9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A231-4E36-4A8A-8253-FFEBB017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BB60-0D24-417C-9BDE-34D820203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0"/>
            <a:ext cx="7417080" cy="22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0000"/>
                </a:solidFill>
                <a:uFillTx/>
                <a:latin typeface="Monotype Corsiva"/>
              </a:rPr>
              <a:t>Русская выхухоль имеет право на жизн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1989000"/>
            <a:ext cx="489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076720" y="2276640"/>
            <a:ext cx="3718080" cy="4317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2708280"/>
            <a:ext cx="46083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Цель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изучить особенности биологии и экологии русской выхухоли, знание которых         необходимо для разработки мер по охране и сохранению ви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124000" y="333360"/>
            <a:ext cx="47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Выхухоль"/>
          <p:cNvPicPr/>
          <p:nvPr/>
        </p:nvPicPr>
        <p:blipFill>
          <a:blip r:embed="rId2"/>
          <a:stretch/>
        </p:blipFill>
        <p:spPr>
          <a:xfrm>
            <a:off x="4356000" y="2781360"/>
            <a:ext cx="4538880" cy="3889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79280" y="3068640"/>
            <a:ext cx="42116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основании, подпушь извитая, на брюхе волосы даже гуще, чем на спине; сильный хвост шерстью не покры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1413000"/>
            <a:ext cx="8713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Объясните следующие особенности волосяного               покрова зверь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х плотный, густой, хорошо смазан жиром; остевые волосы вверху шире, ч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0920" y="0"/>
            <a:ext cx="8496360" cy="38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Выхухоль приспособлена к жизни в вод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устой, плотный мех уменьшает отдачу теп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ировая смазка предотвращает намок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витая подпушь содержит много воздуха, что создает теплоизолирующий слой, в том числе и на брюх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3789360"/>
            <a:ext cx="38163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хвост – не только хороший руль, но и теплоизлучатель на суше (предохраняет от перегрев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924360" y="3500280"/>
            <a:ext cx="4854600" cy="323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79280" y="260280"/>
            <a:ext cx="8786880" cy="69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 Black"/>
              </a:rPr>
              <a:t>А запа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видеть выхухоль нелегко: она очень осторожна, и лишь рано утром или вечером можно заметить торчащий из воды хоботок или голову высунувшегося подышать зверька. Жилая нора выхухоли имеет стойкий мускусный запах, выделяемый скоплением мускусных желез, расположенных в основании хвоста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0920" y="620640"/>
            <a:ext cx="388944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Black"/>
              </a:rPr>
              <a:t>Сле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 присутствии в водоеме выхухоли можно узнать по кучкам пустых раковин у входа в нору, расходящимся от норы траншеям-тропинкам в донном иле, зимой — по цепочкам пузырьков, скапливающихся подо льдом над тропами. Отпечаток лапы пятипал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356000" y="1700280"/>
            <a:ext cx="4440240" cy="4122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84360" y="6237360"/>
            <a:ext cx="2158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79280" y="620640"/>
            <a:ext cx="338472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ространена в бассейне Волги, Дона и Урала, завезена в верховья Днепра и на юг Западной Сибири. Обитает в заросших пойменных озерах и речных заводях с плесами открытой во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605040" y="1628640"/>
            <a:ext cx="5484960" cy="388620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1835280" y="363600"/>
            <a:ext cx="60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Распростран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5877000"/>
            <a:ext cx="835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ухоль - эндемик Восточной Евро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116000" y="189000"/>
            <a:ext cx="6269040" cy="648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1280" y="404640"/>
            <a:ext cx="9072720" cy="560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11280" y="907920"/>
            <a:ext cx="8143920" cy="5042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 flipV="1">
            <a:off x="6012000" y="4149720"/>
            <a:ext cx="0" cy="22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79280" y="2133720"/>
            <a:ext cx="1513080" cy="503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84360" y="652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Русская выхухоль на территории Пензен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258920" y="4581360"/>
            <a:ext cx="3313080" cy="165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940000" y="692280"/>
            <a:ext cx="2016360" cy="1728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623736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Выхухоль — исконный обитатель поймы Хоп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9280" y="0"/>
            <a:ext cx="89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В 1990-е годы численность вида в России по экспертной оценке составляла около 35 тыс. особей, сосредоточенных в основном в бассейнах Волги (20 тыс. зверьков) и Дона (10 тыс. зверьков). В бассейнах Днепра и Урала по 1,5 тыс. особей и столь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378936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3429000"/>
            <a:ext cx="3743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же за Уралом, в бассейнах рек Уй и Тобол. К 2005 г. численность выхухоли снизилась до 25 тыс. осо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140360" y="3068640"/>
            <a:ext cx="4743360" cy="35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11280" y="0"/>
            <a:ext cx="828180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Статус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-я категор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Вид, находящийся под угрозой исчезнов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3357720"/>
            <a:ext cx="828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хухоль включена в Красную книгу Российской Федерации и Красный список МСОП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UC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Международного Союза охраны природы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1957 г в России введён полный запрет охоты на выхухоль. Для ее охраны создано несколько заповедников и около 80 заказников. Предпринимались попытки разведения ее в неволе, но это оказалось исключительно сложным д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 rot="20843400">
            <a:off x="539640" y="907560"/>
            <a:ext cx="5853240" cy="21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>
                    <a:alpha val="92000"/>
                  </a:srgbClr>
                </a:solidFill>
                <a:latin typeface="Monotype Corsiva"/>
              </a:rPr>
              <a:t>Русская выхухоль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>
                  <a:alpha val="92000"/>
                </a:srgbClr>
              </a:solidFill>
              <a:latin typeface="Monotype Corsiva"/>
              <a:ea typeface="Monotype Corsiva"/>
            </a:endParaRPr>
          </a:p>
        </p:txBody>
      </p:sp>
      <p:sp>
        <p:nvSpPr>
          <p:cNvPr id="46" name=""/>
          <p:cNvSpPr/>
          <p:nvPr/>
        </p:nvSpPr>
        <p:spPr>
          <a:xfrm>
            <a:off x="5003640" y="333360"/>
            <a:ext cx="3961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Дела давно минувших дн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Преданья старины глубо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А.С.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3284640"/>
            <a:ext cx="4681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гда-то очень давно (5 млн. лет назад) на Земле появился выхухоль - небольшой зверек, длина его в среднем 20 см, а вес примерно полкилограмма. Распространен он был по всей Европ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786200" y="2852640"/>
            <a:ext cx="4357800" cy="3710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740720" y="6597720"/>
            <a:ext cx="71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48000" y="6515280"/>
            <a:ext cx="10796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299280"/>
            <a:ext cx="792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6370560"/>
            <a:ext cx="57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637056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6920" y="76500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4000" y="2565360"/>
            <a:ext cx="3979800" cy="3965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859280" y="2565360"/>
            <a:ext cx="3976920" cy="3976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411280" y="0"/>
            <a:ext cx="59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Монеты Росс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6360" y="83664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АНК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рубль 2000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рия: Красная книга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талл: серебр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878508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Причины исчезновения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Антропогенная трансформация пойменных местообитаний (вырубка прибрежных лесов, осушение водоемов, загрязнение их промышленными и сельскохозяйственными стоками, зарегулирование стока рек, создание водохранилищ, выпас скота по берега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Использование лесочных сетей (в них зверёк запутывается и погибает) и электроудочек (уничтожают кормовую базу животных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356000" y="3660840"/>
            <a:ext cx="4264200" cy="3197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3844800"/>
            <a:ext cx="33116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Выявлена прямая зависимость численности вида от суммы летне-осенних осад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4000" y="836640"/>
            <a:ext cx="88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их сетях  умирают  редкие животные, в том числе, занесенная в Красную книгу выхухоль. Ее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численность на Земле сократилась 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до 25 тысяч особей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33336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Браконьеры могут окончательно погубить выхух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995640" y="2637000"/>
            <a:ext cx="4945320" cy="3722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79280" y="2384280"/>
            <a:ext cx="378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В Пензенской области остались лишь 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несколько десятков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этих животных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туация с выхухолью катастрофическая. Если в ближайшее время не принять кардинальных мер, это животное может исчезнуть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79280" y="1197000"/>
            <a:ext cx="864252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        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Внимание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тественных врагов выхухоль не имеет. Опасными врагами выхухоль стали ондатра и американская норка, акклиматизированные в СССР и выпущенные в пределах ареала. В связи с изменением ландшафта пойм (вырубка деревьев, на которых выхухоль пережидает половодье) и уничтожением американской норкой и ондатрой численность выхухоль быстро сокращается. Необходима хорошо организованная и строгая охрана вида. В прошлом ценный промысловый ви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922840" cy="21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52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1341360"/>
            <a:ext cx="88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9280" y="2205000"/>
            <a:ext cx="84247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С осени 2000 г. Центр охраны дикой природы при финансовой поддержке Фонда национальных парков осуществляет проект «Сохраним русскую выхухоль», посвященный оценке современного состояния популяции выхухоли, разработке конкретных мер ее сохранения и их воплощения на мест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0" y="981000"/>
            <a:ext cx="142884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4000" y="0"/>
            <a:ext cx="8640720" cy="63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Рекомендации по сохранению вида в естественных условиях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учение современного распространения и численности выхухо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ганизация во вновь найденных местах обитания вида особо охраняемых природных территор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полнение решений по охране малых р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прет выпаса скота по берегам и неукоснительное соблюдение запрета лова рыбы вершами и сетями в водоемах, населенных выхухол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26920" y="549360"/>
            <a:ext cx="79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Заповедники, в которых охраняется русская выхух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59280" y="1628640"/>
            <a:ext cx="3024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ронеж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пер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д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ержен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рон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00720" y="5373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азников (около 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3365640" cy="50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79280" y="260280"/>
            <a:ext cx="864252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Заповедники и заказники Пензенской обла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Государственный заказник «Земетчинский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Государственный заказник «Лесной» (Земетчински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район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Государственный заказник «Мещерский» (Сердоб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район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Узинский заказник (Уза—левый приток Сур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выхухолевый заповедник Хоперский (река Хопер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24000" y="0"/>
            <a:ext cx="8640720" cy="75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Можем ли мы помочь?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ша помощь может заключаться в просветительской деятель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роводить уроки о выхухоли и её охране в школ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Учредить специальный День Выхухоли, во время которого проводить посвященные зверьку лекции, детские творческие конкурсы, викторины и спектак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роводить для местного населения просветительские мероприятия, связанные с проблемой исчезновения выхухоли и использованием ставных лесочных сетей и электроудоче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ривлекать журналистов к освещению проблем сохранения выхухол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Распространять информационные листовки об этой пробл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50920" y="0"/>
            <a:ext cx="8893080" cy="71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Краткие тезисы к уро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сская выхухоль - реликтовый вид, эндемик Восточной Евро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рошлом ценный промысловый ви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Вырубка прибрежных лесов, осушение водоемов, загрязнение их различными стоками, лов рыбы лесочными сетями и электроудочками, зарегулирование стока рек, создание водохранилищ, выпас скота по берегам - привели к катастрофическому сокращению численности ви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4. Статус: 1-я категория. Вид, находящийся под угрозой   исчезнов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Выхухоль включена в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расную книг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оссии и Красный список МСОП - Международного Союза охраны природы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0920" y="333360"/>
            <a:ext cx="88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их животных называют живыми ископаемыми, ровесниками мамонта – ученые утверждают, что выхухоль почти не изменилась за послед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миллионов лет! Как и миллионы лет назад, это чудо с хоботом живет в поймах рек и по берегам оз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58920" y="2276640"/>
            <a:ext cx="6726240" cy="44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30200" y="0"/>
            <a:ext cx="8713800" cy="68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втор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бавина Алевтина Борисо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биологии МОУ СОШ с. Старая Кам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дрес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405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нзенская обла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нзенский рай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. Старая Кам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л. Молодежная, дом 6, квартира 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л. 8(412)3889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кс: 8(412)3890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evtina704@rambler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68360" y="1052640"/>
            <a:ext cx="4464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арство: Жив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ип: Хорд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тип :Позвоно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: Млекопита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класс: Плацента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ряд: Насекомояд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мейство: Выхухо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: Выхух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: Русская выхух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Desmana mosch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40464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Black"/>
              </a:rPr>
              <a:t>Систематическое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Arial Black"/>
              </a:rPr>
              <a:t>поло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491000" y="1125360"/>
            <a:ext cx="4314960" cy="501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4360" y="189000"/>
            <a:ext cx="79912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ликтовое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емейство Выхухолей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Desmanidae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ключает всего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два вид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из которых од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иренейская выхухоль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Galemys pyrenaicus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стречается в Пиренея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втор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Русская выхухоль 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(Desmana mosch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ти исключительно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979640" y="3213000"/>
            <a:ext cx="5178240" cy="345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95280" y="907920"/>
            <a:ext cx="8359920" cy="5834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4360" y="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Места обитания русской выхух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79280" y="0"/>
            <a:ext cx="8964720" cy="29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 Black"/>
              </a:rPr>
              <a:t>Внешний ви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иннохвостый зверек размером с крупную крысу, массой окол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0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 легко узнаваем по длинному подвижному хоботку. На лапах перепонки, хвост голый, сплюснутый с боков. Окраска темно-бурая сверху, светлая снизу, с сильным блеском. Молодые сероват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340000" y="2637000"/>
            <a:ext cx="6337440" cy="403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9640" y="0"/>
            <a:ext cx="8209080" cy="29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Black"/>
              </a:rPr>
              <a:t>Питание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итается моллюсками, водными насекомыми, пиявками, лягушками и т.д., реже -корневищами растений. Двустворчатых моллюсков (беззубок и перловиц) зверек обычно не торопится разгрызать, а затаскивает в нору, где они вскоре раскрываются с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03280" y="2876400"/>
            <a:ext cx="6434280" cy="391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4000" y="260280"/>
            <a:ext cx="864072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Black"/>
              </a:rPr>
              <a:t>Размножение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жет производить потомство в любое время года. Беременность длится 40-45 дней. Самка приносит потомство раз в год, в выводке 1-5 детенышей, которые становятся половозрелыми в возрасте одного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92360" y="2997360"/>
            <a:ext cx="5578560" cy="3678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4:42:24Z</dcterms:created>
  <dc:creator>Александр</dc:creator>
  <dc:description/>
  <dc:language>en-US</dc:language>
  <cp:lastModifiedBy>Алексей Новоселов</cp:lastModifiedBy>
  <dcterms:modified xsi:type="dcterms:W3CDTF">2009-07-10T05:43:14Z</dcterms:modified>
  <cp:revision>52</cp:revision>
  <dc:subject/>
  <dc:title>Слайд 1</dc:title>
</cp:coreProperties>
</file>