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E5A-F8F1-460C-A422-00CF6317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613-696F-4D9E-B1F9-51B9544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01A-B2CD-40D3-AFEF-00AD8248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DFE-DEDB-4693-9DDB-A8618FD8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089A-69CC-4469-B7C1-B92A9C98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DFAE-BB25-4210-9B92-C53E1644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445-1FD3-4DC6-89AB-CDEAC91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AFC6-F7D0-4219-BB5C-8849AE5C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A71-355D-4739-8748-C071843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E84E-79F4-4E7D-A90C-A0435995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4C6-6C18-495E-B974-35AEC03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177-1B8B-4851-85D9-A3322900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99D2-07E5-4471-B137-93F9161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5ED4-4382-478C-A85A-904DE78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5A0-2F05-41EE-954D-B756FA10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4D67-06AB-46B8-936A-19C737A9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B23F-5F2A-4748-B738-05294509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9DA-116B-4B0F-8175-097F27C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B11-1394-4ADA-9DCC-2074BAB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726-8408-4A2A-A0AB-A6010C5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0AC-AA57-4567-8996-736372C4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A4F-5A00-459D-899A-F28C0610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ED9-6DEE-4C5B-9CD1-3490C86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97B-7BF8-4B7E-97B2-2315B11F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D35-8F0E-4FE9-9F21-482790456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4389-165E-4ED7-AEAC-C5E05747E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627280" y="549360"/>
            <a:ext cx="3743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Интегрированный урок</a:t>
            </a:r>
            <a:endParaRPr b="1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126828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ccffcc"/>
                </a:solidFill>
                <a:latin typeface="Tahoma"/>
              </a:rPr>
              <a:t>"Носатое чудо России"</a:t>
            </a:r>
            <a:endParaRPr b="1" lang="en-US" sz="4400" spc="1" strike="noStrike">
              <a:ln w="9360">
                <a:solidFill>
                  <a:srgbClr val="ccffcc"/>
                </a:solidFill>
                <a:miter/>
              </a:ln>
              <a:solidFill>
                <a:srgbClr val="ccffcc"/>
              </a:solidFill>
              <a:latin typeface="Tahoma"/>
              <a:ea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24360" y="1052640"/>
            <a:ext cx="1066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Arial"/>
              </a:rPr>
              <a:t>(4 класс)</a:t>
            </a:r>
            <a:endParaRPr b="0" lang="en-US" sz="20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76720" y="4292640"/>
            <a:ext cx="391500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разработала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Е.В.Афонина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учитель начальных классов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МОУ  СОШ № 42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город Норильск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13392" r="-1783" b="21948"/>
          <a:stretch/>
        </p:blipFill>
        <p:spPr>
          <a:xfrm>
            <a:off x="468360" y="2781360"/>
            <a:ext cx="3744720" cy="365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г.Норильск 2009г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По сравнению с 70-ми годами ХХ века численность выхухоли в России сократилась в два раза. В последние годы реальная угроза существованию русской выхухоли исходит от массового браконьерского лова рыбы с использованием ставных лесочных сетей и так называемых «электросачков» («электроудочек»). 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921440" cy="4892760"/>
          </a:xfrm>
          <a:prstGeom prst="rect">
            <a:avLst/>
          </a:prstGeom>
          <a:ln w="93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Факторы, негативно влияющие на численность русской выхухоли:</a:t>
            </a:r>
            <a:br>
              <a:rPr sz="20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загрязнение водоём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вызывает гибель зверьков и деградацию местообитаний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вырубка пойменных лес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нарушает гидрологический режим поймы, что вызывает деградацию местообитаний выхухоли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осушение пойменных угодий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лишает выхухоль исконных мест обитания и нередко сопровождается ликвидацией древесно-кустарниковой растительности методом химической обработки, что ухудшает кормовые и защитные условия выхухолевых угодий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зарегулирование стока рек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(спрямление русел, строительство плотин и дамб) приводит к падению уровня грунтовых вод и, как следствие, к пересыханию отдельных водоёмов и малых рек, исчезновению лесных родников, усыханию пойменных лесов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застройка берегов водоём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создаёт серьёзный фактор беспокойства для выхухолей, а сопутствующие людям домашние животные (кошки, собаки) могут уничтожать зверьков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создание водохранилищ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означает затопление выхухолевых угодий, при котором гибнут и сами зверьки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выпас скота вблизи водоём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часто взывает разрушение нор и гибель их обитателей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т вид занесен в Красную книгу Российской Федерации и Красный список Всемирного союза охраны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раняется на территориях нескольких федеральных и региональных ООПТ (заповедники «Брянский лес», «Воронежский», «Окский», «Хоперский», национальные парки «Орловское полесье», «Угра», заказники «Клязьминский», «Клетнянский», «Мокшинский», «Муромский», «Навашинский», «Рязанский» и др.), в специализированных охотхозяйствах («Сельцовское» во Владимирской област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9640" y="4508640"/>
            <a:ext cx="813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Сохраним русскую выхухоль !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84360" y="5877000"/>
            <a:ext cx="374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Вместе !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смотр фильм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 «Русская выхухоль», телестудии «Брянский лес» (11 ми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с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бята! С 2000 года специалисты природоохранной организации Центр охраны дикой природы реализует программу, направленную на сохранение русской выхухоли. Но помочь выхухоли выжить могут не только специалисты, но и каждый из нас. Вы получили  листовки с краткой информацией о проблеме исчезновения этого зверька. Эти листовки можно размножить на ксероксе или скачать из Интернета и распечатать на принтере. Пожалуйста, сделайте несколько копий этих листовок и разместите их на досках объявлений в посещаемых вами местах. Раздайте их вашим родителям, расскажите им о выхухоли, попросите их  отнести эти листовки на работу. Этим вы внесете свой вклад в дело спасения этого уникального живот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езные ссылки к урок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biodiversity.ru/programs/vyhuh/gallery/video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Фильм «Русская выхухоль», телестудии «Брянский лес» (11 мин., рус. и англ.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Фильм «Знакомьтесь: русская выхухоль», видеостудия заповедника «Керженский» (13 мин., рус.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идеоролик социальной рекламы, посвященный борьбе с использованием для лова рыбы лесочных сетей и защите русской выхухоли (35 секунд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diversit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hu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j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5-06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лект информационных материалов к уроку о русской выхухоли, разработанный Центром охраны дикой природы. В комплект входят научно-популярные фильмы и статьи о русской выхухоли, научная монография, карты ареала, рекомендации по сохранению вида, тест на проверку полученных знаний, фотографии  и ряд других материалов. Также здесь размещен набор планов к уроку о русской выхухоли, разработанный профессиональными педагогами для школьников разных возрастов, а также приложенные к планам учебные игры и красочные презентации, которыми можно дополнить ваш ур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diversit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hu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hu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fle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ая листовка, кратко освещающая проблему катастрофического уменьшения численности русской выхухо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2060640"/>
          <a:ext cx="8229600" cy="4635360"/>
        </p:xfrm>
        <a:graphic>
          <a:graphicData uri="http://schemas.openxmlformats.org/drawingml/2006/table">
            <a:tbl>
              <a:tblPr/>
              <a:tblGrid>
                <a:gridCol w="1616040"/>
                <a:gridCol w="1949400"/>
                <a:gridCol w="1490760"/>
                <a:gridCol w="1665360"/>
                <a:gridCol w="1508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 х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 :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х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 х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678 + 3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: 2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5321 – 3334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360 :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 txBox="1"/>
          <p:nvPr/>
        </p:nvSpPr>
        <p:spPr>
          <a:xfrm>
            <a:off x="4211640" y="2276640"/>
            <a:ext cx="11476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10000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3280" y="2781360"/>
            <a:ext cx="2178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6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342900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72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7640" y="4005360"/>
            <a:ext cx="7160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45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56000" y="4581360"/>
            <a:ext cx="93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9148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16360" y="5157720"/>
            <a:ext cx="211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1640" y="5734080"/>
            <a:ext cx="1147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7187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640" y="630864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545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24360" y="2276640"/>
            <a:ext cx="11480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7187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6000" y="2781360"/>
            <a:ext cx="1147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10000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940360" y="3357720"/>
            <a:ext cx="936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9148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12000" y="393372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545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12000" y="4581360"/>
            <a:ext cx="715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45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56360" y="515772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72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7640" y="566100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6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27640" y="6237360"/>
            <a:ext cx="211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74072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В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740720" y="278136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Ы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740720" y="3357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Х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740720" y="393372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У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740720" y="450864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Х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40720" y="5084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О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740720" y="566100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Л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740720" y="6237360"/>
            <a:ext cx="43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Ь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333360"/>
            <a:ext cx="8696520" cy="125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Найдите значение выражений.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Запишите получившиеся числа в порядке убывания.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Запишите букву, соответствующую каждому числу в последний столбик.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Что получилось?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744720" cy="2395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Это небольшой зверек, который является одним из древнейших млекопитающих, живущих в Евразии еще со времен мамонтов. Она выглядит, как небольшая крыса с длинным, похожим на хобот, носиком.</a:t>
            </a: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Плотное валикообразное тело с короткой и малоподвижной шеей, голова конусовидной формы, оканчивающаяся довольно длинным подвижным хоботком с парой крупных носовых отверстий на конце, сплющенный с боков чешуйчатый хвост, лапы с плавательными перепонками, отороченные жесткими волосами, — все это делает выхухоль похожей на какой-то мифический персонаж. Глаза маленькие, хрусталик недоразвит, то есть зрение слабое. Ушные раковины отсутствуют, но слух — хороший. При погружении в воду ушные щели механически закрываются, а на носовых отверстиях замыкаются специальные клапаны.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3600720" cy="2397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19280" y="836280"/>
            <a:ext cx="35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Русская выхухоль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- это небольшое животное плотного сложения, весом около 450 г. и длиной тела около 20 см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колько будут весит 25 выхухол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выразите в килограммах и грамм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Какова длина 32 выхухол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вырази в метрах и сантиметр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995" t="0" r="0" b="8957"/>
          <a:stretch/>
        </p:blipFill>
        <p:spPr>
          <a:xfrm>
            <a:off x="250920" y="333360"/>
            <a:ext cx="4537080" cy="2779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68360" y="3213000"/>
            <a:ext cx="42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Подсчитай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битают выхухоли в поймах рек и по берегам озер. Зверёк прекрасно плавает, при нырянии умеет задерживать дыхание на 5 минут.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Выхухоли могут жить только в очень чистой воде, поэтому присутствие в водоеме этих зверьков служит индикатором его экологического благополучия, а значит наличия в нём рыбы и других полуводных млекопитающих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039760"/>
            <a:ext cx="4321080" cy="2802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4248360" cy="3090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Увидеть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выхухоль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нелегко: она очень осторожна, и лишь рано утром или вечером настойчивый наблюдатель, если повезет, заметит торчащий из воды хоботок или голову высунувшегося подышать зверька.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600720" cy="2301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13392" r="0" b="10713"/>
          <a:stretch/>
        </p:blipFill>
        <p:spPr>
          <a:xfrm>
            <a:off x="324000" y="1844640"/>
            <a:ext cx="3741480" cy="4321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383724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859200" cy="2571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979640" y="4005360"/>
            <a:ext cx="3930480" cy="2619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39640" y="12276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хухоль практически всеядна. Она охотно поедает пиявок, моллюсков, личинки насекомых, дождевых червей, мелких рыбёшек, а также различные растительные корма. Ее каждодневное меню зависит от времени года, которое определяет обилие того или иного вида кор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rcRect l="0" t="0" r="2551" b="2791"/>
          <a:stretch/>
        </p:blipFill>
        <p:spPr>
          <a:xfrm>
            <a:off x="395280" y="1773360"/>
            <a:ext cx="3992400" cy="2627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480000" cy="4298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95280" y="4600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дракой зверьки встают “столбиком” и, опираясь на хвост, исследуют с помощью хоботка и окружающее простран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и принимают угрожающие позы, встают на задние лапы, покачиваются, раскрывают рот, издавая резкий своеобразный зв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чале 1970 г. на территории России обитало около 69 тысяч выхухолей. В настоящее время их осталось не более 25 тысяч. На сколько уменьшилась численность выхухо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03280" y="4221000"/>
            <a:ext cx="67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44  тысячи  !!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49:40Z</dcterms:created>
  <dc:creator>User</dc:creator>
  <dc:description/>
  <dc:language>en-US</dc:language>
  <cp:lastModifiedBy>Alexey Novoselov</cp:lastModifiedBy>
  <dcterms:modified xsi:type="dcterms:W3CDTF">2009-10-23T09:18:42Z</dcterms:modified>
  <cp:revision>12</cp:revision>
  <dc:subject/>
  <dc:title>Слайд 1</dc:title>
</cp:coreProperties>
</file>