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454B-F80A-4C3B-9265-D6C647ACAE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CB7C-2274-450E-B8E8-2372C175C5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DF50-641A-476A-9FD9-1B248CF2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6B05-2122-4D9D-995D-91B32D56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F017-387E-4B85-B5F6-77E714F8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13FF-A457-4ACE-ADA5-1731891B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BE91-2B3B-485D-AA0E-4ED1F203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15C5-65A7-4784-9DAF-67F6BAEE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815C-2CEA-4CF8-A70A-95DAD0FF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C883-89F3-48E7-BE44-9E7C8CEA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A428-A7FD-40A1-A964-E9631A90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93BA-6EA1-4E45-B08C-0D28B2D2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A402-81AD-4B7C-81E5-3F24A6C7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DB42-79ED-4253-89C9-8515540F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0063-8EC2-4200-90C8-AFB955E9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2C99-071D-4322-99B5-5AA2CC8C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1998-C74B-4656-A528-3E6068BC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4025-FA6B-45A0-8966-6CE0A29E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17EB-2884-4C25-9CEC-81B1A51F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BD01C-0E6F-4DED-A5DE-888F8B21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3F69A-F507-4E7A-B248-8A52253A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39C0E-6B31-4E8B-BB4A-49EEAF7F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58184-1BAB-4A47-9D68-60027883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12214-8194-46A9-801C-29D613DC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74B-E56F-4177-9446-9CFFD1D8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60570-F699-441B-8D70-9684FDE7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A55FD-5CFA-47D4-8358-640B6F67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13608-03A3-466F-9C24-9F51316F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42808-A34F-4FC2-954E-B22017F6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DECD0-2CAF-46CE-B75C-5C608114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4D064-C99D-4DDB-BDD3-252D0AE2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61EEE-3559-423B-A10A-93BF8927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E36B7-01ED-4704-B835-72B32416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A394F-51B5-4834-9EAE-A5087CB4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FA991-90D3-4F2E-ACB5-1D5FDBA2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22FD-5B2F-4BBE-BEE4-1C935EE7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0BAE5-ACB4-4248-A204-E7508CE5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3EA5B-0829-47C4-8796-E2543D3B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FDF65-6E47-4F7E-898C-BA69CFA4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7BE9D-7F65-413F-82E8-D935DB86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ECFF8-A3FB-436B-8496-EC24691C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FCA3C-403D-4B7C-8A11-F888DAB3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CE0FB-E311-4E51-9013-8CB24A50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C2B15-7AE6-45B7-9EA1-CE9D5C82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A3C35-B0AE-418D-8D71-BF234F66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F79F0-08C0-4CD8-91CE-F8680C97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EB6C-BF9B-46AC-8A44-B8869C1F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28D5F-F606-4962-A7E9-BB0EAEC0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8689B-2645-4A75-B839-B9C99E6D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B5EC2-2CE0-4A05-9FB8-EF1BBD73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77DB7-1A88-4022-9D19-59D50761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2A8FA-5423-44AE-8EAC-0A9E5334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B04B1-210D-4061-81FA-CA168537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E3077-A635-4AD0-BF22-7F1DD753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F91C9-B905-4FCA-AC56-6A0B90D5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9162D-043B-41FE-B083-7EE13B15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A3C9E-27CB-419B-A977-33CB7A8F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E569-2642-49AA-B7E0-5C05D027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EA3A3-BFE7-4555-9A83-5C4FE5C3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6F9AE-7982-4B4C-AEDA-4117488F0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D4FED-2203-4C5F-9A25-770768FD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CB00E-A4DA-4B6D-9D33-3678EBF4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24386-8CFE-411F-8AAC-95E03312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1F8A9-A8CE-4197-A811-77A1F96F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E7513-486E-426D-9320-A8AA7A3E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D3B71-1627-4580-AAB7-7700B2EB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3945D-33BA-4BCE-96CE-3108ECB4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3409E-3E14-43E2-AD3C-FAD5AE74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6DC7-EE95-4CC4-A3E0-1C92E1C0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3F184-48E5-47ED-8A28-C76B0ECF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2C062-7F4D-442F-B0A0-D90E739B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96A32-F605-4AD4-AF04-B27D4A85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7B193-3B19-4DCD-856B-6C8B284B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D0D36-C620-4AAF-9CC2-B362807E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F1A89-430D-4813-B076-235EE74F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7020E-8E7C-42CC-B341-9BB0AB04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D8B99-71CB-40D0-BD74-3B056234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150C1-27B8-446F-9A4E-4E4189D7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47E72-CC51-46EC-BF06-AFA20848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25DC-3E7F-43BE-8BBE-B16C0F01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B42E0-99C8-4222-9C89-BEB77158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B5E12-239D-4642-B2C9-5213FAB2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90E14-F47A-4119-8FF8-1D51BA9B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81B91-E063-479F-BC9D-E6018250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6492B-0C7C-4BB7-8692-41BEEA75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D60A-CE53-4EBD-AD8E-69EE8200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1098-AB72-4152-8450-8878B617A98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AAF0-76F7-4347-81CB-14233ADC820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980D-CB34-4348-8CB0-E81A9F26254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1689-536F-4639-BD39-C453667AEB5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FC24-301D-4A4D-A3E1-F46E65C0827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C2FE-B34E-4D88-A462-335B3C4FC08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89DD-1BE8-47C4-86C0-B74C3C08AA1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Здравствуйте, ребята и гости!</a:t>
            </a:r>
            <a:endParaRPr b="0" lang="en-US" sz="8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5572080" y="1071720"/>
            <a:ext cx="64296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4286160" y="1071720"/>
            <a:ext cx="64296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2357280" y="1643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3000240" y="1643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3643200" y="1643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4286160" y="1643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4929120" y="1643040"/>
            <a:ext cx="642960" cy="571680"/>
          </a:xfrm>
          <a:prstGeom prst="rect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5572080" y="2214720"/>
            <a:ext cx="64296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6215040" y="2214720"/>
            <a:ext cx="64296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6858000" y="2214720"/>
            <a:ext cx="64296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7500960" y="2214720"/>
            <a:ext cx="64296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4286160" y="2786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3643200" y="2786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5572080" y="2786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6215040" y="2786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6858000" y="2786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ц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4286160" y="3357720"/>
            <a:ext cx="64296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3000240" y="3357720"/>
            <a:ext cx="64296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3643200" y="3357720"/>
            <a:ext cx="64296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3000240" y="3929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3643200" y="3929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4286160" y="3929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6215040" y="3929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5572080" y="3929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4929120" y="3929040"/>
            <a:ext cx="642960" cy="571680"/>
          </a:xfrm>
          <a:prstGeom prst="rect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Rectangle 2"/>
          <p:cNvSpPr/>
          <p:nvPr/>
        </p:nvSpPr>
        <p:spPr>
          <a:xfrm>
            <a:off x="6215040" y="4500720"/>
            <a:ext cx="64296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5572080" y="4500720"/>
            <a:ext cx="64296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4929120" y="4500720"/>
            <a:ext cx="642960" cy="571320"/>
          </a:xfrm>
          <a:prstGeom prst="rect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3000240" y="5072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3643200" y="5072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4286160" y="5072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4929120" y="5072040"/>
            <a:ext cx="642960" cy="571680"/>
          </a:xfrm>
          <a:prstGeom prst="rect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929120" y="1071720"/>
            <a:ext cx="642960" cy="571320"/>
          </a:xfrm>
          <a:prstGeom prst="rect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4929120" y="2214720"/>
            <a:ext cx="642960" cy="571320"/>
          </a:xfrm>
          <a:prstGeom prst="rect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4929120" y="2786040"/>
            <a:ext cx="642960" cy="571680"/>
          </a:xfrm>
          <a:prstGeom prst="rect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4929120" y="3357720"/>
            <a:ext cx="642960" cy="571320"/>
          </a:xfrm>
          <a:prstGeom prst="rect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"/>
          <p:cNvSpPr/>
          <p:nvPr/>
        </p:nvSpPr>
        <p:spPr>
          <a:xfrm>
            <a:off x="2053080" y="17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"/>
          <p:cNvSpPr/>
          <p:nvPr/>
        </p:nvSpPr>
        <p:spPr>
          <a:xfrm>
            <a:off x="399780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"/>
          <p:cNvSpPr/>
          <p:nvPr/>
        </p:nvSpPr>
        <p:spPr>
          <a:xfrm>
            <a:off x="4500720" y="2349360"/>
            <a:ext cx="4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"/>
          <p:cNvSpPr/>
          <p:nvPr/>
        </p:nvSpPr>
        <p:spPr>
          <a:xfrm>
            <a:off x="3278520" y="28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"/>
          <p:cNvSpPr/>
          <p:nvPr/>
        </p:nvSpPr>
        <p:spPr>
          <a:xfrm>
            <a:off x="26290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"/>
          <p:cNvSpPr/>
          <p:nvPr/>
        </p:nvSpPr>
        <p:spPr>
          <a:xfrm>
            <a:off x="2557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"/>
          <p:cNvSpPr/>
          <p:nvPr/>
        </p:nvSpPr>
        <p:spPr>
          <a:xfrm>
            <a:off x="457380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"/>
          <p:cNvSpPr/>
          <p:nvPr/>
        </p:nvSpPr>
        <p:spPr>
          <a:xfrm>
            <a:off x="262908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78627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усская выхухоль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1" name="Picture 2" descr="K:\про выхухоль\Фотографии\фото_1.jpg"/>
          <p:cNvPicPr/>
          <p:nvPr/>
        </p:nvPicPr>
        <p:blipFill>
          <a:blip r:embed="rId2"/>
          <a:stretch/>
        </p:blipFill>
        <p:spPr>
          <a:xfrm>
            <a:off x="1547640" y="1857240"/>
            <a:ext cx="72741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71720" y="0"/>
            <a:ext cx="7767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</a:t>
            </a:r>
            <a:r>
              <a:rPr b="1" lang="ru-RU" sz="6000" spc="-1" strike="noStrike">
                <a:solidFill>
                  <a:srgbClr val="425519"/>
                </a:solidFill>
                <a:latin typeface="Times New Roman"/>
                <a:ea typeface="Times New Roman"/>
              </a:rPr>
              <a:t>Внешний вид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431720" y="1214280"/>
            <a:ext cx="75690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сская выхухоль-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ий симпатичный зверек с хоботком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с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коло 450 г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лина тела-20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апки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большие, пальцы соединены плавательными перепонкам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вост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инный, чешуйчатый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лаза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ие- поэтому зрение очень слабое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шные раковины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уют, но слух хороший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х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устой, шелковистый и блестящий</a:t>
            </a:r>
            <a:r>
              <a:rPr b="1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водой может находиться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 минут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</a:t>
            </a:r>
            <a:r>
              <a:rPr b="1" lang="ru-RU" sz="6000" spc="-1" strike="noStrike">
                <a:solidFill>
                  <a:srgbClr val="425519"/>
                </a:solidFill>
                <a:latin typeface="Times New Roman"/>
                <a:ea typeface="Times New Roman"/>
              </a:rPr>
              <a:t>Среда обитания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500800" y="1523880"/>
            <a:ext cx="392904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тает в поймах рек и по берегам озер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чается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Европейской части России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захстане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краине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елоруссии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6" name="Picture 2" descr="K:\про выхухоль\Фотографии\фото_11.jpg"/>
          <p:cNvPicPr/>
          <p:nvPr/>
        </p:nvPicPr>
        <p:blipFill>
          <a:blip r:embed="rId2"/>
          <a:stretch/>
        </p:blipFill>
        <p:spPr>
          <a:xfrm>
            <a:off x="1143000" y="1643040"/>
            <a:ext cx="442908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K:\про выхухоль\Картографические материалы\Ареал выхухоли на 2005г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9720" y="360360"/>
            <a:ext cx="835812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</a:t>
            </a: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чины исчезновения </a:t>
            </a:r>
            <a:br>
              <a:rPr sz="5400"/>
            </a:b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выхухоли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1720" y="2143080"/>
            <a:ext cx="740700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язнение водоемов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убка пойменных лесов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ройка берегов водоемов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водохранилищ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ас скота вблизи водоемов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шение пойменных угодий;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очные сети и электроудочк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1" descr=""/>
          <p:cNvPicPr/>
          <p:nvPr/>
        </p:nvPicPr>
        <p:blipFill>
          <a:blip r:embed="rId2"/>
          <a:stretch/>
        </p:blipFill>
        <p:spPr>
          <a:xfrm>
            <a:off x="390600" y="2152800"/>
            <a:ext cx="913140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7:24:16Z</dcterms:created>
  <dc:creator>Admin</dc:creator>
  <dc:description/>
  <dc:language>en-US</dc:language>
  <cp:lastModifiedBy>Alexey Novoselov</cp:lastModifiedBy>
  <dcterms:modified xsi:type="dcterms:W3CDTF">2009-10-22T15:23:31Z</dcterms:modified>
  <cp:revision>29</cp:revision>
  <dc:subject/>
  <dc:title>Защитим русскую         выхухоль</dc:title>
</cp:coreProperties>
</file>