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6.jpeg" ContentType="image/jpeg"/>
  <Override PartName="/ppt/media/image33.jpeg" ContentType="image/jpeg"/>
  <Override PartName="/ppt/media/image4.gif" ContentType="image/gif"/>
  <Override PartName="/ppt/media/image19.png" ContentType="image/png"/>
  <Override PartName="/ppt/media/image26.gif" ContentType="image/gif"/>
  <Override PartName="/ppt/media/image20.jpeg" ContentType="image/jpeg"/>
  <Override PartName="/ppt/media/image39.png" ContentType="image/png"/>
  <Override PartName="/ppt/media/image22.jpeg" ContentType="image/jpeg"/>
  <Override PartName="/ppt/media/image7.jpeg" ContentType="image/jpeg"/>
  <Override PartName="/ppt/media/image9.jpeg" ContentType="image/jpeg"/>
  <Override PartName="/ppt/media/image48.png" ContentType="image/png"/>
  <Override PartName="/ppt/media/image28.jpeg" ContentType="image/jpeg"/>
  <Override PartName="/ppt/media/image11.jpeg" ContentType="image/jpeg"/>
  <Override PartName="/ppt/media/image24.png" ContentType="image/png"/>
  <Override PartName="/ppt/media/image27.gif" ContentType="image/gif"/>
  <Override PartName="/ppt/media/image52.wmf" ContentType="image/x-wmf"/>
  <Override PartName="/ppt/media/image23.jpeg" ContentType="image/jpeg"/>
  <Override PartName="/ppt/media/image2.png" ContentType="image/png"/>
  <Override PartName="/ppt/media/image25.jpeg" ContentType="image/jpeg"/>
  <Override PartName="/ppt/media/image21.jpeg" ContentType="image/jpeg"/>
  <Override PartName="/ppt/media/chimes.wav" ContentType="audio/x-wav"/>
  <Override PartName="/ppt/media/image3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7.jpeg" ContentType="image/jpeg"/>
  <Override PartName="/ppt/media/image15.png" ContentType="image/png"/>
  <Override PartName="/ppt/media/image12.jpeg" ContentType="image/jpeg"/>
  <Override PartName="/ppt/media/image8.jpeg" ContentType="image/jpeg"/>
  <Override PartName="/ppt/media/image5.wmf" ContentType="image/x-wmf"/>
  <Override PartName="/ppt/media/image10.jpeg" ContentType="image/jpeg"/>
  <Override PartName="/ppt/media/image54.wmf" ContentType="image/x-wmf"/>
  <Override PartName="/ppt/media/image29.gif" ContentType="image/gif"/>
  <Override PartName="/ppt/media/image30.jpeg" ContentType="image/jpeg"/>
  <Override PartName="/ppt/media/image31.jpeg" ContentType="image/jpeg"/>
  <Override PartName="/ppt/media/image34.jpeg" ContentType="image/jpeg"/>
  <Override PartName="/ppt/media/image35.jpeg" ContentType="image/jpeg"/>
  <Override PartName="/ppt/media/image47.png" ContentType="image/png"/>
  <Override PartName="/ppt/media/image36.jpeg" ContentType="image/jpeg"/>
  <Override PartName="/ppt/media/image56.jpeg" ContentType="image/jpeg"/>
  <Override PartName="/ppt/media/image3.jpeg" ContentType="image/jpeg"/>
  <Override PartName="/ppt/media/image41.png" ContentType="image/png"/>
  <Override PartName="/ppt/media/image18.png" ContentType="image/png"/>
  <Override PartName="/ppt/media/image59.jpeg" ContentType="image/jpeg"/>
  <Override PartName="/ppt/media/image42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9.jpeg" ContentType="image/jpeg"/>
  <Override PartName="/ppt/media/image50.png" ContentType="image/png"/>
  <Override PartName="/ppt/media/image51.png" ContentType="image/png"/>
  <Override PartName="/ppt/media/image53.jpeg" ContentType="image/jpeg"/>
  <Override PartName="/ppt/media/image40.gif" ContentType="image/gif"/>
  <Override PartName="/ppt/media/image55.jpeg" ContentType="image/jpeg"/>
  <Override PartName="/ppt/media/image5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12F-3CB0-4AEB-AB38-0BE7BC68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01F-AAEC-40A9-89E1-A4943380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5CA-DF3F-4676-B3A8-353E27A9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759-483D-4077-B899-4E78F3E3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8FB-AAC1-4F7D-B732-44A950AF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92B-864D-4C14-BEEC-6CEF6F63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B4A-296B-4E0C-8F9D-7DE4C568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74F-946F-4148-8659-FB23B80E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9DEF-A643-4AB1-96CC-A684B9C1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A69-CDC2-4EA5-B2E0-E2E12A86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A71-285F-4AB7-A3ED-EEA1175B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0D7-7664-4849-8A49-2E4A0A15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5020-01FD-4D9A-994C-CCC6B950C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4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wmf"/><Relationship Id="rId3" Type="http://schemas.openxmlformats.org/officeDocument/2006/relationships/image" Target="../media/image53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wmf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19280" y="1197000"/>
            <a:ext cx="5648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храним русскую выхухол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3959280" cy="5905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284720" y="476280"/>
            <a:ext cx="4390920" cy="288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284720" y="3357720"/>
            <a:ext cx="4390920" cy="3024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639720"/>
            <a:ext cx="777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Она затаскивает раковину в нору и когда от долгого пребывания на воздухе её створки приоткрываются, выедает моллюс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064720" cy="568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39640" y="549360"/>
            <a:ext cx="8064720" cy="5759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39640" y="5013360"/>
            <a:ext cx="1720800" cy="126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11280" y="692280"/>
            <a:ext cx="1218960" cy="1209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301800" y="692280"/>
            <a:ext cx="1863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кубыш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360" y="1197000"/>
            <a:ext cx="30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одяная лил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4103640" cy="5759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1800000" cy="1511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79440" y="492120"/>
            <a:ext cx="188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ростн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716360" y="549360"/>
            <a:ext cx="3888000" cy="5759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237800" y="620640"/>
            <a:ext cx="122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рого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050920" y="549360"/>
            <a:ext cx="4286520" cy="5759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24920" y="492120"/>
            <a:ext cx="237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ежегол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836640"/>
            <a:ext cx="1008000" cy="5256360"/>
          </a:xfrm>
          <a:prstGeom prst="rect">
            <a:avLst/>
          </a:prstGeom>
          <a:gradFill rotWithShape="0">
            <a:gsLst>
              <a:gs pos="0">
                <a:srgbClr val="506e53"/>
              </a:gs>
              <a:gs pos="100000">
                <a:srgbClr val="afefb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 rot="5400000">
            <a:off x="-108720" y="2996640"/>
            <a:ext cx="2736720" cy="57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 о р 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765000"/>
            <a:ext cx="3456000" cy="1295640"/>
          </a:xfrm>
          <a:custGeom>
            <a:avLst/>
            <a:gdLst>
              <a:gd name="textAreaLeft" fmla="*/ 864000 w 3456000"/>
              <a:gd name="textAreaRight" fmla="*/ 2592000 w 3456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гнездов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781360"/>
            <a:ext cx="3456000" cy="1295280"/>
          </a:xfrm>
          <a:custGeom>
            <a:avLst/>
            <a:gdLst>
              <a:gd name="textAreaLeft" fmla="*/ 864000 w 3456000"/>
              <a:gd name="textAreaRight" fmla="*/ 2592000 w 34560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запасн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4869000"/>
            <a:ext cx="3456000" cy="1295280"/>
          </a:xfrm>
          <a:custGeom>
            <a:avLst/>
            <a:gdLst>
              <a:gd name="textAreaLeft" fmla="*/ 864000 w 3456000"/>
              <a:gd name="textAreaRight" fmla="*/ 2592000 w 34560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весен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19640" y="692280"/>
            <a:ext cx="3240000" cy="1584360"/>
          </a:xfrm>
          <a:prstGeom prst="rect">
            <a:avLst/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2637000"/>
            <a:ext cx="3240000" cy="1584000"/>
          </a:xfrm>
          <a:prstGeom prst="rect">
            <a:avLst/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4581360"/>
            <a:ext cx="3240000" cy="1584360"/>
          </a:xfrm>
          <a:prstGeom prst="rect">
            <a:avLst/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836640"/>
            <a:ext cx="32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лужат основным жилищем и  мес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ождения молодня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43480" y="2655720"/>
            <a:ext cx="318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жат для поедания добычи, отдыха, а зи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пополнения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передвижении по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ь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4869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жат временным убежищем в период раз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4360" y="1268280"/>
            <a:ext cx="7775280" cy="4824720"/>
          </a:xfrm>
          <a:prstGeom prst="bevel">
            <a:avLst>
              <a:gd name="adj" fmla="val 12500"/>
            </a:avLst>
          </a:prstGeom>
          <a:solidFill>
            <a:srgbClr val="a6f8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6626160" cy="36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40000" y="549360"/>
            <a:ext cx="4513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Схема норы выхухо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64000" y="836640"/>
            <a:ext cx="3024360" cy="230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651640" y="1125360"/>
            <a:ext cx="2449440" cy="1727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4360" y="765000"/>
            <a:ext cx="1152360" cy="5472360"/>
          </a:xfrm>
          <a:prstGeom prst="rect">
            <a:avLst/>
          </a:prstGeom>
          <a:gradFill rotWithShape="0">
            <a:gsLst>
              <a:gs pos="0">
                <a:srgbClr val="506e53"/>
              </a:gs>
              <a:gs pos="100000">
                <a:srgbClr val="afefb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 rot="5400000">
            <a:off x="-1404000" y="3211920"/>
            <a:ext cx="525780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тественные враг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836640"/>
            <a:ext cx="3024360" cy="230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340000" y="1125360"/>
            <a:ext cx="2448000" cy="1727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050920" y="3789360"/>
            <a:ext cx="3024360" cy="230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3789360"/>
            <a:ext cx="3024360" cy="230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17800" y="2421000"/>
            <a:ext cx="132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лисиц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2160" y="256536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нотовидная соба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651640" y="4076640"/>
            <a:ext cx="2449440" cy="1727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374160" y="5373720"/>
            <a:ext cx="129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хорь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340000" y="407664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349800" y="5373720"/>
            <a:ext cx="121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4402080" cy="3386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9440" y="3357720"/>
            <a:ext cx="178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горноста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03640" y="3284640"/>
            <a:ext cx="345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американская нор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4390920" cy="2521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41440" y="5805360"/>
            <a:ext cx="1469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ндат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54936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наибольшее давление оказывают на зверька и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акклиматизированные чужак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5724360" y="1484280"/>
            <a:ext cx="1800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07240" y="476280"/>
            <a:ext cx="631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Из птиц к врагам выхухоли относятс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981000"/>
            <a:ext cx="3816360" cy="25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0e09f"/>
              </a:gs>
              <a:gs pos="100000">
                <a:srgbClr val="1d67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575280" y="2888280"/>
            <a:ext cx="3816360" cy="259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0e09f"/>
              </a:gs>
              <a:gs pos="100000">
                <a:srgbClr val="1d67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645000"/>
            <a:ext cx="3816360" cy="25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0e09f"/>
              </a:gs>
              <a:gs pos="100000">
                <a:srgbClr val="1d67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859280" y="1268280"/>
            <a:ext cx="3241800" cy="2016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13440" y="292428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ёрный корш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476360" y="2565360"/>
            <a:ext cx="2016000" cy="3240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70880" y="5373720"/>
            <a:ext cx="1241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фил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4859280" y="3933720"/>
            <a:ext cx="3241800" cy="2016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805440" y="5373720"/>
            <a:ext cx="127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716360" y="620640"/>
            <a:ext cx="3816360" cy="5616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220360" y="692280"/>
            <a:ext cx="300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ерая неясы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11280" y="620640"/>
            <a:ext cx="3960720" cy="5616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13080" y="5516640"/>
            <a:ext cx="385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ольшой подорл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064720" cy="5759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373440" y="981000"/>
            <a:ext cx="125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скоп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268360" y="549360"/>
            <a:ext cx="4319640" cy="5759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629080" y="617400"/>
            <a:ext cx="144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ерку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892800"/>
            <a:ext cx="770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Прозвенел опять звонок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И начался наш урок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Будем край мы свой  любить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О животных говорить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3" descr="AG00319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2565360"/>
            <a:ext cx="3961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7993080" cy="5759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044720" y="5442120"/>
            <a:ext cx="312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олотный лу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509800" y="620640"/>
            <a:ext cx="27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ерая вор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92680" y="549360"/>
            <a:ext cx="6791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И даже под водой приходится опасаться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1125360"/>
            <a:ext cx="4392360" cy="2521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0e09f"/>
              </a:gs>
              <a:gs pos="100000">
                <a:srgbClr val="1d67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3280" y="3716280"/>
            <a:ext cx="3888000" cy="2521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0e09f"/>
              </a:gs>
              <a:gs pos="100000">
                <a:srgbClr val="1d67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932360" y="4005360"/>
            <a:ext cx="3311640" cy="1944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302520" y="5373720"/>
            <a:ext cx="1028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сом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900000" y="1413000"/>
            <a:ext cx="3816360" cy="1944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844720" y="2852640"/>
            <a:ext cx="11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щ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 rot="9343800">
            <a:off x="6300720" y="907920"/>
            <a:ext cx="2160720" cy="115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332000" y="1052640"/>
            <a:ext cx="396072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верь себ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2133720"/>
            <a:ext cx="7796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Выхухоль – это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5440" y="2637000"/>
            <a:ext cx="145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) цвет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5800" y="314172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) зверё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6880" y="3573360"/>
            <a:ext cx="28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) название гор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4076640"/>
            <a:ext cx="801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.  Какое другое название имеет выхухоль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4520" y="4581360"/>
            <a:ext cx="184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) хохлуш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4520" y="5013360"/>
            <a:ext cx="177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) хохлат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5240" y="5445000"/>
            <a:ext cx="149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) хох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55640" y="4653000"/>
            <a:ext cx="1873440" cy="1655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38360" y="625320"/>
            <a:ext cx="764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. Какое из этих животных русская выхухоль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1187280" y="1197000"/>
            <a:ext cx="3095640" cy="1224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4643280" y="1341360"/>
            <a:ext cx="3816360" cy="3024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900000" y="2565360"/>
            <a:ext cx="3538800" cy="2019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2916360" y="4724280"/>
            <a:ext cx="2719440" cy="1343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5867280" y="4724280"/>
            <a:ext cx="2552760" cy="12556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18160" y="112536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4160" y="1268280"/>
            <a:ext cx="44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9440" y="249228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5080" y="4653000"/>
            <a:ext cx="38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8520" y="4653000"/>
            <a:ext cx="45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059280" y="4581360"/>
            <a:ext cx="2736720" cy="1584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908000" y="981000"/>
            <a:ext cx="489456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256536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Рассказать дома о том, что узнали на урок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Составить и оформить охранную грамоту выхухол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751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1758600">
            <a:off x="6876720" y="549000"/>
            <a:ext cx="1120680" cy="20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826920" y="476280"/>
          <a:ext cx="4321440" cy="6210360"/>
        </p:xfrm>
        <a:graphic>
          <a:graphicData uri="http://schemas.openxmlformats.org/drawingml/2006/table">
            <a:tbl>
              <a:tblPr/>
              <a:tblGrid>
                <a:gridCol w="538200"/>
                <a:gridCol w="542880"/>
                <a:gridCol w="538200"/>
                <a:gridCol w="543240"/>
                <a:gridCol w="539640"/>
                <a:gridCol w="538200"/>
                <a:gridCol w="542880"/>
                <a:gridCol w="53820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023840" y="210348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2520" y="213372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1800" y="263700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1800" y="3141720"/>
            <a:ext cx="37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1800" y="371628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1800" y="422100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1800" y="4724280"/>
            <a:ext cx="37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1800" y="53006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5080" y="3141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5080" y="3645000"/>
            <a:ext cx="41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5080" y="4221000"/>
            <a:ext cx="37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57280" y="476712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53006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62064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800" y="112536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440" y="16286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800" y="213372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61640" y="267984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440" y="3141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371628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1440" y="42210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6160" y="16286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6160" y="220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6160" y="270828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6160" y="3141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7080" y="3716280"/>
            <a:ext cx="35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7080" y="4221000"/>
            <a:ext cx="35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60720" y="371628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61440" y="422100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1800" y="472428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61080" y="53006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60360" y="5805360"/>
            <a:ext cx="35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292720" y="3429000"/>
            <a:ext cx="3311640" cy="2557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292720" y="342900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292720" y="342900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50040" y="2997360"/>
            <a:ext cx="2920680" cy="3024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5435640" y="2997360"/>
            <a:ext cx="2855880" cy="3240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65800" y="3141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6160" y="371628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5800" y="42210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5440" y="472428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5435640" y="2997360"/>
            <a:ext cx="3168720" cy="314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142160" y="26370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41800" y="314172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1800" y="3716280"/>
            <a:ext cx="37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1440" y="4221000"/>
            <a:ext cx="35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2160" y="472428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5292720" y="3500280"/>
            <a:ext cx="3311640" cy="2489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45080" y="2133720"/>
            <a:ext cx="37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5440" y="270828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5080" y="3141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97640" y="36878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5292720" y="3068640"/>
            <a:ext cx="3311640" cy="2557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135240" y="620640"/>
            <a:ext cx="272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ВЫХУХОЛ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8600" y="466560"/>
            <a:ext cx="814536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7704000" cy="5472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85716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ыхухоль – загадочный, малоизученный житель с хобо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едущий полуводный образ жизни. Дошёл до н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з глубокой древности в почти неизменён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иде. Таких животных называют жив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скопаемыми, ровесниками мам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7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1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4360" y="98028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Абсолютно бесшумно - всплывает, высовывае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из-под воды свой “перископчик”, на подводную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лодку  жуть как похожа!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7777080" cy="5616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32000" y="98100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суше выхухоль довольно беспомощна. Зато в воде чувствует себя прекрасно – быстро плавает, хорошо ныр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2160" y="549360"/>
            <a:ext cx="713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Типичные местообитания выхухо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20401200">
            <a:off x="611280" y="691920"/>
            <a:ext cx="4097160" cy="2668320"/>
          </a:xfrm>
          <a:prstGeom prst="irregularSeal1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516800">
            <a:off x="5006520" y="830160"/>
            <a:ext cx="3738600" cy="2737080"/>
          </a:xfrm>
          <a:prstGeom prst="irregularSeal1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9726800">
            <a:off x="1403280" y="1125000"/>
            <a:ext cx="29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екомые и их личинки, черви, пиявки, мелкая рыба, лягушки, моллю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108400">
            <a:off x="5579640" y="1773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невища кубышки, стебли рогоза, тростник, водяная л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37372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ыхухоль умеет справляться даже с двустворчатыми моллюсками, очень прочно замыкающими свои раковины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20:23Z</dcterms:created>
  <dc:creator>Olqa Kruchina</dc:creator>
  <dc:description/>
  <dc:language>en-US</dc:language>
  <cp:lastModifiedBy>Алексей Новоселов</cp:lastModifiedBy>
  <dcterms:modified xsi:type="dcterms:W3CDTF">2009-07-10T05:27:45Z</dcterms:modified>
  <cp:revision>49</cp:revision>
  <dc:subject>Окружающий мир</dc:subject>
  <dc:title>Выхухоль</dc:title>
</cp:coreProperties>
</file>