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1863-64C8-45E3-AD58-D7BFD11244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063B-D201-4DE6-9813-625DC8B166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CBB2-71D2-40BC-8AC2-88E54B8F76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E2C5-7552-4079-96E4-C0F1DF91FC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B81E-271E-4DF1-A090-800BB6E0D3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5A84-7289-4B0A-9C2D-9D58D6369D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632A-8D0E-4795-B52A-F8860254A4E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232B-3B5B-4535-9AEB-AC4467941D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D678-F574-4851-BF24-F985426129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B3E0-8ABC-4707-AC58-1A19386650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7065-F995-4122-89E0-B7D711018B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7B23-86D4-4B04-B5EA-5B6BDD279B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6530-D931-447C-81DA-A4A45FD1C9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6E43-25C5-443F-8C30-3DA4D5D6AB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B10-026C-489A-AD29-D48C161F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545-11BE-4ADB-9341-CD1059C9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469-9138-450B-B34F-38F578AC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081-DF1C-4752-91CD-306C3FB1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30E-3BD7-4235-80D8-955EDC5B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58F-03A3-4A28-96CE-077B87EB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CF6-44DE-448F-B71A-6B52C561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1A1-6662-4160-90B3-12F29B69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84B-040C-48CD-92DE-B093942C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453-3E5B-494F-A42E-0CCA9694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4B7-98D5-400B-B9DB-197F64D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9A9-5BE6-4A1F-A32A-8A151A7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8F12-D3B9-4F35-89B0-5C0C5FA18F5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lder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&#1060;&#1072;&#1081;&#1083;:Fischotter,_Lutra_Lutra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ru.wikipedia.org/wiki/&#1060;&#1072;&#1081;&#1083;:Eagle_Owl_IMG_9203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ru.wikipedia.org/wiki/&#1060;&#1072;&#1081;&#1083;:Zwijntje.JPG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7/Ondatra_zibethicus_FW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" TargetMode="External"/><Relationship Id="rId2" Type="http://schemas.openxmlformats.org/officeDocument/2006/relationships/hyperlink" Target="http://ru.wikipedia.org/wiki/&#1056;&#1091;&#1089;&#1100;" TargetMode="External"/><Relationship Id="rId3" Type="http://schemas.openxmlformats.org/officeDocument/2006/relationships/hyperlink" Target="http://ru.wikipedia.org/wiki/&#1044;&#1091;&#1093;&#1080;_(&#1087;&#1072;&#1088;&#1092;&#1102;&#1084;&#1077;&#1088;&#1080;&#1103;)" TargetMode="External"/><Relationship Id="rId4" Type="http://schemas.openxmlformats.org/officeDocument/2006/relationships/hyperlink" Target="http://ru.wikipedia.org/wiki/&#1041;&#1086;&#1073;&#1088;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20" TargetMode="External"/><Relationship Id="rId2" Type="http://schemas.openxmlformats.org/officeDocument/2006/relationships/hyperlink" Target="http://ru.wikipedia.org/wiki/1957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0" TargetMode="External"/><Relationship Id="rId2" Type="http://schemas.openxmlformats.org/officeDocument/2006/relationships/hyperlink" Target="http://ru.wikipedia.org/wiki/&#1057;&#1057;&#1057;&#1056;" TargetMode="External"/><Relationship Id="rId3" Type="http://schemas.openxmlformats.org/officeDocument/2006/relationships/hyperlink" Target="http://ru.wikipedia.org/wiki/&#1056;&#1057;&#1060;&#1057;&#1056;" TargetMode="External"/><Relationship Id="rId4" Type="http://schemas.openxmlformats.org/officeDocument/2006/relationships/hyperlink" Target="http://ru.wikipedia.org/wiki/&#1050;&#1072;&#1079;&#1072;&#1093;&#1089;&#1090;&#1072;&#1085;" TargetMode="External"/><Relationship Id="rId5" Type="http://schemas.openxmlformats.org/officeDocument/2006/relationships/hyperlink" Target="http://ru.wikipedia.org/wiki/&#1059;&#1082;&#1088;&#1072;&#1080;&#1085;&#1072;" TargetMode="External"/><Relationship Id="rId6" Type="http://schemas.openxmlformats.org/officeDocument/2006/relationships/hyperlink" Target="http://ru.wikipedia.org/wiki/&#1041;&#1077;&#1083;&#1086;&#1088;&#1091;&#1089;&#1089;&#1080;&#1103;" TargetMode="External"/><Relationship Id="rId7" Type="http://schemas.openxmlformats.org/officeDocument/2006/relationships/hyperlink" Target="http://ru.wikipedia.org/wiki/&#1056;&#1086;&#1089;&#1089;&#1080;&#1103;" TargetMode="External"/><Relationship Id="rId8" Type="http://schemas.openxmlformats.org/officeDocument/2006/relationships/hyperlink" Target="http://ru.wikipedia.org/wiki/&#1050;&#1072;&#1079;&#1072;&#1093;&#1089;&#1090;&#1072;&#1085;" TargetMode="External"/><Relationship Id="rId9" Type="http://schemas.openxmlformats.org/officeDocument/2006/relationships/hyperlink" Target="http://ru.wikipedia.org/wiki/&#1042;&#1086;&#1083;&#1075;&#1072;_(&#1088;&#1077;&#1082;&#1072;)" TargetMode="External"/><Relationship Id="rId10" Type="http://schemas.openxmlformats.org/officeDocument/2006/relationships/hyperlink" Target="http://ru.wikipedia.org/wiki/&#1044;&#1086;&#1085;_(&#1088;&#1077;&#1082;&#1072;_&#1074;_&#1056;&#1086;&#1089;&#1089;&#1080;&#1080;)" TargetMode="External"/><Relationship Id="rId11" Type="http://schemas.openxmlformats.org/officeDocument/2006/relationships/hyperlink" Target="http://ru.wikipedia.org/wiki/&#1044;&#1085;&#1077;&#1087;&#1088;_(&#1088;&#1077;&#1082;&#1072;)" TargetMode="External"/><Relationship Id="rId12" Type="http://schemas.openxmlformats.org/officeDocument/2006/relationships/hyperlink" Target="http://ru.wikipedia.org/wiki/&#1059;&#1088;&#1072;&#1083;_(&#1088;&#1077;&#1082;&#1072;)" TargetMode="External"/><Relationship Id="rId13" Type="http://schemas.openxmlformats.org/officeDocument/2006/relationships/hyperlink" Target="http://ru.wikipedia.org/wiki/&#1054;&#1073;&#1100;_(&#1088;&#1077;&#1082;&#1072;)" TargetMode="External"/><Relationship Id="rId14" Type="http://schemas.openxmlformats.org/officeDocument/2006/relationships/hyperlink" Target="http://ru.wikipedia.org/wiki/&#1050;&#1091;&#1088;&#1075;&#1072;&#1085;&#1089;&#1082;&#1072;&#1103;_&#1086;&#1073;&#1083;&#1072;&#1089;&#1090;&#1100;" TargetMode="External"/><Relationship Id="rId15" Type="http://schemas.openxmlformats.org/officeDocument/2006/relationships/hyperlink" Target="http://ru.wikipedia.org/wiki/&#1058;&#1086;&#1084;&#1089;&#1082;&#1072;&#1103;_&#1086;&#1073;&#1083;&#1072;&#1089;&#1090;&#1100;" TargetMode="External"/><Relationship Id="rId16" Type="http://schemas.openxmlformats.org/officeDocument/2006/relationships/hyperlink" Target="http://ru.wikipedia.org/wiki/&#1053;&#1086;&#1074;&#1086;&#1089;&#1080;&#1073;&#1080;&#1088;&#1089;&#1082;&#1072;&#1103;_&#1086;&#1073;&#1083;&#1072;&#1089;&#1090;&#1100;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2;&#1089;&#1085;&#1072;&#1103;_&#1082;&#1085;&#1080;&#1075;&#1072;_&#1056;&#1086;&#1089;&#1089;&#1080;&#1081;&#1089;&#1082;&#1086;&#1081;_&#1060;&#1077;&#1076;&#1077;&#1088;&#1072;&#1094;&#1080;&#1080;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86;&#1074;&#1086;&#1076;&#1100;&#1077;" TargetMode="External"/><Relationship Id="rId2" Type="http://schemas.openxmlformats.org/officeDocument/2006/relationships/hyperlink" Target="http://ru.wikipedia.org/wiki/&#1055;&#1086;&#1081;&#1084;&#1072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8;&#1085;&#1086;&#1089;&#1090;&#1072;&#1081;" TargetMode="External"/><Relationship Id="rId2" Type="http://schemas.openxmlformats.org/officeDocument/2006/relationships/hyperlink" Target="http://ru.wikipedia.org/wiki/&#1061;&#1086;&#1088;&#1100;&#1082;&#1080;" TargetMode="External"/><Relationship Id="rId3" Type="http://schemas.openxmlformats.org/officeDocument/2006/relationships/hyperlink" Target="http://ru.wikipedia.org/wiki/&#1042;&#1099;&#1076;&#1088;&#1072;" TargetMode="External"/><Relationship Id="rId4" Type="http://schemas.openxmlformats.org/officeDocument/2006/relationships/hyperlink" Target="http://ru.wikipedia.org/wiki/&#1051;&#1080;&#1089;&#1080;&#1094;&#1072;" TargetMode="External"/><Relationship Id="rId5" Type="http://schemas.openxmlformats.org/officeDocument/2006/relationships/hyperlink" Target="http://ru.wikipedia.org/wiki/&#1057;&#1086;&#1073;&#1072;&#1082;&#1072;" TargetMode="External"/><Relationship Id="rId6" Type="http://schemas.openxmlformats.org/officeDocument/2006/relationships/hyperlink" Target="http://ru.wikipedia.org/wiki/&#1050;&#1086;&#1096;&#1082;&#1072;" TargetMode="External"/><Relationship Id="rId7" Type="http://schemas.openxmlformats.org/officeDocument/2006/relationships/hyperlink" Target="http://ru.wikipedia.org/wiki/&#1051;&#1091;&#1085;&#1080;" TargetMode="External"/><Relationship Id="rId8" Type="http://schemas.openxmlformats.org/officeDocument/2006/relationships/hyperlink" Target="http://ru.wikipedia.org/wiki/&#1050;&#1086;&#1088;&#1096;&#1091;&#1085;&#1099;" TargetMode="External"/><Relationship Id="rId9" Type="http://schemas.openxmlformats.org/officeDocument/2006/relationships/hyperlink" Target="http://ru.wikipedia.org/wiki/&#1057;&#1082;&#1086;&#1087;&#1072;" TargetMode="External"/><Relationship Id="rId10" Type="http://schemas.openxmlformats.org/officeDocument/2006/relationships/hyperlink" Target="http://ru.wikipedia.org/wiki/&#1041;&#1077;&#1088;&#1082;&#1091;&#1090;" TargetMode="External"/><Relationship Id="rId11" Type="http://schemas.openxmlformats.org/officeDocument/2006/relationships/hyperlink" Target="http://ru.wikipedia.org/w/index.php?title=&#1055;&#1086;&#1076;&#1086;&#1088;&#1083;&#1080;&#1082;&#1080;&amp;action=edit&amp;redlink=1" TargetMode="External"/><Relationship Id="rId12" Type="http://schemas.openxmlformats.org/officeDocument/2006/relationships/hyperlink" Target="http://ru.wikipedia.org/wiki/&#1060;&#1080;&#1083;&#1080;&#1085;&#1099;" TargetMode="External"/><Relationship Id="rId13" Type="http://schemas.openxmlformats.org/officeDocument/2006/relationships/hyperlink" Target="http://ru.wikipedia.org/wiki/&#1053;&#1077;&#1103;&#1089;&#1099;&#1090;&#1080;" TargetMode="External"/><Relationship Id="rId14" Type="http://schemas.openxmlformats.org/officeDocument/2006/relationships/hyperlink" Target="http://ru.wikipedia.org/wiki/&#1057;&#1077;&#1088;&#1072;&#1103;_&#1074;&#1086;&#1088;&#1086;&#1085;&#1072;" TargetMode="External"/><Relationship Id="rId15" Type="http://schemas.openxmlformats.org/officeDocument/2006/relationships/hyperlink" Target="http://ru.wikipedia.org/wiki/&#1057;&#1086;&#1088;&#1086;&#1082;&#1072;_(&#1087;&#1090;&#1080;&#1094;&#1072;)" TargetMode="External"/><Relationship Id="rId16" Type="http://schemas.openxmlformats.org/officeDocument/2006/relationships/hyperlink" Target="http://ru.wikipedia.org/wiki/&#1065;&#1091;&#1082;&#1080;" TargetMode="External"/><Relationship Id="rId17" Type="http://schemas.openxmlformats.org/officeDocument/2006/relationships/hyperlink" Target="http://ru.wikipedia.org/wiki/&#1057;&#1086;&#1084;" TargetMode="External"/><Relationship Id="rId18" Type="http://schemas.openxmlformats.org/officeDocument/2006/relationships/hyperlink" Target="http://ru.wikipedia.org/wiki/&#1050;&#1072;&#1073;&#1072;&#1085;" TargetMode="External"/><Relationship Id="rId19" Type="http://schemas.openxmlformats.org/officeDocument/2006/relationships/hyperlink" Target="http://ru.wikipedia.org/wiki/&#1048;&#1085;&#1090;&#1088;&#1086;&#1076;&#1091;&#1094;&#1080;&#1088;&#1086;&#1074;&#1072;&#1085;&#1085;&#1099;&#1081;_&#1074;&#1080;&#1076;" TargetMode="External"/><Relationship Id="rId20" Type="http://schemas.openxmlformats.org/officeDocument/2006/relationships/hyperlink" Target="http://ru.wikipedia.org/wiki/&#1048;&#1085;&#1090;&#1088;&#1086;&#1076;&#1091;&#1094;&#1080;&#1088;&#1086;&#1074;&#1072;&#1085;&#1085;&#1099;&#1081;_&#1074;&#1080;&#1076;" TargetMode="External"/><Relationship Id="rId21" Type="http://schemas.openxmlformats.org/officeDocument/2006/relationships/hyperlink" Target="http://ru.wikipedia.org/wiki/&#1040;&#1084;&#1077;&#1088;&#1080;&#1082;&#1072;&#1085;&#1089;&#1082;&#1072;&#1103;_&#1085;&#1086;&#1088;&#1082;&#1072;" TargetMode="External"/><Relationship Id="rId22" Type="http://schemas.openxmlformats.org/officeDocument/2006/relationships/hyperlink" Target="http://ru.wikipedia.org/wiki/&#1054;&#1085;&#1076;&#1072;&#1090;&#1088;&#1072;" TargetMode="Externa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461440" cy="2090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28800" y="278568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Выхухоль: символ русской природы в опасности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0" name="Picture 2" descr="C:\Documents and Settings\старыйпес\Рабочий стол\vixuxol_!.gif"/>
          <p:cNvPicPr/>
          <p:nvPr/>
        </p:nvPicPr>
        <p:blipFill>
          <a:blip r:embed="rId2"/>
          <a:srcRect l="10004" t="7063" r="0" b="4684"/>
          <a:stretch/>
        </p:blipFill>
        <p:spPr>
          <a:xfrm>
            <a:off x="5715000" y="5572080"/>
            <a:ext cx="1357200" cy="1285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1" name="Picture 2" descr="C:\Documents and Settings\старыйпес\Рабочий стол\vixuxol_!.gif"/>
          <p:cNvPicPr/>
          <p:nvPr/>
        </p:nvPicPr>
        <p:blipFill>
          <a:blip r:embed="rId3"/>
          <a:srcRect l="10004" t="7063" r="0" b="4684"/>
          <a:stretch/>
        </p:blipFill>
        <p:spPr>
          <a:xfrm>
            <a:off x="6929280" y="5929200"/>
            <a:ext cx="928800" cy="9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2" name="Picture 2" descr="C:\Documents and Settings\старыйпес\Рабочий стол\vixuxol_!.gif"/>
          <p:cNvPicPr/>
          <p:nvPr/>
        </p:nvPicPr>
        <p:blipFill>
          <a:blip r:embed="rId4"/>
          <a:srcRect l="10004" t="7063" r="0" b="4684"/>
          <a:stretch/>
        </p:blipFill>
        <p:spPr>
          <a:xfrm>
            <a:off x="7643880" y="6072120"/>
            <a:ext cx="85716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старыйпес\Рабочий стол\vixuxol_!.gif"/>
          <p:cNvPicPr/>
          <p:nvPr/>
        </p:nvPicPr>
        <p:blipFill>
          <a:blip r:embed="rId5"/>
          <a:srcRect l="10004" t="7063" r="0" b="4684"/>
          <a:stretch/>
        </p:blipFill>
        <p:spPr>
          <a:xfrm>
            <a:off x="8286840" y="6286680"/>
            <a:ext cx="571320" cy="571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4" name="Picture 2" descr="C:\Documents and Settings\старыйпес\Рабочий стол\vixuxol_!.gif"/>
          <p:cNvPicPr/>
          <p:nvPr/>
        </p:nvPicPr>
        <p:blipFill>
          <a:blip r:embed="rId6"/>
          <a:srcRect l="10004" t="7063" r="0" b="4684"/>
          <a:stretch/>
        </p:blipFill>
        <p:spPr>
          <a:xfrm>
            <a:off x="8786880" y="6500880"/>
            <a:ext cx="357120" cy="357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5" name="Picture 2" descr="Ровесник мамонта оказался в плачевном состоянии (фото: parkugra.forest.ru)"/>
          <p:cNvPicPr/>
          <p:nvPr/>
        </p:nvPicPr>
        <p:blipFill>
          <a:blip r:embed="rId7"/>
          <a:stretch/>
        </p:blipFill>
        <p:spPr>
          <a:xfrm>
            <a:off x="5168880" y="115920"/>
            <a:ext cx="383544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5943600"/>
            <a:ext cx="837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eeff"/>
                </a:solidFill>
                <a:latin typeface="Consolas"/>
              </a:rPr>
              <a:t>1. Хорек 2.Выдра 3.Филин 4.Кабан</a:t>
            </a:r>
            <a:br>
              <a:rPr sz="20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olas"/>
              </a:rPr>
              <a:t>Они угроза для маленького зверька!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6" name="Picture 2" descr="Mustela putor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357120"/>
            <a:ext cx="3585960" cy="227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Выдр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7840" y="357120"/>
            <a:ext cx="3571920" cy="24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Филин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307188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Дикий кабан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29120" y="3071880"/>
            <a:ext cx="3429000" cy="2408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eeff"/>
                </a:solidFill>
                <a:latin typeface="Consolas"/>
              </a:rPr>
              <a:t>Некоторые ученые утверждают, что выхухоль вытесняется из водоемов и прямо уничтожается ондатрой.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14680" y="58575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Ондатра. В послевоенные годы завезенная из Америки ондатра вытеснила выхухоль из многих водоемов, но сейчас, по некоторым наблюдениям, эти два вида постепенно "научились" уживаться друг с другом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2" name="Picture 2" descr="Файл:Ondatra zibethicus FW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1928880"/>
            <a:ext cx="6624720" cy="3643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eeff"/>
                </a:solidFill>
                <a:latin typeface="Consolas"/>
              </a:rPr>
              <a:t>Основными причинами сокращения численности этого зверька являются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загрязнение водоемов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уничтожение водной растительности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разрушение нор скотом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движение на моторных лодках, влекущих обрушивание берегов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гидромелиоративные мероприятия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браконьерство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а также вытеснение ее ондатрой и чёрной американской норк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Хозяйственное знач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680" y="1784160"/>
            <a:ext cx="83581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rbel"/>
              </a:rPr>
              <a:t>В прошлом выхухоль являлась ценным промысловым видом. До третьей четверти </a:t>
            </a:r>
            <a:r>
              <a:rPr b="0" lang="en-US" sz="31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XVII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Corbel"/>
              </a:rPr>
              <a:t> века её добывали исключительно из-за мускусного запаха. На </a:t>
            </a:r>
            <a:r>
              <a:rPr b="0" lang="en-US" sz="31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Руси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Corbel"/>
              </a:rPr>
              <a:t> высушенными выхухолевыми хвостами перекладывали бельё; позднее секрет её мускусных желез стал применяться в парфюмерии как закрепитель запаха </a:t>
            </a:r>
            <a:r>
              <a:rPr b="0" lang="en-US" sz="31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духов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Corbel"/>
              </a:rPr>
              <a:t>. Только позднее выхухолей стали добывать ради меха, причём он ценился выше </a:t>
            </a:r>
            <a:r>
              <a:rPr b="0" lang="en-US" sz="31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бобрового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Corbe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512640"/>
            <a:ext cx="8258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Меры охраны маленького зверь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400" y="178452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57480" indent="-29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апрет на добычу выхухоли был объявлен советским правительством в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1920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году и действовал более 20 лет. За это время численность выхухолей заметно увеличилась, и добыча вновь была разрешена. Однако в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1957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году её снова запретили, за исключением отлова зверьков для расселения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7480" indent="-29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Росси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неоднократно предпринимались меры по охране и восстановлению популяции выхухолей. С 1929 по 1999 г. было расселено более 10 000 особей, в том числе в Новосибирской (р. Тортас) и Томской (р. Таган) областях, где раньше выхухолей не водилось. Были созданы 4 заповедника и 80 заказников федерального и местного значения, где сосредоточено более 30 % от общего числа животных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7480" indent="-298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785880" y="107172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 осени 2000 г. Центр охраны дикой природы при финансовой поддержке Фонда национальных парков осуществляет проект 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«Сохраним русскую выхухоль»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священный оценке современного состояния популяции выхухоли и разработке мер её сохран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olas"/>
              </a:rPr>
              <a:t>Сохраним русскую выхухо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0_bd67_95ae3398_L"/>
          <p:cNvPicPr/>
          <p:nvPr/>
        </p:nvPicPr>
        <p:blipFill>
          <a:blip r:embed="rId2"/>
          <a:stretch/>
        </p:blipFill>
        <p:spPr>
          <a:xfrm>
            <a:off x="743040" y="1474920"/>
            <a:ext cx="80103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999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olas"/>
              </a:rPr>
              <a:t>Сохраним русскую выхухо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71640" y="1268280"/>
            <a:ext cx="77724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Выхухоль -  животное реликтово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Выхухоль  - эндемик Росс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Обитает выхухоль и в нашей Тамбовской област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Этот зверёк в опасност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Нужно принять все меры, чтобы и без того обедневшая природа не лишилась ещё одного достояния – русской выхухол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О проблемах русской выхухоли на ТАМБОВЩИНЕ речь пойдёт в следующем фильм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Мало кто знает, что единственным млекопитающим, в официальном названии которого фигурирует сло-во «</a:t>
            </a:r>
            <a:r>
              <a:rPr b="1" lang="ru-RU" sz="2800" spc="-1" strike="noStrike">
                <a:solidFill>
                  <a:srgbClr val="007eea"/>
                </a:solidFill>
                <a:latin typeface="Consolas"/>
              </a:rPr>
              <a:t>русская</a:t>
            </a: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», является </a:t>
            </a:r>
            <a:r>
              <a:rPr b="1" lang="ru-RU" sz="2800" spc="-1" strike="noStrike">
                <a:solidFill>
                  <a:srgbClr val="007eea"/>
                </a:solidFill>
                <a:latin typeface="Consolas"/>
              </a:rPr>
              <a:t>выхухоль</a:t>
            </a: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. Это небольшой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зверек, который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является одним из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древнейших млекопи-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тающих, живущих в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Евразии еще со вре-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мен мамонтов.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 Она выглядит, как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небольшая крыса с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длинным носом,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похожим на хобот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" name="Дуга 3"/>
          <p:cNvSpPr/>
          <p:nvPr/>
        </p:nvSpPr>
        <p:spPr>
          <a:xfrm>
            <a:off x="6286680" y="3571920"/>
            <a:ext cx="914400" cy="914400"/>
          </a:xfrm>
          <a:prstGeom prst="pie">
            <a:avLst/>
          </a:prstGeom>
          <a:noFill/>
          <a:ln w="118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C:\Documents and Settings\старыйпес\Рабочий стол\vixuxol_!.gif"/>
          <p:cNvPicPr/>
          <p:nvPr/>
        </p:nvPicPr>
        <p:blipFill>
          <a:blip r:embed="rId1"/>
          <a:stretch/>
        </p:blipFill>
        <p:spPr>
          <a:xfrm>
            <a:off x="4427640" y="1989000"/>
            <a:ext cx="4467240" cy="452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хухоль - ровесник мамонта, и несколько миллионов лет назад населяла практически все речки, пойменные озера Европы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ейчас же этот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верек стал факти-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ески эндемиком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сии, хотя в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чень небольшо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личестве выху-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холь живет в Каза-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хстане, Украине и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елорусси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" name="Picture 2" descr="ВЫХУХОЛЬ"/>
          <p:cNvPicPr/>
          <p:nvPr/>
        </p:nvPicPr>
        <p:blipFill>
          <a:blip r:embed="rId1"/>
          <a:stretch/>
        </p:blipFill>
        <p:spPr>
          <a:xfrm>
            <a:off x="3708360" y="1413000"/>
            <a:ext cx="51894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57120" y="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егодня положени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ее плачевное: по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равнению с 70-ми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годами численност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русской выхухоли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ократилась в дв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раза, а за последни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0 лет ее стало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меньше на порядок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то есть в 10 раз!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По данным последних учетов сейчас в России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rbel"/>
              </a:rPr>
              <a:t>осталось около 25 тысяч особей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-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rbel"/>
              </a:rPr>
              <a:t>для маленького зверька это очень мало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" name="Picture 2" descr="Ровесник мамонта оказался в плачевном состоянии (фото: parkugra.forest.ru)"/>
          <p:cNvPicPr/>
          <p:nvPr/>
        </p:nvPicPr>
        <p:blipFill>
          <a:blip r:embed="rId1"/>
          <a:stretch/>
        </p:blipFill>
        <p:spPr>
          <a:xfrm>
            <a:off x="3924360" y="260280"/>
            <a:ext cx="521964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Численность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Учёт численности выхухоли на больших территориях весьма сложен, а в последние годы практически прекращен, поэтому судить о её численности сложно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К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1970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 г.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СССР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обитало более 70 000 выхухолей: из них 69 000 особей приходилось на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РСФСР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, 1 500 особей — на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Казахстан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; на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Украине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и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Белорусс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они исчислялись единицами. В начале 90-х гг. численность на территории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7"/>
              </a:rPr>
              <a:t>Росс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упала до 40 000 особей, и ещё 2 000 особей проживало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8"/>
              </a:rPr>
              <a:t>Казахстане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. Сейчас численность вида в России по экспертной оценке составляет около 35 000 особей, сосредоточенных в основном в бассейнах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9"/>
              </a:rPr>
              <a:t>Волг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 — 20 000 зверьков, и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0"/>
              </a:rPr>
              <a:t>Дон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 — 10 000 зверьков. Около 2 000 выхухолей обитает в бассейне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1"/>
              </a:rPr>
              <a:t>Днепр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. В бассейне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2"/>
              </a:rPr>
              <a:t>Урал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они немногочисленны. В бассейне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3"/>
              </a:rPr>
              <a:t>Об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зверёк появился благодаря искусственному расселению и в настоящее время наиболее многочислен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4"/>
              </a:rPr>
              <a:t>Курганской област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(2 000 особей) и весьма редок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5"/>
              </a:rPr>
              <a:t>Томской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и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6"/>
              </a:rPr>
              <a:t>Новосибирской областях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, где его численность упала из-за высоких паводков и слабой охраны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Статус популяции и охрана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хухоль — редкий эндемичный вид, занесенный в </a:t>
            </a: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Красную книгу России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 категорией 2: сокращающийся в численности редкий реликтовый ви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" name="Picture 2" descr="Ровесник мамонта оказался в плачевном состоянии (фото: parkugra.forest.ru)"/>
          <p:cNvPicPr/>
          <p:nvPr/>
        </p:nvPicPr>
        <p:blipFill>
          <a:blip r:embed="rId2"/>
          <a:stretch/>
        </p:blipFill>
        <p:spPr>
          <a:xfrm>
            <a:off x="5383080" y="3687840"/>
            <a:ext cx="3876840" cy="330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ВЫХУХОЛЬ"/>
          <p:cNvPicPr/>
          <p:nvPr/>
        </p:nvPicPr>
        <p:blipFill>
          <a:blip r:embed="rId3"/>
          <a:stretch/>
        </p:blipFill>
        <p:spPr>
          <a:xfrm>
            <a:off x="244440" y="3687840"/>
            <a:ext cx="3443400" cy="330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Лимитирующие факторы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680" y="1285560"/>
            <a:ext cx="811512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Ареал выхухоли невелик, поскольку благоприятных для неё водоёмов мало. К естественным факторам, отрицательно влияющим на её численность, относятся длительные зимние паводки и высокое </a:t>
            </a: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половодье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. При зимних подъёмах воды норы выхухолей затапливаются, и они тонут. Засушливым летом </a:t>
            </a: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пойменные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 водоёмы мелеют и пересыхают, и выхухолям приходится искать новое место жительств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3929040"/>
            <a:ext cx="88581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Для житья ей подходят маленькие речки с тихим течением и лесистыми поймами. Но незатронутых пойм становится все меньше, берега распахиваются и застраиваются. Осушение болот и вырубка лесов нарушают гидрологический режим, речки пересыхают и мелеют. В обмелевшем водоеме выхухоли жить плохо, хотя бы потому, что он промерзает зимой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3" name="Picture 2" descr="http://www.biodiversity.ru/publications/press/press2001/vychuh1.jpg"/>
          <p:cNvPicPr/>
          <p:nvPr/>
        </p:nvPicPr>
        <p:blipFill>
          <a:blip r:embed="rId1"/>
          <a:stretch/>
        </p:blipFill>
        <p:spPr>
          <a:xfrm>
            <a:off x="1743120" y="-96840"/>
            <a:ext cx="5572080" cy="36687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14240" y="714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6960" indent="-280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 земле выхухоли из-за слабого зрения и медлительности практически беззащитны, хотя хищники редко едят их из-за сильного мускусного запаха. На них иногда нападают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горноста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хорьк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выдр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лисиц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бродячие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собак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кошк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; из птиц —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7"/>
              </a:rPr>
              <a:t>болотный лунь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8"/>
              </a:rPr>
              <a:t>чёрный коршун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9"/>
              </a:rPr>
              <a:t>скоп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0"/>
              </a:rPr>
              <a:t>беркут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1"/>
              </a:rPr>
              <a:t>большой подорлик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2"/>
              </a:rPr>
              <a:t>филин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3"/>
              </a:rPr>
              <a:t>серая неясыть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даже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4"/>
              </a:rPr>
              <a:t>серая ворон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5"/>
              </a:rPr>
              <a:t>сорок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 Под водой на них охотятся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6"/>
              </a:rPr>
              <a:t>щук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и крупные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7"/>
              </a:rPr>
              <a:t>сом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 Вредят выхухолям также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8"/>
              </a:rPr>
              <a:t>кабан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разрывающие землю, и даже пасущийся скот. Но наибольшее давление на них оказывают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9"/>
              </a:rPr>
              <a:t>интродуцированные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0"/>
              </a:rPr>
              <a:t> вид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 —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1"/>
              </a:rPr>
              <a:t>американская норк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2"/>
              </a:rPr>
              <a:t>ондатр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; последняя активно вытесняет выхухоль, занимая её норы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3:44:28Z</dcterms:created>
  <dc:creator>user</dc:creator>
  <dc:description/>
  <dc:language>en-US</dc:language>
  <cp:lastModifiedBy>Хошенко А.В.</cp:lastModifiedBy>
  <dcterms:modified xsi:type="dcterms:W3CDTF">2009-01-16T10:21:15Z</dcterms:modified>
  <cp:revision>44</cp:revision>
  <dc:subject/>
  <dc:title>Факторы угрозы исчезновения выхухоли</dc:title>
</cp:coreProperties>
</file>