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C8C7-F61F-4651-B1C5-7192B633C2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3C43-8710-4385-AF7D-B84F974CD9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21E7-1529-4417-87E6-1810811143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B359-3184-4888-A2D0-370309747A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F896-4AE0-4745-9319-F23F53F1B4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BCB4-C882-4FBF-B6AC-9EC1B71F10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6DD0-FCDE-4A42-BD75-B82762315B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D458-F935-4A28-B947-302698D934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7FF6-490A-4C71-A119-2A20176FDF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7A9E-9442-4B45-843A-C87C917F1D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3FFA-1BE4-4950-9EB2-C29E41A8CD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D0F7-222F-41D8-AC0D-0A6075BB9D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882A-16AC-4A43-AB9E-D54DB0E713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000C-0F5E-4533-A18A-E63E6AE335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2B40-1B55-4FE8-A99E-D7B2385683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DB32-6D7D-42EB-BFAF-51E4D89D33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930D-FB58-4450-AD69-6A6BA8BEEE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51E6-890E-4154-A107-BE440D7882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B82A-F1D8-4E73-A7ED-AB6F95B9D5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D6EE-1F36-4105-AF66-F909693DD8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9FFB-DAA0-4DFE-A53A-49AE9D0579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08F-2B49-4700-B9BA-C42DDE5A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537-A057-40C0-955A-18D8E3E9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EA6D-307E-41CC-B47A-7DCD5DA1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930-B7CB-4048-A4D7-C1114D56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3E12-4E63-46ED-A66A-711CE976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F042-45F1-4CF7-A14E-668FCEDA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BBEA-3825-41D2-84A6-F66BC0A1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2D59-DE24-494F-9C56-A1869BD4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FE70-E08D-486C-A6C2-731E724D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3BC6-5B0D-4C0D-8607-D6D54F83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BEC0-53D7-4A97-87C3-677BD83F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1889-AA7E-4610-9B33-2A6B575D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42C5-C132-4FD1-97BE-507C5EC7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4DB9-5A6C-4384-A7AF-0B7FFBC4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2774-E724-41D0-8B95-0D81FDD1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DFCD-27F1-47D1-9EE7-98E962C0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C00E-C1F5-4BD7-BC60-D7631ADF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A8A7-8AC8-4D27-9C84-DCFCB327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879-A3CC-4EE8-9463-6AB5EF8A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3EF-8CF3-494A-9553-7346A927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62A8-EE69-48FE-955A-AF442BF7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7E8D-1AA7-450D-AFD7-5489105A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539-C57D-40A0-904E-0EC861F9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A431-B574-4320-8242-1F963B9D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6644-26FA-4E61-944A-6F6BDEDE86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6068-E9BD-4125-8B6C-81B33F9A59D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../../wiki/%25D0%259F%25D0%25BE%25D0%25B9%25D0%25BC%25D0%25B0" TargetMode="External"/><Relationship Id="rId2" Type="http://schemas.openxmlformats.org/officeDocument/2006/relationships/hyperlink" Target="file:///../../../wiki/%25D0%2592%25D0%25BE%25D0%25B4%25D0%25BE%25D1%2591%25D0%25BC" TargetMode="External"/><Relationship Id="rId3" Type="http://schemas.openxmlformats.org/officeDocument/2006/relationships/hyperlink" Target="file:///../../../wiki/%25D0%25A1%25D1%2582%25D0%25B0%25D1%2580%25D0%25B8%25D1%2586%25D0%25B0_(%25D1%2580%25D1%2583%25D1%2581%25D0%25BB%25D0%25BE)" TargetMode="External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../../wiki/%25D0%2591%25D1%2580%25D1%258E%25D1%2585%25D0%25BE%25D0%25BD%25D0%25BE%25D0%25B3%25D0%25B8%25D0%25B5" TargetMode="External"/><Relationship Id="rId2" Type="http://schemas.openxmlformats.org/officeDocument/2006/relationships/hyperlink" Target="file:///../../../wiki/%25D0%259D%25D0%25B0%25D1%2581%25D0%25B5%25D0%25BA%25D0%25BE%25D0%25BC%25D1%258B%25D0%25B5" TargetMode="External"/><Relationship Id="rId3" Type="http://schemas.openxmlformats.org/officeDocument/2006/relationships/hyperlink" Target="file:///../../../wiki/%25D0%25A0%25D1%2583%25D1%2587%25D0%25B5%25D0%25B9%25D0%25BD%25D0%25B8%25D0%25BA%25D0%25B8" TargetMode="External"/><Relationship Id="rId4" Type="http://schemas.openxmlformats.org/officeDocument/2006/relationships/hyperlink" Target="file:///../../../w/index.php%3Ftitle=%25D0%25A0%25D0%25B0%25D0%25B4%25D1%2583%25D0%25B6%25D0%25BD%25D0%25B8%25D1%2586%25D1%258B&amp;action=edit&amp;redlink=1" TargetMode="External"/><Relationship Id="rId5" Type="http://schemas.openxmlformats.org/officeDocument/2006/relationships/hyperlink" Target="file:///../../../wiki/%25D0%259F%25D0%25B8%25D1%258F%25D0%25B2%25D0%25BA%25D0%25B8" TargetMode="External"/><Relationship Id="rId6" Type="http://schemas.openxmlformats.org/officeDocument/2006/relationships/hyperlink" Target="file:///../../../wiki/%25D0%25A0%25D1%258B%25D0%25B1%25D1%258B" TargetMode="External"/><Relationship Id="rId7" Type="http://schemas.openxmlformats.org/officeDocument/2006/relationships/hyperlink" Target="file:///../../../wiki/%25D0%25A1%25D1%2582%25D1%2580%25D0%25B5%25D0%25BB%25D0%25BE%25D0%25BB%25D0%25B8%25D1%2581%25D1%2582" TargetMode="External"/><Relationship Id="rId8" Type="http://schemas.openxmlformats.org/officeDocument/2006/relationships/hyperlink" Target="file:///../../../w/index.php%3Ftitle=%25D0%2595%25D0%25B6%25D0%25B5%25D0%25B3%25D0%25BE%25D0%25BB%25D0%25BE%25D0%25B2%25D0%25BD%25D0%25B8%25D0%25BA&amp;action=edit&amp;redlink=1" TargetMode="External"/><Relationship Id="rId9" Type="http://schemas.openxmlformats.org/officeDocument/2006/relationships/hyperlink" Target="file:///../../../wiki/%25D0%25A0%25D0%25BE%25D0%25B3%25D0%25BE%25D0%25B7" TargetMode="External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4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../wiki/%25D0%2595%25D0%25B2%25D1%2580%25D0%25B0%25D0%25B7%25D0%25B8%25D1%258F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../wiki/%25D0%259C%25D1%2583%25D1%2581%25D0%25BA%25D1%2583%25D1%2581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../w/index.php%3Ftitle=%25D0%2596%25D1%2583%25D0%25BA-%25D0%25B2%25D1%258B%25D1%2585%25D1%2583%25D1%2585%25D0%25BE%25D0%25BB%25D0%25B5%25D0%25B2%25D0%25B8%25D0%25BA&amp;action=edit&amp;redlink=1" TargetMode="External"/><Relationship Id="rId2" Type="http://schemas.openxmlformats.org/officeDocument/2006/relationships/image" Target="../media/image9.jpeg"/><Relationship Id="rId3" Type="http://schemas.openxmlformats.org/officeDocument/2006/relationships/hyperlink" Target="file:///../../../w/index.php%3Ftitle=%25D0%2596%25D1%2583%25D0%25BA-%25D0%25B2%25D1%258B%25D1%2585%25D1%2583%25D1%2585%25D0%25BE%25D0%25BB%25D0%25B5%25D0%25B2%25D0%25B8%25D0%25BA&amp;action=edit&amp;redlink=1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Среда обитания и образ жизни русской выхухол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716000" y="4436640"/>
            <a:ext cx="4240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и ученицы 11 «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ломатина Ю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сова Анастас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0_bd67_95ae3398_L"/>
          <p:cNvPicPr/>
          <p:nvPr/>
        </p:nvPicPr>
        <p:blipFill>
          <a:blip r:embed="rId1"/>
          <a:stretch/>
        </p:blipFill>
        <p:spPr>
          <a:xfrm>
            <a:off x="468360" y="3141720"/>
            <a:ext cx="5256000" cy="3405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66963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днее упоминание об обитании русской выхухоли восточнее Уральского хребта относится ко второй половине XIX в.: она отмечалась в 60—120 км южнее г. Екатеринбурга — в Полевской и Метлинской лесных дачах [2]. Проведенное в 1929 г. обследование указанной Л. П. Сабанеевым местности показало, что выхухоль здесь уже не обитает [3]. Более поздние сведения о встречах выхухоли в Челябинской области отсутствуют вплоть до 1950-х гг., когда были начаты работы по ее реакклиматиз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4" descr="онплонг"/>
          <p:cNvPicPr/>
          <p:nvPr/>
        </p:nvPicPr>
        <p:blipFill>
          <a:blip r:embed="rId1"/>
          <a:stretch/>
        </p:blipFill>
        <p:spPr>
          <a:xfrm>
            <a:off x="6012000" y="3141720"/>
            <a:ext cx="1982520" cy="23749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5870520" y="551664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. П. Сабанеев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6" descr="ого"/>
          <p:cNvPicPr/>
          <p:nvPr/>
        </p:nvPicPr>
        <p:blipFill>
          <a:blip r:embed="rId2"/>
          <a:stretch/>
        </p:blipFill>
        <p:spPr>
          <a:xfrm>
            <a:off x="1547640" y="3429000"/>
            <a:ext cx="2881440" cy="2305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ый выпуск животных был осуществлен в 1953 г. на озера Ильменского заповедника. Всего было выпущено 39 выхухолей на озера Большой и Малый Таткуль [4, 5]. Из-за неверной оценки степени пригодности водоемов выхухоль здесь не прижилась [4]. Также неудачным оказался выпуск 122 выхухолей на оз. Аргази в 1964 г. [5]. Выпуск 74 животных в водоемы Октябрьского р-на (1961 г.) поначалу был признан неудачным. Однако позднее выхухоль смогла закрепиться по р. Уй и ее старицам, а затем расселилась ниже по течению р. Уй и далее по рекам Тогузак и Тобол, сформировав к концу 1980-х гг. достаточно многочисленную популяцию в пределах Челябинской и Курганской областей [6—9]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н"/>
          <p:cNvPicPr/>
          <p:nvPr/>
        </p:nvPicPr>
        <p:blipFill>
          <a:blip r:embed="rId1"/>
          <a:stretch/>
        </p:blipFill>
        <p:spPr>
          <a:xfrm>
            <a:off x="611280" y="3500280"/>
            <a:ext cx="2305080" cy="20131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5"/>
          <p:cNvSpPr/>
          <p:nvPr/>
        </p:nvSpPr>
        <p:spPr>
          <a:xfrm>
            <a:off x="1259640" y="551664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. У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6" descr="огнег"/>
          <p:cNvPicPr/>
          <p:nvPr/>
        </p:nvPicPr>
        <p:blipFill>
          <a:blip r:embed="rId2"/>
          <a:stretch/>
        </p:blipFill>
        <p:spPr>
          <a:xfrm>
            <a:off x="6012000" y="3284640"/>
            <a:ext cx="2305080" cy="19126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"/>
          <p:cNvSpPr/>
          <p:nvPr/>
        </p:nvSpPr>
        <p:spPr>
          <a:xfrm>
            <a:off x="6589080" y="53006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.Тоб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8" descr="76г76"/>
          <p:cNvPicPr/>
          <p:nvPr/>
        </p:nvPicPr>
        <p:blipFill>
          <a:blip r:embed="rId3"/>
          <a:stretch/>
        </p:blipFill>
        <p:spPr>
          <a:xfrm>
            <a:off x="3851280" y="3789360"/>
            <a:ext cx="1368360" cy="1727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610920" y="620640"/>
            <a:ext cx="806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сленность. В 1973 г. в Челябинской области по р. Уй насчитывалось до 500 выхухолей [6, 5], в 1976 г., по данным охотинспекции, было учтено около 300 особей [8]. В Курганской области в 1990 г. численность русской выхухоли составляла 2110 особей, в Казахстане по р. Тобол — около 900 особей [10]. Максимальная концентрация выхухоли в Курганской области отмечена на территории Курганского и Прорывинского заказников [9]. В первом численность достигла максимума к середине 1980-х гг., затем начала снижаться; во втором численность выхухоли скачкообразно росла до 1996 г., затем также начала резко снижаться. В настоящее время плотность населения выхухоли в обоих заказниках достигла угрожающе низких значений [11]. В одном из сибирских очагов обитания выхухоли (Обь-Таганское междуречье) она полностью исчезла к началу 1990-х гг. [12]. Современная численность вида в Челябинской области неизвест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45"/>
          <p:cNvPicPr/>
          <p:nvPr/>
        </p:nvPicPr>
        <p:blipFill>
          <a:blip r:embed="rId1"/>
          <a:stretch/>
        </p:blipFill>
        <p:spPr>
          <a:xfrm>
            <a:off x="324000" y="4437000"/>
            <a:ext cx="2232000" cy="2016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ерен"/>
          <p:cNvPicPr/>
          <p:nvPr/>
        </p:nvPicPr>
        <p:blipFill>
          <a:blip r:embed="rId2"/>
          <a:stretch/>
        </p:blipFill>
        <p:spPr>
          <a:xfrm>
            <a:off x="3348000" y="4221000"/>
            <a:ext cx="2295720" cy="1800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жщл"/>
          <p:cNvPicPr/>
          <p:nvPr/>
        </p:nvPicPr>
        <p:blipFill>
          <a:blip r:embed="rId3"/>
          <a:stretch/>
        </p:blipFill>
        <p:spPr>
          <a:xfrm>
            <a:off x="6877080" y="4508640"/>
            <a:ext cx="1905120" cy="1944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2702160" y="-72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спространение выхух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1" descr="Рисунок1"/>
          <p:cNvPicPr/>
          <p:nvPr/>
        </p:nvPicPr>
        <p:blipFill>
          <a:blip r:embed="rId1"/>
          <a:stretch/>
        </p:blipFill>
        <p:spPr>
          <a:xfrm>
            <a:off x="76320" y="531720"/>
            <a:ext cx="8993160" cy="579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раз жиз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-181440" y="836640"/>
            <a:ext cx="6048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хухоль ведёт полуводный образ жизни. Излюбленные места её обитания —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пойменны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водоём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затоны,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стариц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 с площадью водного зеркала 0,1—0,5 га и глубиной 1,3—5 м, с богатой водно-болотной растительностью и облесенными берегами. Рек с быстрым течением она избегает. Большую часть года выхухоль живёт в норах, имеющих выход только под водой. Длина нор в отлогих берегах зачастую превышает 12 м, в крутых она короче — 2—3 м. Основная гнездовая камера обычно расположена под корнями дерева, пня или большого куста. Такое расположение маскирует камеру и защищает её от обвалов. В период половодья норы часто затопляются, и зверьки их покидают, укрываясь на деревьях и в неглубоких временных норах, вырытых на незатопленных участках берега. В водоёмах с сильными колебаниями уровня воды норы многоярусны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180px-Desman-drawing"/>
          <p:cNvPicPr/>
          <p:nvPr/>
        </p:nvPicPr>
        <p:blipFill>
          <a:blip r:embed="rId4"/>
          <a:stretch/>
        </p:blipFill>
        <p:spPr>
          <a:xfrm>
            <a:off x="6084720" y="1484280"/>
            <a:ext cx="2421000" cy="1728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87"/>
          <p:cNvPicPr/>
          <p:nvPr/>
        </p:nvPicPr>
        <p:blipFill>
          <a:blip r:embed="rId5"/>
          <a:stretch/>
        </p:blipFill>
        <p:spPr>
          <a:xfrm>
            <a:off x="1619280" y="4292640"/>
            <a:ext cx="1905120" cy="1422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69"/>
          <p:cNvPicPr/>
          <p:nvPr/>
        </p:nvPicPr>
        <p:blipFill>
          <a:blip r:embed="rId6"/>
          <a:stretch/>
        </p:blipFill>
        <p:spPr>
          <a:xfrm>
            <a:off x="5724360" y="4076640"/>
            <a:ext cx="1905120" cy="165744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0"/>
          <p:cNvSpPr/>
          <p:nvPr/>
        </p:nvSpPr>
        <p:spPr>
          <a:xfrm>
            <a:off x="5219640" y="5877000"/>
            <a:ext cx="28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ипичная нора выхухоли в разрез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1042920" y="5805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ход в нору выхух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том выхухоли живут поодиночке или парами; зимой в одной норе могут собираться до 12—15 разновозрастных зверьков. Выхухоли мигрируют в течение года. Весной при паводках они отселяются из нор в поисках подходящих убежищ. Летом придерживаются одних и тех же мест; но ближе к осени покидают мелкие вымерзающие водоёмы и уходят на зимовку в непромерзающие. Эти переходы составляют от нескольких сот метров до 2 к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4" descr="9"/>
          <p:cNvPicPr/>
          <p:nvPr/>
        </p:nvPicPr>
        <p:blipFill>
          <a:blip r:embed="rId1"/>
          <a:stretch/>
        </p:blipFill>
        <p:spPr>
          <a:xfrm>
            <a:off x="2714760" y="3571920"/>
            <a:ext cx="3571920" cy="3016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ит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632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хухоль всеядна и чрезвычайно прожорлива: за сутки взрослый зверь съедает почти столько же, сколько весит сам. Летом она питается главным образом малоподвижными донными животными: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брюхоногими моллюск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личинками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насекомы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особенно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ручейник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жука-радужниц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пиявк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Зимой существенную прибавку к её рациону составляет мелкая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рыб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растительные корма (клубни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стрелолис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орневища кубышки,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ежеголовни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стебли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рогоз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тростник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4" descr="м"/>
          <p:cNvPicPr/>
          <p:nvPr/>
        </p:nvPicPr>
        <p:blipFill>
          <a:blip r:embed="rId10"/>
          <a:stretch/>
        </p:blipFill>
        <p:spPr>
          <a:xfrm>
            <a:off x="971640" y="4149720"/>
            <a:ext cx="1592280" cy="1297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п"/>
          <p:cNvPicPr/>
          <p:nvPr/>
        </p:nvPicPr>
        <p:blipFill>
          <a:blip r:embed="rId11"/>
          <a:stretch/>
        </p:blipFill>
        <p:spPr>
          <a:xfrm>
            <a:off x="3492360" y="3573360"/>
            <a:ext cx="1944720" cy="1584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р"/>
          <p:cNvPicPr/>
          <p:nvPr/>
        </p:nvPicPr>
        <p:blipFill>
          <a:blip r:embed="rId12"/>
          <a:stretch/>
        </p:blipFill>
        <p:spPr>
          <a:xfrm>
            <a:off x="6012000" y="3789360"/>
            <a:ext cx="1858680" cy="2016000"/>
          </a:xfrm>
          <a:prstGeom prst="rect">
            <a:avLst/>
          </a:prstGeom>
          <a:ln w="0">
            <a:noFill/>
          </a:ln>
        </p:spPr>
      </p:pic>
      <p:sp>
        <p:nvSpPr>
          <p:cNvPr id="290" name="WordArt 9"/>
          <p:cNvSpPr txBox="1"/>
          <p:nvPr/>
        </p:nvSpPr>
        <p:spPr>
          <a:xfrm>
            <a:off x="395280" y="5516640"/>
            <a:ext cx="280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рюхоногиме моллюс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1" name="WordArt 10"/>
          <p:cNvSpPr txBox="1"/>
          <p:nvPr/>
        </p:nvSpPr>
        <p:spPr>
          <a:xfrm>
            <a:off x="3708360" y="5157720"/>
            <a:ext cx="1457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ияв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2" name="WordArt 11"/>
          <p:cNvSpPr txBox="1"/>
          <p:nvPr/>
        </p:nvSpPr>
        <p:spPr>
          <a:xfrm>
            <a:off x="5940360" y="5805360"/>
            <a:ext cx="21560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ебли рого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змнож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овая зрелость наступает в возрасте 10—11 месяцев. При благоприятных условиях выхухоль может размножаться в любое время года. В период размножения выхухоли (обычно молчаливые) издают своеобразные звуки: самцы громко стрекочут, самки издают нежные, мелодичные звуки. Гон сопровождается драками между самц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9" descr="0_bd67_95ae3398_L"/>
          <p:cNvPicPr/>
          <p:nvPr/>
        </p:nvPicPr>
        <p:blipFill>
          <a:blip r:embed="rId1"/>
          <a:stretch/>
        </p:blipFill>
        <p:spPr>
          <a:xfrm>
            <a:off x="1763640" y="3284640"/>
            <a:ext cx="5256360" cy="3405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7848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45—50 дней беременности рождается от 1 до 5 детёнышей, слепых, голых и беспомощных. Масса новорождённого 2—3,3 г (почти вдвое меньше новорождённого крысёнка). Пики рождаемости приходятся на конец мая — июнь и ноябрь — декабрь. Приплодов в году 2. Если самку потревожить, она перевозит потомство в другую нору, посадив его на спину. Самец находится при выводке. В месячном возрасте детёныши начинают кормиться взрослой пищей; в 4—5 месяцев становятся самостоятель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еволе выхухоли доживают до 5 лет, в природе — до 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6" descr="6"/>
          <p:cNvPicPr/>
          <p:nvPr/>
        </p:nvPicPr>
        <p:blipFill>
          <a:blip r:embed="rId1"/>
          <a:stretch/>
        </p:blipFill>
        <p:spPr>
          <a:xfrm>
            <a:off x="468360" y="3573360"/>
            <a:ext cx="1944720" cy="1656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4"/>
          <p:cNvPicPr/>
          <p:nvPr/>
        </p:nvPicPr>
        <p:blipFill>
          <a:blip r:embed="rId2"/>
          <a:stretch/>
        </p:blipFill>
        <p:spPr>
          <a:xfrm>
            <a:off x="6372360" y="3429000"/>
            <a:ext cx="1873080" cy="1655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7г7"/>
          <p:cNvPicPr/>
          <p:nvPr/>
        </p:nvPicPr>
        <p:blipFill>
          <a:blip r:embed="rId3"/>
          <a:stretch/>
        </p:blipFill>
        <p:spPr>
          <a:xfrm>
            <a:off x="3276720" y="4941720"/>
            <a:ext cx="2158920" cy="165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татус популяции и охра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хухоль — редкий эндемичный вид, занесенный в Красную книгу России с категорией 2: сокращающийся в численности редкий реликтовый ви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4" descr="к"/>
          <p:cNvPicPr/>
          <p:nvPr/>
        </p:nvPicPr>
        <p:blipFill>
          <a:blip r:embed="rId1"/>
          <a:stretch/>
        </p:blipFill>
        <p:spPr>
          <a:xfrm>
            <a:off x="3492360" y="3573360"/>
            <a:ext cx="1871640" cy="2592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Внешний ви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Среда обит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Образ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4" action="ppaction://hlinksldjump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5" action="ppaction://hlinksldjump"/>
              </a:rPr>
              <a:t>Размно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6" action="ppaction://hlinksldjump"/>
              </a:rPr>
              <a:t>Статус популяции и охр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28760" y="49968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о втором фильме речь пойдёт о характеристике русской выхухо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WordArt 5"/>
          <p:cNvSpPr txBox="1"/>
          <p:nvPr/>
        </p:nvSpPr>
        <p:spPr>
          <a:xfrm>
            <a:off x="1835280" y="3141720"/>
            <a:ext cx="5376600" cy="1338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05" name="Picture 9" descr="0_bd67_95ae3398_L"/>
          <p:cNvPicPr/>
          <p:nvPr/>
        </p:nvPicPr>
        <p:blipFill>
          <a:blip r:embed="rId1"/>
          <a:stretch/>
        </p:blipFill>
        <p:spPr>
          <a:xfrm>
            <a:off x="928800" y="2214720"/>
            <a:ext cx="7286400" cy="4475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нешний вид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одно из самых крупных насекомоядных Северной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Евразии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: длина тела 18—22 см, хвоста — 17—21 см,. на теле растут чувствительные волос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1" descr="i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6920" y="3645000"/>
            <a:ext cx="4176720" cy="295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4968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лова коническая, с длинным подвижным носом-хоботком. Глаза рудиментарные, размером с булавочную головку, имеют хорошо развитые веки. Наружного уха нет, слуховые отверстия (щели длиной около 1 см) смыкаются при нырянии. Носовые отверстия также замыкаются при помощи особого клапана в носовой пол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oris13"/>
          <p:cNvPicPr/>
          <p:nvPr/>
        </p:nvPicPr>
        <p:blipFill>
          <a:blip r:embed="rId1"/>
          <a:stretch/>
        </p:blipFill>
        <p:spPr>
          <a:xfrm>
            <a:off x="5435640" y="1557360"/>
            <a:ext cx="3600360" cy="3322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20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х у выхухоли густой, бархатистый, очень прочный. Окраска спины серовато- или тёмно-коричневая, брюшка серебристо-серая или серебристо-белая. Хвост длинный, уплощённый с боков, покрыт тёмно-бурой кожей с роговыми чешуйками и редкими жёсткими волосами. На верхнем гребне хвоста идёт киль из более длинных волос. У основания хвоста, в утолщении находится кожная железа, производящая маслянистый </a:t>
            </a:r>
            <a:r>
              <a:rPr b="0" lang="ru-RU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муску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он служит смазкой, предохраняющей шерсть от намок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7" descr="vixuxol"/>
          <p:cNvPicPr/>
          <p:nvPr/>
        </p:nvPicPr>
        <p:blipFill>
          <a:blip r:embed="rId2"/>
          <a:stretch/>
        </p:blipFill>
        <p:spPr>
          <a:xfrm>
            <a:off x="826920" y="3357720"/>
            <a:ext cx="3429000" cy="2768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i"/>
          <p:cNvPicPr/>
          <p:nvPr/>
        </p:nvPicPr>
        <p:blipFill>
          <a:blip r:embed="rId3"/>
          <a:stretch/>
        </p:blipFill>
        <p:spPr>
          <a:xfrm>
            <a:off x="5643720" y="4143240"/>
            <a:ext cx="2520720" cy="18716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9"/>
          <p:cNvSpPr/>
          <p:nvPr/>
        </p:nvSpPr>
        <p:spPr>
          <a:xfrm>
            <a:off x="5868720" y="443628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х выхух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978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ечности довольно короткие, 5-палые, задние стопы крупнее и шире передних. Пальцы до когтей объединены плавательной перепонкой. Когти хорошо развиты, длинные, слабо изогнутые. По краям всех лап идёт кайма из жёстких щетинистых волос, которая увеличивает плавательную поверхность ла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i"/>
          <p:cNvPicPr/>
          <p:nvPr/>
        </p:nvPicPr>
        <p:blipFill>
          <a:blip r:embed="rId1"/>
          <a:stretch/>
        </p:blipFill>
        <p:spPr>
          <a:xfrm>
            <a:off x="5095800" y="901800"/>
            <a:ext cx="4164120" cy="381636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6"/>
          <p:cNvSpPr/>
          <p:nvPr/>
        </p:nvSpPr>
        <p:spPr>
          <a:xfrm>
            <a:off x="5038560" y="57168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Отпечатки : б - передних лап выхухоли, в- задних лап выхух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7" descr="3"/>
          <p:cNvPicPr/>
          <p:nvPr/>
        </p:nvPicPr>
        <p:blipFill>
          <a:blip r:embed="rId2"/>
          <a:stretch/>
        </p:blipFill>
        <p:spPr>
          <a:xfrm>
            <a:off x="1042920" y="4653000"/>
            <a:ext cx="244944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0920" y="475920"/>
            <a:ext cx="5545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х настолько хорошо удерживает воздух, что в нём поселяется 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жучок-парази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Silphopsyllus desmanae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неприспособленный к дыханию в воде.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Silphopsyllus desmanae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4" descr="олдо"/>
          <p:cNvPicPr/>
          <p:nvPr/>
        </p:nvPicPr>
        <p:blipFill>
          <a:blip r:embed="rId2"/>
          <a:stretch/>
        </p:blipFill>
        <p:spPr>
          <a:xfrm>
            <a:off x="5724360" y="2276640"/>
            <a:ext cx="3022920" cy="24476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6013800" y="5012640"/>
            <a:ext cx="17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жучок-параз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реда обит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6192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Встречается в бассейнах рек Волги, Днепра, Дона, Урала. По Н. Ф. Кащенко, территория Челябинской области в ХIX в. полностью входила в ареал вида [1]. Этот автор проводил восточную границу распространения выхухоли от устья р. Урал через Орск до окрестностей Ирбита, а северную — от Ирбита в направлении Каза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14" descr="кащенко"/>
          <p:cNvPicPr/>
          <p:nvPr/>
        </p:nvPicPr>
        <p:blipFill>
          <a:blip r:embed="rId1"/>
          <a:stretch/>
        </p:blipFill>
        <p:spPr>
          <a:xfrm>
            <a:off x="6732720" y="1268280"/>
            <a:ext cx="2087280" cy="25210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5"/>
          <p:cNvSpPr/>
          <p:nvPr/>
        </p:nvSpPr>
        <p:spPr>
          <a:xfrm>
            <a:off x="6950520" y="386064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Ф.Кащен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17" descr="лог"/>
          <p:cNvPicPr/>
          <p:nvPr/>
        </p:nvPicPr>
        <p:blipFill>
          <a:blip r:embed="rId2"/>
          <a:stretch/>
        </p:blipFill>
        <p:spPr>
          <a:xfrm>
            <a:off x="826920" y="4076640"/>
            <a:ext cx="2089440" cy="20163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8"/>
          <p:cNvSpPr/>
          <p:nvPr/>
        </p:nvSpPr>
        <p:spPr>
          <a:xfrm>
            <a:off x="611280" y="62164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рта бассейна реки Днеп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19" descr="b13_001-0"/>
          <p:cNvPicPr/>
          <p:nvPr/>
        </p:nvPicPr>
        <p:blipFill>
          <a:blip r:embed="rId3"/>
          <a:stretch/>
        </p:blipFill>
        <p:spPr>
          <a:xfrm>
            <a:off x="3924360" y="3933720"/>
            <a:ext cx="2376360" cy="223056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0"/>
          <p:cNvSpPr/>
          <p:nvPr/>
        </p:nvSpPr>
        <p:spPr>
          <a:xfrm>
            <a:off x="4358160" y="616572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ка Вол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волга"/>
          <p:cNvPicPr/>
          <p:nvPr/>
        </p:nvPicPr>
        <p:blipFill>
          <a:blip r:embed="rId1"/>
          <a:stretch/>
        </p:blipFill>
        <p:spPr>
          <a:xfrm>
            <a:off x="324000" y="836640"/>
            <a:ext cx="2303280" cy="19429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 flipV="1" rot="10769400">
            <a:off x="1115280" y="2851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.Вол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7" descr="днепр"/>
          <p:cNvPicPr/>
          <p:nvPr/>
        </p:nvPicPr>
        <p:blipFill>
          <a:blip r:embed="rId2"/>
          <a:stretch/>
        </p:blipFill>
        <p:spPr>
          <a:xfrm>
            <a:off x="6877080" y="260280"/>
            <a:ext cx="1795320" cy="172872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8"/>
          <p:cNvSpPr/>
          <p:nvPr/>
        </p:nvSpPr>
        <p:spPr>
          <a:xfrm>
            <a:off x="7311600" y="22050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.Днеп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9" descr="дон"/>
          <p:cNvPicPr/>
          <p:nvPr/>
        </p:nvPicPr>
        <p:blipFill>
          <a:blip r:embed="rId3"/>
          <a:stretch/>
        </p:blipFill>
        <p:spPr>
          <a:xfrm>
            <a:off x="3708360" y="4653000"/>
            <a:ext cx="1938240" cy="16128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0"/>
          <p:cNvSpPr/>
          <p:nvPr/>
        </p:nvSpPr>
        <p:spPr>
          <a:xfrm>
            <a:off x="4142520" y="630864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.Д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11" descr="урал"/>
          <p:cNvPicPr/>
          <p:nvPr/>
        </p:nvPicPr>
        <p:blipFill>
          <a:blip r:embed="rId4"/>
          <a:stretch/>
        </p:blipFill>
        <p:spPr>
          <a:xfrm>
            <a:off x="6588000" y="3500280"/>
            <a:ext cx="2090880" cy="17272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2"/>
          <p:cNvSpPr/>
          <p:nvPr/>
        </p:nvSpPr>
        <p:spPr>
          <a:xfrm>
            <a:off x="7237440" y="5300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.Ур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13" descr="по"/>
          <p:cNvPicPr/>
          <p:nvPr/>
        </p:nvPicPr>
        <p:blipFill>
          <a:blip r:embed="rId5"/>
          <a:stretch/>
        </p:blipFill>
        <p:spPr>
          <a:xfrm>
            <a:off x="3564000" y="189000"/>
            <a:ext cx="2303280" cy="1800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4"/>
          <p:cNvSpPr/>
          <p:nvPr/>
        </p:nvSpPr>
        <p:spPr>
          <a:xfrm flipV="1" rot="10769400">
            <a:off x="4284000" y="205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.Вол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16" descr="нг6"/>
          <p:cNvPicPr/>
          <p:nvPr/>
        </p:nvPicPr>
        <p:blipFill>
          <a:blip r:embed="rId6"/>
          <a:stretch/>
        </p:blipFill>
        <p:spPr>
          <a:xfrm>
            <a:off x="250920" y="4076640"/>
            <a:ext cx="2023920" cy="148104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7"/>
          <p:cNvSpPr/>
          <p:nvPr/>
        </p:nvSpPr>
        <p:spPr>
          <a:xfrm>
            <a:off x="829800" y="58770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.Днеп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6" descr="6"/>
          <p:cNvPicPr/>
          <p:nvPr/>
        </p:nvPicPr>
        <p:blipFill>
          <a:blip r:embed="rId7"/>
          <a:stretch/>
        </p:blipFill>
        <p:spPr>
          <a:xfrm>
            <a:off x="3714840" y="2643120"/>
            <a:ext cx="1944720" cy="165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7:00:44Z</dcterms:created>
  <dc:creator>Zver</dc:creator>
  <dc:description/>
  <dc:language>en-US</dc:language>
  <cp:lastModifiedBy>Хошенко А.В.</cp:lastModifiedBy>
  <dcterms:modified xsi:type="dcterms:W3CDTF">2009-01-16T10:20:13Z</dcterms:modified>
  <cp:revision>12</cp:revision>
  <dc:subject/>
  <dc:title>Среда обитания и образ жизни выхухоли</dc:title>
</cp:coreProperties>
</file>