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6A0-6D42-4239-984C-A6926795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790-ABF6-4DBC-9424-84E22A3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FDB-F7BF-4BEB-A798-ED8A0A9F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1F6-B4B7-4D0A-850E-C15653D7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F357-1A26-4450-8D70-342E99E0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648F-ABC0-47B6-88A6-DB5A7877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4849-8AE4-4E6D-ADFA-389155A8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3EF3-F8C2-4ED2-A9F5-A4F8EB6D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BDA-3D26-4DBB-8D31-3A328D7E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AC52-0BE0-422E-AE2F-AF92CB86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CF3F-72BF-4A73-BEA3-FC2E58C2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938-1CC9-4520-BD78-7904F9A0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17DD-8A73-4D36-B787-A0FA3A3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F71D-FF72-4A42-AA0E-78971C3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8B33-9421-4D6F-BF4A-DB15285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63AA-1304-44EE-9731-562530BE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B49C-EDB4-43DA-ABF0-BC2938A9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F3A-971B-4919-91D2-E9F1E326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66B-776A-4EC6-8ACA-E2F8954F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CD3-6C8D-4263-9358-207E4451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707-015D-4B5C-9D8F-E274EA6B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F9D-59EC-4E3C-B04D-44DD4D5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6C0-38F0-43CF-B3D2-C2AB58A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2C8-C385-40DB-BCC6-C4CEFF24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3AB4-3EE4-481C-8A7C-5A2949E52E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5768-D8F9-445A-B7EE-3FE159C159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0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772400" cy="2362320"/>
          </a:xfrm>
          <a:prstGeom prst="rect">
            <a:avLst/>
          </a:prstGeom>
          <a:gradFill rotWithShape="0">
            <a:gsLst>
              <a:gs pos="0">
                <a:srgbClr val="b2eab8"/>
              </a:gs>
              <a:gs pos="100000">
                <a:srgbClr val="eafaec"/>
              </a:gs>
            </a:gsLst>
            <a:lin ang="16200000"/>
          </a:gradFill>
          <a:ln w="9360">
            <a:solidFill>
              <a:srgbClr val="5ba16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e6b"/>
                </a:solidFill>
                <a:latin typeface="Garamond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6e6b"/>
                </a:solidFill>
                <a:latin typeface="Garamond"/>
              </a:rPr>
              <a:t>«Русская выхухоль» Биологический вид. Характеристи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11280" y="4365360"/>
            <a:ext cx="4321080" cy="2087640"/>
          </a:xfrm>
          <a:prstGeom prst="rect">
            <a:avLst/>
          </a:prstGeom>
          <a:gradFill rotWithShape="0">
            <a:gsLst>
              <a:gs pos="0">
                <a:srgbClr val="b1f4b8"/>
              </a:gs>
              <a:gs pos="100000">
                <a:srgbClr val="e9fdeb"/>
              </a:gs>
            </a:gsLst>
            <a:lin ang="16200000"/>
          </a:gradFill>
          <a:ln w="9360">
            <a:solidFill>
              <a:srgbClr val="66b27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Работу составили</a:t>
            </a:r>
            <a:r>
              <a:rPr b="0" lang="en-US" sz="2800" spc="-1" strike="noStrike">
                <a:solidFill>
                  <a:srgbClr val="006e6b"/>
                </a:solidFill>
                <a:latin typeface="Garamond"/>
              </a:rPr>
              <a:t>:</a:t>
            </a: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Ученицы 11 «А» класс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Бармина К., Ильина Ю., Пономарева А., Сычева 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e6b"/>
                </a:solidFill>
                <a:latin typeface="Garamond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85480"/>
            <a:ext cx="9144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ех выхухоли – густой, шелковистый и блестящий, буроватый на спине, на боках более светлый, а на горле, груди и брюшке серебристо-белый – делает зверька малозаметным в воде. Структура волосяного покрова – по 4–5 волос в пучке – способствует обра-зованию воздуш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ой подушки, ч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чень важно дл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еплорегуляции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идродинам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004-m"/>
          <p:cNvPicPr/>
          <p:nvPr/>
        </p:nvPicPr>
        <p:blipFill>
          <a:blip r:embed="rId2"/>
          <a:stretch/>
        </p:blipFill>
        <p:spPr>
          <a:xfrm>
            <a:off x="3429000" y="2714760"/>
            <a:ext cx="5715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ро домики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жизни выхухоли большую роль играют норы. Здесь зверек укрывается от врагов, отдыхает и выводит потомство. Норы выхухоли делятся на гнездовые, запасные и весенние. Гнездовые норы – самые сложные. Они служат основным жилищем и местом рождения и воспитания молодняка. В каждой гнездовой норе несколько гнездовых камер с подстилкой, в некоторых – по 2–3 выхода. Под водой к ним ведут подходные траншеи. Особенно сложные и длинные (более 10 м) норы выхухоль делает по пологим берегам озер, где гнездовая камера находится в верхних горизонтах берега. На крутых берегах гнездовые норы обычно короче (до 4 м) и устроены прощ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 правило, семья выхухолей имеет одну гнездовую нору и 4–5 запасных. Запасные норы – приспособление вида к освоению кормовой базы водоема. Они представляют собой один короткий ход с камерой и влажной подстилкой. Здесь зверьки поедают добычу, отдыхают, а зимой пополняют запасы воздуха для передвижения подо льдом. В период воспитания молодняка в запасных норах часто можно встретить неполовозрелых зверьков. Сюда приходят отдыхать от надоедающих детенышей самки, а впоследствии их осваивает и подрастающий молодня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есенние норы выхухоль роет в период разлива на незатопленных водой берегах водоемов, гривах и других возвышенных участках суши. Они служат зверьку временным убежищем, но иногда могут быть в дальнейшем переоборудованы под постоянное жиль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Глубина залегания подходных путей к норе зависит от характера водоема и сезона года: в весенний период они могут находиться на глубине более 1 м, а осенью – всего в 3–15 см от поверхности в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11_m"/>
          <p:cNvPicPr/>
          <p:nvPr/>
        </p:nvPicPr>
        <p:blipFill>
          <a:blip r:embed="rId2"/>
          <a:stretch/>
        </p:blipFill>
        <p:spPr>
          <a:xfrm>
            <a:off x="4714920" y="3929040"/>
            <a:ext cx="4240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b9efee"/>
                </a:solidFill>
                <a:uFillTx/>
                <a:latin typeface="Garamond"/>
              </a:rPr>
              <a:t>Пит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857160"/>
            <a:ext cx="914400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сновная пища выхухоли – это водные моллюски, насекомые и их личинки. У уреза воды можно найти «кормовые столики» зверька с остатками раковин прудовиков и лужанок. Список кормовых объектов выхухоли обширен и содержит по крайней мере 72 ви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животных и 30 вид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сте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09_m"/>
          <p:cNvPicPr/>
          <p:nvPr/>
        </p:nvPicPr>
        <p:blipFill>
          <a:blip r:embed="rId2"/>
          <a:stretch/>
        </p:blipFill>
        <p:spPr>
          <a:xfrm>
            <a:off x="5500800" y="4143240"/>
            <a:ext cx="3643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природе при поисках корма выхухоль придержи-вается в основном своих постоянных путей – тран-шей. Благодаря аэрации воды в эти места стягивают-ся мелкие животные. Но поиски пищи не ограничи-ваются только траншеями, иногда выхухоль выходит и за их пределы. Особенно хорошо это видно в осен-ний период по чистому льду: зверек оставляет под ним след в виде дугообразной дорожки, состоящей из пузырьков воздуха. Обычно такие следы тянутся вдоль берега на многие мет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08_m"/>
          <p:cNvPicPr/>
          <p:nvPr/>
        </p:nvPicPr>
        <p:blipFill>
          <a:blip r:embed="rId2"/>
          <a:stretch/>
        </p:blipFill>
        <p:spPr>
          <a:xfrm>
            <a:off x="5357880" y="4357800"/>
            <a:ext cx="3786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43480" y="768240"/>
            <a:ext cx="5016240" cy="63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Численность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1973 г. в Челябинской области по р. Уй насчитывалось до 500 выхухолей, в 1976 г., по данным охотоинспекции, было учтено около 300 особей. В Курганской области в 1990 г. численность русской выхухоли составляла 2110 особей, в Казахстане по р. Тобол — около 900 особей. Максимальная концентрация выхухоли в Курганской области отмечена на территории Курганского и Прорывинского заказников. В первом численность достигла максимума к середине 1980-х гг., затем начала снижаться; во втором численность выхухоли скачкообразно росла до 1996 г., затем также начала резко снижаться. В настоящее время плотность населения выхухоли в обоих заказниках достигла угрожающе низких значений. В одном из сибирских очагов обитания выхухоли она полностью исчезла к началу 1990-х гг. Современная численность вида в Челябинской области неизвестна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vixuxol"/>
          <p:cNvPicPr/>
          <p:nvPr/>
        </p:nvPicPr>
        <p:blipFill>
          <a:blip r:embed="rId2"/>
          <a:stretch/>
        </p:blipFill>
        <p:spPr>
          <a:xfrm>
            <a:off x="826920" y="189000"/>
            <a:ext cx="25783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SOS!SOS!SOS!!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15"/>
          <p:cNvPicPr/>
          <p:nvPr/>
        </p:nvPicPr>
        <p:blipFill>
          <a:blip r:embed="rId2"/>
          <a:stretch/>
        </p:blipFill>
        <p:spPr>
          <a:xfrm>
            <a:off x="1023840" y="974880"/>
            <a:ext cx="74376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Размнож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91440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ловая зрелость наступает в возрасте 10-11 месяцев. При благоприятных условиях способна размножать-ся в течение всего года, но выделяются два пика раз-множения: весенне-летний и осенний. Беременность длится 45-50 дней. В помете 1-5, в среднем 3-4 детены-ша (слепых, голых) массой 15-16 г. Если самку часто тревожат, она переносит молодняк в другую нору. В месячном возрас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лодняк начинае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ормиться самостоя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тельно. Плодовитос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-2 детеныша на самк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1149838687_vykhukhol"/>
          <p:cNvPicPr/>
          <p:nvPr/>
        </p:nvPicPr>
        <p:blipFill>
          <a:blip r:embed="rId2"/>
          <a:stretch/>
        </p:blipFill>
        <p:spPr>
          <a:xfrm>
            <a:off x="4143240" y="3214800"/>
            <a:ext cx="50007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вут выхухоли семьями, причем в норе зимою собирается до 15 разновозрастных особей. В неволе некоторые зверьки жили до 5 лет. В поисках подходя-щих убежищ выхухоль наиболее активно передвига-ется по угодьям в весенний период. Кроме того, в это время у зверьков гон. К осени они покидают пересы-хающие водоемы и уходят в непересыхающие, где остаются на зимовку. Эти переходы составляют до 2 км. До 7 км в год идет расселение зверьков по тече-нию рек. На поверхности земли не увидеть призна-ков жилища выхухоли, 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огда вместе с рыбой эт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вотное попадает в рыб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ловные сна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3" descr="G:\Русская выхухоль\10_m.jpg"/>
          <p:cNvPicPr/>
          <p:nvPr/>
        </p:nvPicPr>
        <p:blipFill>
          <a:blip r:embed="rId2"/>
          <a:stretch/>
        </p:blipFill>
        <p:spPr>
          <a:xfrm>
            <a:off x="4786200" y="4410000"/>
            <a:ext cx="382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естообит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усская выхухоль - реликтовый зверек, живущий в поймах рек и озерах в бассейнах рек Днепра, Дона, Волги и Урала, где заселяет все пригодные угодья. Излюбленные места ее обитания - пойменные озера, старицы с богатой водно-болотной растительностью, с зарослями кустарников или коренным лесом по берегам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Наблюден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78588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блюдения за поведением выхухолей в виварии Московского зоопарка показали, что в зимний пери-од зверьки ведут себя спокойно, а к весне становятся активными и агрессивными. Они наносят друг другу очень серьезные повреждения, которые, правда, бы-стро заживают. Перед дракой зверьки встают «стол-биком» и, опираясь на хвост, исследуют с помощью хоботка и вибрисс окружающее пространство. В ре-зультате нападения один из них оказывается опроки-нутым на спину, и его хвост становится наиболее до-ступным местом для противника. Для сравнения: на долю хвоста приходится 38,5% покусов, на долю брю-шка – 34,6%. Драки между самц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лучаются и в природе, о чем гов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ят шрамы на хвосте и теле зверь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ов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6" descr="006-m"/>
          <p:cNvPicPr/>
          <p:nvPr/>
        </p:nvPicPr>
        <p:blipFill>
          <a:blip r:embed="rId2"/>
          <a:stretch/>
        </p:blipFill>
        <p:spPr>
          <a:xfrm>
            <a:off x="6072120" y="4929120"/>
            <a:ext cx="3071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91440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тересно, что кожа на брюшке у выхухоли гораздо толще, чем кожа спины, и имеет более плотный волосяной покров. Видимо поэтому зверьки встают в так называемые оборонительные позы брюшком к противни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было отмечено, чтобы при встрече выхухоли обнюхивали у партнера область подхвостовой железы, хотя характерный мускусный запах при этом усиливается. Усиливается он и при возбуждении, испуге и заболева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4" descr="009-m"/>
          <p:cNvPicPr/>
          <p:nvPr/>
        </p:nvPicPr>
        <p:blipFill>
          <a:blip r:embed="rId2"/>
          <a:stretch/>
        </p:blipFill>
        <p:spPr>
          <a:xfrm>
            <a:off x="857160" y="4626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049056054124049050053048054055049050056"/>
          <p:cNvPicPr/>
          <p:nvPr/>
        </p:nvPicPr>
        <p:blipFill>
          <a:blip r:embed="rId3"/>
          <a:stretch/>
        </p:blipFill>
        <p:spPr>
          <a:xfrm>
            <a:off x="4643280" y="4842000"/>
            <a:ext cx="309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!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Picture 5" descr="0_bd67_95ae3398_L"/>
          <p:cNvPicPr/>
          <p:nvPr/>
        </p:nvPicPr>
        <p:blipFill>
          <a:blip r:embed="rId2"/>
          <a:stretch/>
        </p:blipFill>
        <p:spPr>
          <a:xfrm>
            <a:off x="957240" y="1401840"/>
            <a:ext cx="74311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!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хухоль — редкий и ценный пушной зверек. Это неповторимый живой памятник природы, замечательное украшение наших рек и озер. Она могла бы стать одним из национальных символов нашей страны, однако, ныне она незаслуженно забыта. Более того, вместо Книги почета выхухоль попала в Красную книгу как редкое животное, находящееся под угрозой исчезнов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2000 – 2001 гг. Центр охраны дикой природы организовал учет выхухоли на территории России, и результаты внушают тревогу. Только в некоторых местах былого процветания выхухоль сохранила свою численность, а в целом ее поголовье за 15 лет сократилось с 40 до 28-30 тыс. зверьк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ричин этому много: здесь и сокращение пригодных мест обитания из-за хозяйственной деятельности человека, хищники, капризы климата, и конечно же, браконьер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5" descr="13"/>
          <p:cNvPicPr/>
          <p:nvPr/>
        </p:nvPicPr>
        <p:blipFill>
          <a:blip r:embed="rId2"/>
          <a:stretch/>
        </p:blipFill>
        <p:spPr>
          <a:xfrm>
            <a:off x="4357800" y="3643200"/>
            <a:ext cx="4786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SOS! SOS! SOS!!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4" descr="vyhuh-logo"/>
          <p:cNvPicPr/>
          <p:nvPr/>
        </p:nvPicPr>
        <p:blipFill>
          <a:blip r:embed="rId2"/>
          <a:stretch/>
        </p:blipFill>
        <p:spPr>
          <a:xfrm>
            <a:off x="539640" y="1628640"/>
            <a:ext cx="3328920" cy="2560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3"/>
          <p:cNvPicPr/>
          <p:nvPr/>
        </p:nvPicPr>
        <p:blipFill>
          <a:blip r:embed="rId3"/>
          <a:stretch/>
        </p:blipFill>
        <p:spPr>
          <a:xfrm>
            <a:off x="2987640" y="3573360"/>
            <a:ext cx="3662280" cy="2557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desmana_banner"/>
          <p:cNvPicPr/>
          <p:nvPr/>
        </p:nvPicPr>
        <p:blipFill>
          <a:blip r:embed="rId4"/>
          <a:stretch/>
        </p:blipFill>
        <p:spPr>
          <a:xfrm>
            <a:off x="5580000" y="170028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Сохраним русскую выхухоль!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нашей стране выхухоль охраняется в 5 государственных заповедниках: Воронежском, Хопёрском, Омском, Мордовском и Луганском, а также более чем в 40 заказник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 одном из них в следующем фильм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ВОРОНЕЖСКИЙ ЗАПОВЕД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естообит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67280" y="1142640"/>
            <a:ext cx="5076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елах ареала выхухоль встречается не во всех водоемах. Наиболее излюбленными положениями ее проживания служат поименные озера, старицы с богатой водно-болотной зеленью, с зарослями кустарников или коренным лесом по бережкам. Предпочитает озера бездной 1-2 м с богатой фауной беспозвоночных. Встречается и в небольших реках с тихим течением, в различных типах поемных карьеро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14"/>
          <p:cNvPicPr/>
          <p:nvPr/>
        </p:nvPicPr>
        <p:blipFill>
          <a:blip r:embed="rId2"/>
          <a:stretch/>
        </p:blipFill>
        <p:spPr>
          <a:xfrm>
            <a:off x="-115920" y="1189080"/>
            <a:ext cx="459108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User\Рабочий стол\getImage.jpeg"/>
          <p:cNvPicPr/>
          <p:nvPr/>
        </p:nvPicPr>
        <p:blipFill>
          <a:blip r:embed="rId2"/>
          <a:stretch/>
        </p:blipFill>
        <p:spPr>
          <a:xfrm>
            <a:off x="523800" y="476280"/>
            <a:ext cx="79138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ОТО РЕ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C:\Documents and Settings\User\Рабочий стол\getImagem.jpeg"/>
          <p:cNvPicPr/>
          <p:nvPr/>
        </p:nvPicPr>
        <p:blipFill>
          <a:blip r:embed="rId2"/>
          <a:stretch/>
        </p:blipFill>
        <p:spPr>
          <a:xfrm>
            <a:off x="596880" y="542880"/>
            <a:ext cx="79138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tgyu"/>
          <p:cNvPicPr/>
          <p:nvPr/>
        </p:nvPicPr>
        <p:blipFill>
          <a:blip r:embed="rId2"/>
          <a:stretch/>
        </p:blipFill>
        <p:spPr>
          <a:xfrm>
            <a:off x="669960" y="476280"/>
            <a:ext cx="79135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нешность выхухол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то небольшой зверек, который является одним из древнейших млекопитающих, живущих в Евразии еще со времен мамонтов. Поскольку выхухоль эндемична для России, это единственное млекопитающее, в чьем официальном названии фигурирует слово "русская"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нешность Выхухол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464328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на выглядит, как небольшая крыса с длинным носом, похожим на хобот. У выхухоли плотное валикообразное тело, лапы с отороченными жесткими волосами плавательными перепонками и сплющенный с боков чешуйчатый хвос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G:\Русская выхухоль\15.jpg"/>
          <p:cNvPicPr/>
          <p:nvPr/>
        </p:nvPicPr>
        <p:blipFill>
          <a:blip r:embed="rId2"/>
          <a:stretch/>
        </p:blipFill>
        <p:spPr>
          <a:xfrm>
            <a:off x="4572000" y="1285920"/>
            <a:ext cx="43578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33600"/>
            <a:ext cx="30081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3929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лова зверька оканчива-ется довольно длинным подвижным хоботком с парой крупных носовых отверстий на конце. Глаза у выхухоли маленькие, хрусталик недоразвит, т. е. зрение слабое. Ушные ра-ковины отсутствуют, но слух хороший. При погру-жении в воду ушные щели зверька закрываются, а на носовых отверстиях замы-каются специальные клапа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16"/>
          <p:cNvPicPr/>
          <p:nvPr/>
        </p:nvPicPr>
        <p:blipFill>
          <a:blip r:embed="rId2"/>
          <a:stretch/>
        </p:blipFill>
        <p:spPr>
          <a:xfrm>
            <a:off x="3714840" y="500040"/>
            <a:ext cx="54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0:18:58Z</dcterms:created>
  <dc:creator>User</dc:creator>
  <dc:description/>
  <dc:language>en-US</dc:language>
  <cp:lastModifiedBy>Хошенко А.В.</cp:lastModifiedBy>
  <dcterms:modified xsi:type="dcterms:W3CDTF">2009-01-16T10:23:00Z</dcterms:modified>
  <cp:revision>20</cp:revision>
  <dc:subject/>
  <dc:title>Работа по биологии на тему  «Русская выхухоль» Биологический вид. Характеристика</dc:title>
</cp:coreProperties>
</file>