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2D30-D785-4208-88C6-3DEB3D89D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EA5-FAFA-4575-8FE8-DE22E2CEA3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EB1-EB3D-475E-BE9F-CCE1D6F2F4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E5DE-2914-410C-BC0D-0E6D484334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9F8-508D-4CB4-8DDC-ACD2B4AC8F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AF7-4020-4CD9-AAD5-73620F63DC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DAFA-F593-4F82-886A-A264B2BD71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313-D988-4517-8886-85D6526EB2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2E03-D7E8-479A-8779-F8439D662E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E869-D7A3-45D2-A5F9-3A59C8DDCA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2CAB-BBD0-4985-8474-C374A78898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9756-0437-496B-8654-992B4DC838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93A-5F53-4623-98BD-029C23AE06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34A4-3AD9-4B09-B6A1-FD971E612F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32B3-1C0F-4D81-8998-4A8B4EF798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8DCF-467D-4086-813A-90179B601E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56A4-72E0-4202-B2AA-AE0842E016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FA4E-DA83-4E0E-8F59-FBC813DA41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C777-2583-4B44-AC7B-F571C9C280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6AC-1FCA-49E3-A7D6-A1F11106E2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F19-9301-407C-A20C-6F411A804E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AE1-8D3F-4BF6-8F64-9CC773CC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DB2-C92B-428C-A145-E491BFD3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0AA-69D4-4714-A675-A4C97946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E1C-5EEA-4BDE-810D-5CF650DE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57A8-ADA3-4372-BD7D-3D45ACBE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03AD-02E5-4C18-B2BB-9E411F2E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2958-85BB-47EF-9D3C-6F2E8EB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A0FE-10DC-4F02-8783-30D4DB5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E40F-9A5F-4EC6-993D-A89D1245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A181-7E8A-4363-B3C4-7BE0F56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899F-CE72-445F-97E2-00DA109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29F-8474-4B20-B670-CD5ACA58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59A-4112-4B67-85B6-006E009F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734-7BCB-4E42-97DE-B8EB2B7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7A66-211E-4BE0-B171-0E01AA5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0F5C-0655-41EA-B6CC-91C2192F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5C02-631C-43AC-8B72-963E7310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F5B-DDBA-4259-86CE-1A6BDBC7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2B6-684E-435B-AF83-B26D58EA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BA1-428E-4D22-AD35-E977E94E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CCD-0301-4AF4-BA45-C2174E8D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E72-646B-40D1-BCD5-EF54FC6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7EC-3E88-4FC7-84C7-8D7F6885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F9F-08FD-4B81-AA66-9BE2B9C9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B86D-6851-4ECC-97ED-261FC7BB9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F450-370C-4335-BE01-92ECC179EE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F%25D0%25BE%25D0%25B9%25D0%25BC%25D0%25B0" TargetMode="External"/><Relationship Id="rId2" Type="http://schemas.openxmlformats.org/officeDocument/2006/relationships/hyperlink" Target="file:///../../../wiki/%25D0%2592%25D0%25BE%25D0%25B4%25D0%25BE%25D1%2591%25D0%25BC" TargetMode="External"/><Relationship Id="rId3" Type="http://schemas.openxmlformats.org/officeDocument/2006/relationships/hyperlink" Target="file:///../../../wiki/%25D0%25A1%25D1%2582%25D0%25B0%25D1%2580%25D0%25B8%25D1%2586%25D0%25B0_(%25D1%2580%25D1%2583%25D1%2581%25D0%25BB%25D0%25BE)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1%25D1%2580%25D1%258E%25D1%2585%25D0%25BE%25D0%25BD%25D0%25BE%25D0%25B3%25D0%25B8%25D0%25B5" TargetMode="External"/><Relationship Id="rId2" Type="http://schemas.openxmlformats.org/officeDocument/2006/relationships/hyperlink" Target="file:///../../../wiki/%25D0%259D%25D0%25B0%25D1%2581%25D0%25B5%25D0%25BA%25D0%25BE%25D0%25BC%25D1%258B%25D0%25B5" TargetMode="External"/><Relationship Id="rId3" Type="http://schemas.openxmlformats.org/officeDocument/2006/relationships/hyperlink" Target="file:///../../../wiki/%25D0%25A0%25D1%2583%25D1%2587%25D0%25B5%25D0%25B9%25D0%25BD%25D0%25B8%25D0%25BA%25D0%25B8" TargetMode="External"/><Relationship Id="rId4" Type="http://schemas.openxmlformats.org/officeDocument/2006/relationships/hyperlink" Target="file:///../../../w/index.php%3Ftitle=%25D0%25A0%25D0%25B0%25D0%25B4%25D1%2583%25D0%25B6%25D0%25BD%25D0%25B8%25D1%2586%25D1%258B&amp;action=edit&amp;redlink=1" TargetMode="External"/><Relationship Id="rId5" Type="http://schemas.openxmlformats.org/officeDocument/2006/relationships/hyperlink" Target="file:///../../../wiki/%25D0%259F%25D0%25B8%25D1%258F%25D0%25B2%25D0%25BA%25D0%25B8" TargetMode="External"/><Relationship Id="rId6" Type="http://schemas.openxmlformats.org/officeDocument/2006/relationships/hyperlink" Target="file:///../../../wiki/%25D0%25A0%25D1%258B%25D0%25B1%25D1%258B" TargetMode="External"/><Relationship Id="rId7" Type="http://schemas.openxmlformats.org/officeDocument/2006/relationships/hyperlink" Target="file:///../../../wiki/%25D0%25A1%25D1%2582%25D1%2580%25D0%25B5%25D0%25BB%25D0%25BE%25D0%25BB%25D0%25B8%25D1%2581%25D1%2582" TargetMode="External"/><Relationship Id="rId8" Type="http://schemas.openxmlformats.org/officeDocument/2006/relationships/hyperlink" Target="file:///../../../w/index.php%3Ftitle=%25D0%2595%25D0%25B6%25D0%25B5%25D0%25B3%25D0%25BE%25D0%25BB%25D0%25BE%25D0%25B2%25D0%25BD%25D0%25B8%25D0%25BA&amp;action=edit&amp;redlink=1" TargetMode="External"/><Relationship Id="rId9" Type="http://schemas.openxmlformats.org/officeDocument/2006/relationships/hyperlink" Target="file:///../../../wiki/%25D0%25A0%25D0%25BE%25D0%25B3%25D0%25BE%25D0%25B7" TargetMode="External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5%25D0%25B2%25D1%2580%25D0%25B0%25D0%25B7%25D0%25B8%25D1%258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wiki/%25D0%259C%25D1%2583%25D1%2581%25D0%25BA%25D1%2583%25D1%258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w/index.php%3Ftitle=%25D0%2596%25D1%2583%25D0%25BA-%25D0%25B2%25D1%258B%25D1%2585%25D1%2583%25D1%2585%25D0%25BE%25D0%25BB%25D0%25B5%25D0%25B2%25D0%25B8%25D0%25BA&amp;action=edit&amp;redlink=1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../../../w/index.php%3Ftitle=%25D0%2596%25D1%2583%25D0%25BA-%25D0%25B2%25D1%258B%25D1%2585%25D1%2583%25D1%2585%25D0%25BE%25D0%25BB%25D0%25B5%25D0%25B2%25D0%25B8%25D0%25BA&amp;action=edit&amp;redlink=1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реда обитания и образ жизни русской выхухол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4240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и ученицы 11 «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ломатина Ю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сова Анастас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0_bd67_95ae3398_L"/>
          <p:cNvPicPr/>
          <p:nvPr/>
        </p:nvPicPr>
        <p:blipFill>
          <a:blip r:embed="rId1"/>
          <a:stretch/>
        </p:blipFill>
        <p:spPr>
          <a:xfrm>
            <a:off x="468360" y="3141720"/>
            <a:ext cx="5256000" cy="3405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6696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днее упоминание об обитании русской выхухоли восточнее Уральского хребта относится ко второй половине XIX в.: она отмечалась в 60—120 км южнее г. Екатеринбурга — в Полевской и Метлинской лесных дачах [2]. Проведенное в 1929 г. обследование указанной Л. П. Сабанеевым местности показало, что выхухоль здесь уже не обитает [3]. Более поздние сведения о встречах выхухоли в Челябинской области отсутствуют вплоть до 1950-х гг., когда были начаты работы по ее реакклиматиз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онплонг"/>
          <p:cNvPicPr/>
          <p:nvPr/>
        </p:nvPicPr>
        <p:blipFill>
          <a:blip r:embed="rId1"/>
          <a:stretch/>
        </p:blipFill>
        <p:spPr>
          <a:xfrm>
            <a:off x="6012000" y="3141720"/>
            <a:ext cx="1982520" cy="23749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5870520" y="55166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. П. Сабанее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6" descr="ого"/>
          <p:cNvPicPr/>
          <p:nvPr/>
        </p:nvPicPr>
        <p:blipFill>
          <a:blip r:embed="rId2"/>
          <a:stretch/>
        </p:blipFill>
        <p:spPr>
          <a:xfrm>
            <a:off x="1547640" y="3429000"/>
            <a:ext cx="2881440" cy="230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выпуск животных был осуществлен в 1953 г. на озера Ильменского заповедника. Всего было выпущено 39 выхухолей на озера Большой и Малый Таткуль [4, 5]. Из-за неверной оценки степени пригодности водоемов выхухоль здесь не прижилась [4]. Также неудачным оказался выпуск 122 выхухолей на оз. Аргази в 1964 г. [5]. Выпуск 74 животных в водоемы Октябрьского р-на (1961 г.) поначалу был признан неудачным. Однако позднее выхухоль смогла закрепиться по р. Уй и ее старицам, а затем расселилась ниже по течению р. Уй и далее по рекам Тогузак и Тобол, сформировав к концу 1980-х гг. достаточно многочисленную популяцию в пределах Челябинской и Курганской областей [6—9]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н"/>
          <p:cNvPicPr/>
          <p:nvPr/>
        </p:nvPicPr>
        <p:blipFill>
          <a:blip r:embed="rId1"/>
          <a:stretch/>
        </p:blipFill>
        <p:spPr>
          <a:xfrm>
            <a:off x="611280" y="3500280"/>
            <a:ext cx="2305080" cy="20131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1259640" y="55166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У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огнег"/>
          <p:cNvPicPr/>
          <p:nvPr/>
        </p:nvPicPr>
        <p:blipFill>
          <a:blip r:embed="rId2"/>
          <a:stretch/>
        </p:blipFill>
        <p:spPr>
          <a:xfrm>
            <a:off x="6012000" y="3284640"/>
            <a:ext cx="2305080" cy="19126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6589080" y="53006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То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8" descr="76г76"/>
          <p:cNvPicPr/>
          <p:nvPr/>
        </p:nvPicPr>
        <p:blipFill>
          <a:blip r:embed="rId3"/>
          <a:stretch/>
        </p:blipFill>
        <p:spPr>
          <a:xfrm>
            <a:off x="3851280" y="3789360"/>
            <a:ext cx="1368360" cy="172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енность. В 1973 г. в Челябинской области по р. Уй насчитывалось до 500 выхухолей [6, 5], в 1976 г., по данным охотинспекции, было учтено около 300 особей [8]. В Курганской области в 1990 г. численность русской выхухоли составляла 2110 особей, в Казахстане по р. Тобол — около 900 особей [10]. Максимальная концентрация выхухоли в Курганской области отмечена на территории Курганского и Прорывинского заказников [9]. В первом численность достигла максимума к середине 1980-х гг., затем начала снижаться; во втором численность выхухоли скачкообразно росла до 1996 г., затем также начала резко снижаться. В настоящее время плотность населения выхухоли в обоих заказниках достигла угрожающе низких значений [11]. В одном из сибирских очагов обитания выхухоли (Обь-Таганское междуречье) она полностью исчезла к началу 1990-х гг. [12]. Современная численность вида в Челябинской области неизвест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45"/>
          <p:cNvPicPr/>
          <p:nvPr/>
        </p:nvPicPr>
        <p:blipFill>
          <a:blip r:embed="rId1"/>
          <a:stretch/>
        </p:blipFill>
        <p:spPr>
          <a:xfrm>
            <a:off x="324000" y="4437000"/>
            <a:ext cx="2232000" cy="2016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ерен"/>
          <p:cNvPicPr/>
          <p:nvPr/>
        </p:nvPicPr>
        <p:blipFill>
          <a:blip r:embed="rId2"/>
          <a:stretch/>
        </p:blipFill>
        <p:spPr>
          <a:xfrm>
            <a:off x="3348000" y="4221000"/>
            <a:ext cx="2295720" cy="1800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жщл"/>
          <p:cNvPicPr/>
          <p:nvPr/>
        </p:nvPicPr>
        <p:blipFill>
          <a:blip r:embed="rId3"/>
          <a:stretch/>
        </p:blipFill>
        <p:spPr>
          <a:xfrm>
            <a:off x="6877080" y="4508640"/>
            <a:ext cx="1905120" cy="194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702160" y="-7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спространение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1" descr="Рисунок1"/>
          <p:cNvPicPr/>
          <p:nvPr/>
        </p:nvPicPr>
        <p:blipFill>
          <a:blip r:embed="rId1"/>
          <a:stretch/>
        </p:blipFill>
        <p:spPr>
          <a:xfrm>
            <a:off x="76320" y="531720"/>
            <a:ext cx="8993160" cy="579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раз жиз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60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хухоль ведёт полуводный образ жизни. Излюбленные места её обитания —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пойменны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водоём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затоны,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стариц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 с площадью водного зеркала 0,1—0,5 га и глубиной 1,3—5 м, с богатой водно-болотной растительностью и облесенными берегами. Рек с быстрым течением она избегает. Большую часть года выхухоль живёт в норах, имеющих выход только под водой. Длина нор в отлогих берегах зачастую превышает 12 м, в крутых она короче — 2—3 м. Основная гнездовая камера обычно расположена под корнями дерева, пня или большого куста. Такое расположение маскирует камеру и защищает её от обвалов. В период половодья норы часто затопляются, и зверьки их покидают, укрываясь на деревьях и в неглубоких временных норах, вырытых на незатопленных участках берега. В водоёмах с сильными колебаниями уровня воды норы многоярус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180px-Desman-drawing"/>
          <p:cNvPicPr/>
          <p:nvPr/>
        </p:nvPicPr>
        <p:blipFill>
          <a:blip r:embed="rId4"/>
          <a:stretch/>
        </p:blipFill>
        <p:spPr>
          <a:xfrm>
            <a:off x="6084720" y="1484280"/>
            <a:ext cx="2421000" cy="1728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87"/>
          <p:cNvPicPr/>
          <p:nvPr/>
        </p:nvPicPr>
        <p:blipFill>
          <a:blip r:embed="rId5"/>
          <a:stretch/>
        </p:blipFill>
        <p:spPr>
          <a:xfrm>
            <a:off x="1619280" y="429264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69"/>
          <p:cNvPicPr/>
          <p:nvPr/>
        </p:nvPicPr>
        <p:blipFill>
          <a:blip r:embed="rId6"/>
          <a:stretch/>
        </p:blipFill>
        <p:spPr>
          <a:xfrm>
            <a:off x="5724360" y="4076640"/>
            <a:ext cx="1905120" cy="16574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5219640" y="5877000"/>
            <a:ext cx="28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ичная нора выхухоли в разре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042920" y="58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 в нору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м выхухоли живут поодиночке или парами; зимой в одной норе могут собираться до 12—15 разновозрастных зверьков. Выхухоли мигрируют в течение года. Весной при паводках они отселяются из нор в поисках подходящих убежищ. Летом придерживаются одних и тех же мест; но ближе к осени покидают мелкие вымерзающие водоёмы и уходят на зимовку в непромерзающие. Эти переходы составляют от нескольких сот метров до 2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9"/>
          <p:cNvPicPr/>
          <p:nvPr/>
        </p:nvPicPr>
        <p:blipFill>
          <a:blip r:embed="rId1"/>
          <a:stretch/>
        </p:blipFill>
        <p:spPr>
          <a:xfrm>
            <a:off x="2714760" y="3571920"/>
            <a:ext cx="3571920" cy="3016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632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ухоль всеядна и чрезвычайно прожорлива: за сутки взрослый зверь съедает почти столько же, сколько весит сам. Летом она питается главным образом малоподвижными донными животными: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брюхоногими моллюск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чинкам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насекомы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собенно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ручей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жука-радужни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пиявк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Зимой существенную прибавку к её рациону составляет мелкая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ры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растительные корма (клубн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стрелолис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рневища кубышки,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ежеголовн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стебли </a:t>
            </a:r>
            <a:r>
              <a:rPr b="0" lang="ru-RU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рого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тростни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м"/>
          <p:cNvPicPr/>
          <p:nvPr/>
        </p:nvPicPr>
        <p:blipFill>
          <a:blip r:embed="rId10"/>
          <a:stretch/>
        </p:blipFill>
        <p:spPr>
          <a:xfrm>
            <a:off x="971640" y="4149720"/>
            <a:ext cx="1592280" cy="1297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п"/>
          <p:cNvPicPr/>
          <p:nvPr/>
        </p:nvPicPr>
        <p:blipFill>
          <a:blip r:embed="rId11"/>
          <a:stretch/>
        </p:blipFill>
        <p:spPr>
          <a:xfrm>
            <a:off x="3492360" y="357336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р"/>
          <p:cNvPicPr/>
          <p:nvPr/>
        </p:nvPicPr>
        <p:blipFill>
          <a:blip r:embed="rId12"/>
          <a:stretch/>
        </p:blipFill>
        <p:spPr>
          <a:xfrm>
            <a:off x="6012000" y="3789360"/>
            <a:ext cx="1858680" cy="2016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9"/>
          <p:cNvSpPr txBox="1"/>
          <p:nvPr/>
        </p:nvSpPr>
        <p:spPr>
          <a:xfrm>
            <a:off x="395280" y="5516640"/>
            <a:ext cx="280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рюхоногиме моллюс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1" name="WordArt 10"/>
          <p:cNvSpPr txBox="1"/>
          <p:nvPr/>
        </p:nvSpPr>
        <p:spPr>
          <a:xfrm>
            <a:off x="3708360" y="5157720"/>
            <a:ext cx="145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ияв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2" name="WordArt 11"/>
          <p:cNvSpPr txBox="1"/>
          <p:nvPr/>
        </p:nvSpPr>
        <p:spPr>
          <a:xfrm>
            <a:off x="5940360" y="5805360"/>
            <a:ext cx="21560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бли рого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змнож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вая зрелость наступает в возрасте 10—11 месяцев. При благоприятных условиях выхухоль может размножаться в любое время года. В период размножения выхухоли (обычно молчаливые) издают своеобразные звуки: самцы громко стрекочут, самки издают нежные, мелодичные звуки. Гон сопровождается драками между сам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9" descr="0_bd67_95ae3398_L"/>
          <p:cNvPicPr/>
          <p:nvPr/>
        </p:nvPicPr>
        <p:blipFill>
          <a:blip r:embed="rId1"/>
          <a:stretch/>
        </p:blipFill>
        <p:spPr>
          <a:xfrm>
            <a:off x="1763640" y="3284640"/>
            <a:ext cx="5256360" cy="3405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7848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45—50 дней беременности рождается от 1 до 5 детёнышей, слепых, голых и беспомощных. Масса новорождённого 2—3,3 г (почти вдвое меньше новорождённого крысёнка). Пики рождаемости приходятся на конец мая — июнь и ноябрь — декабрь. Приплодов в году 2. Если самку потревожить, она перевозит потомство в другую нору, посадив его на спину. Самец находится при выводке. В месячном возрасте детёныши начинают кормиться взрослой пищей; в 4—5 месяцев становятся самостоя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еволе выхухоли доживают до 5 лет, в природе — до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6" descr="6"/>
          <p:cNvPicPr/>
          <p:nvPr/>
        </p:nvPicPr>
        <p:blipFill>
          <a:blip r:embed="rId1"/>
          <a:stretch/>
        </p:blipFill>
        <p:spPr>
          <a:xfrm>
            <a:off x="468360" y="357336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4"/>
          <p:cNvPicPr/>
          <p:nvPr/>
        </p:nvPicPr>
        <p:blipFill>
          <a:blip r:embed="rId2"/>
          <a:stretch/>
        </p:blipFill>
        <p:spPr>
          <a:xfrm>
            <a:off x="6372360" y="3429000"/>
            <a:ext cx="1873080" cy="165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7г7"/>
          <p:cNvPicPr/>
          <p:nvPr/>
        </p:nvPicPr>
        <p:blipFill>
          <a:blip r:embed="rId3"/>
          <a:stretch/>
        </p:blipFill>
        <p:spPr>
          <a:xfrm>
            <a:off x="3276720" y="4941720"/>
            <a:ext cx="2158920" cy="16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атус популяции и охр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хухоль — редкий эндемичный вид, занесенный в Красную книгу России с категорией 2: сокращающийся в численности редкий реликтовый ви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" descr="к"/>
          <p:cNvPicPr/>
          <p:nvPr/>
        </p:nvPicPr>
        <p:blipFill>
          <a:blip r:embed="rId1"/>
          <a:stretch/>
        </p:blipFill>
        <p:spPr>
          <a:xfrm>
            <a:off x="3492360" y="3573360"/>
            <a:ext cx="1871640" cy="259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нешний в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Среда об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Образ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Размн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Статус популяции и о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о втором фильме речь пойдёт о характеристике русской выхухо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WordArt 5"/>
          <p:cNvSpPr txBox="1"/>
          <p:nvPr/>
        </p:nvSpPr>
        <p:spPr>
          <a:xfrm>
            <a:off x="1835280" y="3141720"/>
            <a:ext cx="5376600" cy="133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05" name="Picture 9" descr="0_bd67_95ae3398_L"/>
          <p:cNvPicPr/>
          <p:nvPr/>
        </p:nvPicPr>
        <p:blipFill>
          <a:blip r:embed="rId1"/>
          <a:stretch/>
        </p:blipFill>
        <p:spPr>
          <a:xfrm>
            <a:off x="928800" y="2214720"/>
            <a:ext cx="7286400" cy="4475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нешний ви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дно из самых крупных насекомоядных Северной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Евразии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: длина тела 18—22 см, хвоста — 17—21 см,. на теле растут чувствительные волос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i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3645000"/>
            <a:ext cx="41767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9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ова коническая, с длинным подвижным носом-хоботком. Глаза рудиментарные, размером с булавочную головку, имеют хорошо развитые веки. Наружного уха нет, слуховые отверстия (щели длиной около 1 см) смыкаются при нырянии. Носовые отверстия также замыкаются при помощи особого клапана в носовой пол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oris13"/>
          <p:cNvPicPr/>
          <p:nvPr/>
        </p:nvPicPr>
        <p:blipFill>
          <a:blip r:embed="rId1"/>
          <a:stretch/>
        </p:blipFill>
        <p:spPr>
          <a:xfrm>
            <a:off x="5435640" y="1557360"/>
            <a:ext cx="3600360" cy="332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х у выхухоли густой, бархатистый, очень прочный. Окраска спины серовато- или тёмно-коричневая, брюшка серебристо-серая или серебристо-белая. Хвост длинный, уплощённый с боков, покрыт тёмно-бурой кожей с роговыми чешуйками и редкими жёсткими волосами. На верхнем гребне хвоста идёт киль из более длинных волос. У основания хвоста, в утолщении находится кожная железа, производящая маслянистый </a:t>
            </a:r>
            <a:r>
              <a:rPr b="0" lang="ru-RU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муску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он служит смазкой, предохраняющей шерсть от намок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vixuxol"/>
          <p:cNvPicPr/>
          <p:nvPr/>
        </p:nvPicPr>
        <p:blipFill>
          <a:blip r:embed="rId2"/>
          <a:stretch/>
        </p:blipFill>
        <p:spPr>
          <a:xfrm>
            <a:off x="826920" y="3357720"/>
            <a:ext cx="3429000" cy="2768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i"/>
          <p:cNvPicPr/>
          <p:nvPr/>
        </p:nvPicPr>
        <p:blipFill>
          <a:blip r:embed="rId3"/>
          <a:stretch/>
        </p:blipFill>
        <p:spPr>
          <a:xfrm>
            <a:off x="5643720" y="4143240"/>
            <a:ext cx="2520720" cy="187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5868720" y="4436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х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ечности довольно короткие, 5-палые, задние стопы крупнее и шире передних. Пальцы до когтей объединены плавательной перепонкой. Когти хорошо развиты, длинные, слабо изогнутые. По краям всех лап идёт кайма из жёстких щетинистых волос, которая увеличивает плавательную поверхность ла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"/>
          <p:cNvPicPr/>
          <p:nvPr/>
        </p:nvPicPr>
        <p:blipFill>
          <a:blip r:embed="rId1"/>
          <a:stretch/>
        </p:blipFill>
        <p:spPr>
          <a:xfrm>
            <a:off x="5095800" y="901800"/>
            <a:ext cx="4164120" cy="3816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5038560" y="57168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Отпечатки : б - передних лап выхухоли, в- задних лап выхух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3"/>
          <p:cNvPicPr/>
          <p:nvPr/>
        </p:nvPicPr>
        <p:blipFill>
          <a:blip r:embed="rId2"/>
          <a:stretch/>
        </p:blipFill>
        <p:spPr>
          <a:xfrm>
            <a:off x="1042920" y="4653000"/>
            <a:ext cx="244944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554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 настолько хорошо удерживает воздух, что в нём поселяется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жучок-парази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ilphopsyllus desmana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неприспособленный к дыханию в воде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ilphopsyllus desmana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олдо"/>
          <p:cNvPicPr/>
          <p:nvPr/>
        </p:nvPicPr>
        <p:blipFill>
          <a:blip r:embed="rId2"/>
          <a:stretch/>
        </p:blipFill>
        <p:spPr>
          <a:xfrm>
            <a:off x="5724360" y="2276640"/>
            <a:ext cx="3022920" cy="2447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6013800" y="501264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жучок-параз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реда об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619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стречается в бассейнах рек Волги, Днепра, Дона, Урала. По Н. Ф. Кащенко, территория Челябинской области в ХIX в. полностью входила в ареал вида [1]. Этот автор проводил восточную границу распространения выхухоли от устья р. Урал через Орск до окрестностей Ирбита, а северную — от Ирбита в направлении Каз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4" descr="кащенко"/>
          <p:cNvPicPr/>
          <p:nvPr/>
        </p:nvPicPr>
        <p:blipFill>
          <a:blip r:embed="rId1"/>
          <a:stretch/>
        </p:blipFill>
        <p:spPr>
          <a:xfrm>
            <a:off x="6732720" y="1268280"/>
            <a:ext cx="2087280" cy="2521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5"/>
          <p:cNvSpPr/>
          <p:nvPr/>
        </p:nvSpPr>
        <p:spPr>
          <a:xfrm>
            <a:off x="6950520" y="38606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Ф.Кащ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17" descr="лог"/>
          <p:cNvPicPr/>
          <p:nvPr/>
        </p:nvPicPr>
        <p:blipFill>
          <a:blip r:embed="rId2"/>
          <a:stretch/>
        </p:blipFill>
        <p:spPr>
          <a:xfrm>
            <a:off x="826920" y="4076640"/>
            <a:ext cx="2089440" cy="2016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611280" y="62164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рта бассейна реки Дне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9" descr="b13_001-0"/>
          <p:cNvPicPr/>
          <p:nvPr/>
        </p:nvPicPr>
        <p:blipFill>
          <a:blip r:embed="rId3"/>
          <a:stretch/>
        </p:blipFill>
        <p:spPr>
          <a:xfrm>
            <a:off x="3924360" y="3933720"/>
            <a:ext cx="2376360" cy="22305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0"/>
          <p:cNvSpPr/>
          <p:nvPr/>
        </p:nvSpPr>
        <p:spPr>
          <a:xfrm>
            <a:off x="4358160" y="61657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ка 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волга"/>
          <p:cNvPicPr/>
          <p:nvPr/>
        </p:nvPicPr>
        <p:blipFill>
          <a:blip r:embed="rId1"/>
          <a:stretch/>
        </p:blipFill>
        <p:spPr>
          <a:xfrm>
            <a:off x="324000" y="836640"/>
            <a:ext cx="2303280" cy="1942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 flipV="1" rot="10769400">
            <a:off x="1115280" y="2851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7" descr="днепр"/>
          <p:cNvPicPr/>
          <p:nvPr/>
        </p:nvPicPr>
        <p:blipFill>
          <a:blip r:embed="rId2"/>
          <a:stretch/>
        </p:blipFill>
        <p:spPr>
          <a:xfrm>
            <a:off x="6877080" y="260280"/>
            <a:ext cx="1795320" cy="17287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7311600" y="220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Дне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9" descr="дон"/>
          <p:cNvPicPr/>
          <p:nvPr/>
        </p:nvPicPr>
        <p:blipFill>
          <a:blip r:embed="rId3"/>
          <a:stretch/>
        </p:blipFill>
        <p:spPr>
          <a:xfrm>
            <a:off x="3708360" y="4653000"/>
            <a:ext cx="1938240" cy="16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4142520" y="63086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Д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11" descr="урал"/>
          <p:cNvPicPr/>
          <p:nvPr/>
        </p:nvPicPr>
        <p:blipFill>
          <a:blip r:embed="rId4"/>
          <a:stretch/>
        </p:blipFill>
        <p:spPr>
          <a:xfrm>
            <a:off x="6588000" y="3500280"/>
            <a:ext cx="2090880" cy="17272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7237440" y="5300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У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3" descr="по"/>
          <p:cNvPicPr/>
          <p:nvPr/>
        </p:nvPicPr>
        <p:blipFill>
          <a:blip r:embed="rId5"/>
          <a:stretch/>
        </p:blipFill>
        <p:spPr>
          <a:xfrm>
            <a:off x="3564000" y="189000"/>
            <a:ext cx="230328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 flipV="1" rot="10769400">
            <a:off x="4284000" y="205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6" descr="нг6"/>
          <p:cNvPicPr/>
          <p:nvPr/>
        </p:nvPicPr>
        <p:blipFill>
          <a:blip r:embed="rId6"/>
          <a:stretch/>
        </p:blipFill>
        <p:spPr>
          <a:xfrm>
            <a:off x="250920" y="4076640"/>
            <a:ext cx="2023920" cy="1481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7"/>
          <p:cNvSpPr/>
          <p:nvPr/>
        </p:nvSpPr>
        <p:spPr>
          <a:xfrm>
            <a:off x="829800" y="5877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.Дне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6" descr="6"/>
          <p:cNvPicPr/>
          <p:nvPr/>
        </p:nvPicPr>
        <p:blipFill>
          <a:blip r:embed="rId7"/>
          <a:stretch/>
        </p:blipFill>
        <p:spPr>
          <a:xfrm>
            <a:off x="3714840" y="2643120"/>
            <a:ext cx="1944720" cy="16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00:44Z</dcterms:created>
  <dc:creator>Zver</dc:creator>
  <dc:description/>
  <dc:language>en-US</dc:language>
  <cp:lastModifiedBy>Хошенко А.В.</cp:lastModifiedBy>
  <dcterms:modified xsi:type="dcterms:W3CDTF">2009-01-16T10:20:13Z</dcterms:modified>
  <cp:revision>12</cp:revision>
  <dc:subject/>
  <dc:title>Среда обитания и образ жизни выхухоли</dc:title>
</cp:coreProperties>
</file>