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6.jpeg" ContentType="image/jpeg"/>
  <Override PartName="/ppt/media/image33.jpeg" ContentType="image/jpeg"/>
  <Override PartName="/ppt/media/image4.gif" ContentType="image/gif"/>
  <Override PartName="/ppt/media/image19.png" ContentType="image/png"/>
  <Override PartName="/ppt/media/image26.gif" ContentType="image/gif"/>
  <Override PartName="/ppt/media/image20.jpeg" ContentType="image/jpeg"/>
  <Override PartName="/ppt/media/image39.png" ContentType="image/png"/>
  <Override PartName="/ppt/media/image22.jpeg" ContentType="image/jpeg"/>
  <Override PartName="/ppt/media/image7.jpeg" ContentType="image/jpeg"/>
  <Override PartName="/ppt/media/image9.jpeg" ContentType="image/jpeg"/>
  <Override PartName="/ppt/media/image48.png" ContentType="image/png"/>
  <Override PartName="/ppt/media/image28.jpeg" ContentType="image/jpeg"/>
  <Override PartName="/ppt/media/image11.jpeg" ContentType="image/jpeg"/>
  <Override PartName="/ppt/media/image24.png" ContentType="image/png"/>
  <Override PartName="/ppt/media/image27.gif" ContentType="image/gif"/>
  <Override PartName="/ppt/media/image52.wmf" ContentType="image/x-wmf"/>
  <Override PartName="/ppt/media/image23.jpeg" ContentType="image/jpeg"/>
  <Override PartName="/ppt/media/image2.png" ContentType="image/png"/>
  <Override PartName="/ppt/media/image25.jpeg" ContentType="image/jpeg"/>
  <Override PartName="/ppt/media/image21.jpeg" ContentType="image/jpeg"/>
  <Override PartName="/ppt/media/chimes.wav" ContentType="audio/x-wav"/>
  <Override PartName="/ppt/media/image32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37.jpeg" ContentType="image/jpeg"/>
  <Override PartName="/ppt/media/image15.png" ContentType="image/png"/>
  <Override PartName="/ppt/media/image12.jpeg" ContentType="image/jpeg"/>
  <Override PartName="/ppt/media/image8.jpeg" ContentType="image/jpeg"/>
  <Override PartName="/ppt/media/image5.wmf" ContentType="image/x-wmf"/>
  <Override PartName="/ppt/media/image10.jpeg" ContentType="image/jpeg"/>
  <Override PartName="/ppt/media/image54.wmf" ContentType="image/x-wmf"/>
  <Override PartName="/ppt/media/image29.gif" ContentType="image/gif"/>
  <Override PartName="/ppt/media/image30.jpeg" ContentType="image/jpeg"/>
  <Override PartName="/ppt/media/image31.jpeg" ContentType="image/jpeg"/>
  <Override PartName="/ppt/media/image34.jpeg" ContentType="image/jpeg"/>
  <Override PartName="/ppt/media/image35.jpeg" ContentType="image/jpeg"/>
  <Override PartName="/ppt/media/image47.png" ContentType="image/png"/>
  <Override PartName="/ppt/media/image36.jpeg" ContentType="image/jpeg"/>
  <Override PartName="/ppt/media/image56.jpeg" ContentType="image/jpeg"/>
  <Override PartName="/ppt/media/image3.jpeg" ContentType="image/jpeg"/>
  <Override PartName="/ppt/media/image41.png" ContentType="image/png"/>
  <Override PartName="/ppt/media/image18.png" ContentType="image/png"/>
  <Override PartName="/ppt/media/image59.jpeg" ContentType="image/jpeg"/>
  <Override PartName="/ppt/media/image42.jpeg" ContentType="image/jpeg"/>
  <Override PartName="/ppt/media/image43.jpeg" ContentType="image/jpeg"/>
  <Override PartName="/ppt/media/image38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49.jpeg" ContentType="image/jpeg"/>
  <Override PartName="/ppt/media/image50.png" ContentType="image/png"/>
  <Override PartName="/ppt/media/image51.png" ContentType="image/png"/>
  <Override PartName="/ppt/media/image53.jpeg" ContentType="image/jpeg"/>
  <Override PartName="/ppt/media/image40.gif" ContentType="image/gif"/>
  <Override PartName="/ppt/media/image55.jpeg" ContentType="image/jpeg"/>
  <Override PartName="/ppt/media/image5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20C6-679B-4602-8BEF-265726F2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FF8C-3C34-4BF1-85A8-563106B4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EC09-756E-4CBB-BBCD-9D01894FE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A18B-E1E2-461D-ABE5-9A199B7FF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52BA-A855-439D-B560-2C452705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E0E3-5507-4FD8-8DEC-FF4E16AC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A97A-9666-4F95-BD70-DE231E11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29CF-74BA-4AD2-B731-D74AC5A5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A840-737F-484D-B5D0-82774E3F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A086-EA39-4359-AF86-7DA20FED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595B-86A2-445C-9C93-F12E0A96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7301-218D-4096-AE2F-74304710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50D2-0EB0-4EDE-8B5F-F6C220093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29.gif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gif"/><Relationship Id="rId3" Type="http://schemas.openxmlformats.org/officeDocument/2006/relationships/image" Target="../media/image41.pn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4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wmf"/><Relationship Id="rId3" Type="http://schemas.openxmlformats.org/officeDocument/2006/relationships/image" Target="../media/image53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wmf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image" Target="../media/image59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19280" y="1197000"/>
            <a:ext cx="5648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охраним русскую выхухоль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3959280" cy="5905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284720" y="476280"/>
            <a:ext cx="4390920" cy="2881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4284720" y="3357720"/>
            <a:ext cx="4390920" cy="3024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55640" y="639720"/>
            <a:ext cx="777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Она затаскивает раковину в нору и когда от долгого пребывания на воздухе её створки приоткрываются, выедает моллюс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8064720" cy="568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39640" y="549360"/>
            <a:ext cx="8064720" cy="5759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39640" y="5013360"/>
            <a:ext cx="1720800" cy="1260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611280" y="692280"/>
            <a:ext cx="1218960" cy="1209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301800" y="692280"/>
            <a:ext cx="1863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кубыш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56360" y="1197000"/>
            <a:ext cx="30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водяная лил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4103640" cy="5759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50920" y="549360"/>
            <a:ext cx="1800000" cy="1511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179440" y="492120"/>
            <a:ext cx="188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тростни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716360" y="549360"/>
            <a:ext cx="3888000" cy="5759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237800" y="620640"/>
            <a:ext cx="122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рого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2050920" y="549360"/>
            <a:ext cx="4286520" cy="5759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824920" y="492120"/>
            <a:ext cx="237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ежеголов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836640"/>
            <a:ext cx="1008000" cy="5256360"/>
          </a:xfrm>
          <a:prstGeom prst="rect">
            <a:avLst/>
          </a:prstGeom>
          <a:gradFill rotWithShape="0">
            <a:gsLst>
              <a:gs pos="0">
                <a:srgbClr val="506e53"/>
              </a:gs>
              <a:gs pos="100000">
                <a:srgbClr val="afefb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 rot="5400000">
            <a:off x="-108720" y="2996640"/>
            <a:ext cx="2736720" cy="57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 о р 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63640" y="765000"/>
            <a:ext cx="3456000" cy="1295640"/>
          </a:xfrm>
          <a:custGeom>
            <a:avLst/>
            <a:gdLst>
              <a:gd name="textAreaLeft" fmla="*/ 864000 w 3456000"/>
              <a:gd name="textAreaRight" fmla="*/ 2592000 w 345600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gradFill rotWithShape="0">
            <a:gsLst>
              <a:gs pos="0">
                <a:srgbClr val="afefb5"/>
              </a:gs>
              <a:gs pos="100000">
                <a:srgbClr val="506e5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гнездовы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2781360"/>
            <a:ext cx="3456000" cy="1295280"/>
          </a:xfrm>
          <a:custGeom>
            <a:avLst/>
            <a:gdLst>
              <a:gd name="textAreaLeft" fmla="*/ 864000 w 3456000"/>
              <a:gd name="textAreaRight" fmla="*/ 2592000 w 34560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gradFill rotWithShape="0">
            <a:gsLst>
              <a:gs pos="0">
                <a:srgbClr val="afefb5"/>
              </a:gs>
              <a:gs pos="100000">
                <a:srgbClr val="506e5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запасны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63640" y="4869000"/>
            <a:ext cx="3456000" cy="1295280"/>
          </a:xfrm>
          <a:custGeom>
            <a:avLst/>
            <a:gdLst>
              <a:gd name="textAreaLeft" fmla="*/ 864000 w 3456000"/>
              <a:gd name="textAreaRight" fmla="*/ 2592000 w 34560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gradFill rotWithShape="0">
            <a:gsLst>
              <a:gs pos="0">
                <a:srgbClr val="afefb5"/>
              </a:gs>
              <a:gs pos="100000">
                <a:srgbClr val="506e5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весенни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19640" y="692280"/>
            <a:ext cx="3240000" cy="1584360"/>
          </a:xfrm>
          <a:prstGeom prst="rect">
            <a:avLst/>
          </a:prstGeom>
          <a:gradFill rotWithShape="0">
            <a:gsLst>
              <a:gs pos="0">
                <a:srgbClr val="afefb5"/>
              </a:gs>
              <a:gs pos="100000">
                <a:srgbClr val="506e5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9640" y="2637000"/>
            <a:ext cx="3240000" cy="1584000"/>
          </a:xfrm>
          <a:prstGeom prst="rect">
            <a:avLst/>
          </a:prstGeom>
          <a:gradFill rotWithShape="0">
            <a:gsLst>
              <a:gs pos="0">
                <a:srgbClr val="afefb5"/>
              </a:gs>
              <a:gs pos="100000">
                <a:srgbClr val="506e5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19640" y="4581360"/>
            <a:ext cx="3240000" cy="1584360"/>
          </a:xfrm>
          <a:prstGeom prst="rect">
            <a:avLst/>
          </a:prstGeom>
          <a:gradFill rotWithShape="0">
            <a:gsLst>
              <a:gs pos="0">
                <a:srgbClr val="afefb5"/>
              </a:gs>
              <a:gs pos="100000">
                <a:srgbClr val="506e5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2720" y="836640"/>
            <a:ext cx="32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лужат основным жилищем и  мест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рождения молодня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43480" y="2655720"/>
            <a:ext cx="318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ужат для поедания добычи, отдыха, а зи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ля пополнения во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 передвижении по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ь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92720" y="486900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ужат временным убежищем в период разл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4360" y="1268280"/>
            <a:ext cx="7775280" cy="4824720"/>
          </a:xfrm>
          <a:prstGeom prst="bevel">
            <a:avLst>
              <a:gd name="adj" fmla="val 12500"/>
            </a:avLst>
          </a:prstGeom>
          <a:solidFill>
            <a:srgbClr val="a6f8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258920" y="1844640"/>
            <a:ext cx="6626160" cy="3672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340000" y="549360"/>
            <a:ext cx="4513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Схема норы выхухо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64000" y="836640"/>
            <a:ext cx="3024360" cy="2305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afefb5"/>
              </a:gs>
              <a:gs pos="100000">
                <a:srgbClr val="506e5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651640" y="1125360"/>
            <a:ext cx="2449440" cy="1727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84360" y="765000"/>
            <a:ext cx="1152360" cy="5472360"/>
          </a:xfrm>
          <a:prstGeom prst="rect">
            <a:avLst/>
          </a:prstGeom>
          <a:gradFill rotWithShape="0">
            <a:gsLst>
              <a:gs pos="0">
                <a:srgbClr val="506e53"/>
              </a:gs>
              <a:gs pos="100000">
                <a:srgbClr val="afefb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 rot="5400000">
            <a:off x="-1404000" y="3211920"/>
            <a:ext cx="5257800" cy="649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стественные враг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50920" y="836640"/>
            <a:ext cx="3024360" cy="2305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afefb5"/>
              </a:gs>
              <a:gs pos="100000">
                <a:srgbClr val="506e5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340000" y="1125360"/>
            <a:ext cx="2448000" cy="1727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050920" y="3789360"/>
            <a:ext cx="3024360" cy="2305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afefb5"/>
              </a:gs>
              <a:gs pos="100000">
                <a:srgbClr val="506e5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64000" y="3789360"/>
            <a:ext cx="3024360" cy="2305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afefb5"/>
              </a:gs>
              <a:gs pos="100000">
                <a:srgbClr val="506e5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17800" y="2421000"/>
            <a:ext cx="132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лисиц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82160" y="2565360"/>
            <a:ext cx="25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нотовидная соба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5651640" y="4076640"/>
            <a:ext cx="2449440" cy="1727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374160" y="5373720"/>
            <a:ext cx="129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хорьк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2340000" y="4076640"/>
            <a:ext cx="2448000" cy="1728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349800" y="5373720"/>
            <a:ext cx="1218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выд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859280" y="3213000"/>
            <a:ext cx="3816360" cy="3168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68360" y="476280"/>
            <a:ext cx="4402080" cy="3386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9440" y="3357720"/>
            <a:ext cx="1789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горноста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03640" y="3284640"/>
            <a:ext cx="345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американская нор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468360" y="3860640"/>
            <a:ext cx="4390920" cy="2521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41440" y="5805360"/>
            <a:ext cx="1469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ндат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6920" y="549360"/>
            <a:ext cx="7993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наибольшее давление оказывают на зверька и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акклиматизированные чужаки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5724360" y="1484280"/>
            <a:ext cx="1800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77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9" dur="770" fill="hold"/>
                                        <p:tgtEl>
                                          <p:spTgt spid="1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1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3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7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07240" y="476280"/>
            <a:ext cx="6318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Из птиц к врагам выхухоли относятся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981000"/>
            <a:ext cx="3816360" cy="2592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0e09f"/>
              </a:gs>
              <a:gs pos="100000">
                <a:srgbClr val="1d674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575280" y="2888280"/>
            <a:ext cx="3816360" cy="259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0e09f"/>
              </a:gs>
              <a:gs pos="100000">
                <a:srgbClr val="1d674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645000"/>
            <a:ext cx="3816360" cy="2592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0e09f"/>
              </a:gs>
              <a:gs pos="100000">
                <a:srgbClr val="1d674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042920" y="119700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859280" y="1268280"/>
            <a:ext cx="3241800" cy="20163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013440" y="292428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ёрный коршу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476360" y="2565360"/>
            <a:ext cx="2016000" cy="3240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270880" y="5373720"/>
            <a:ext cx="1241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фили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4859280" y="3933720"/>
            <a:ext cx="3241800" cy="20163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805440" y="5373720"/>
            <a:ext cx="1273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соро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716360" y="620640"/>
            <a:ext cx="3816360" cy="5616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220360" y="692280"/>
            <a:ext cx="3000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ерая неясы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611280" y="620640"/>
            <a:ext cx="3960720" cy="5616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13080" y="5516640"/>
            <a:ext cx="385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большой подорли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8064720" cy="57592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373440" y="981000"/>
            <a:ext cx="1258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скоп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2268360" y="549360"/>
            <a:ext cx="4319640" cy="57592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629080" y="617400"/>
            <a:ext cx="144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берку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892800"/>
            <a:ext cx="7704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Arial"/>
              </a:rPr>
              <a:t>Прозвенел опять звонок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Arial"/>
              </a:rPr>
              <a:t>И начался наш урок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Arial"/>
              </a:rPr>
              <a:t>Будем край мы свой  любить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Arial"/>
              </a:rPr>
              <a:t>О животных говорить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3" descr="AG00319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71640" y="2565360"/>
            <a:ext cx="396108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7993080" cy="5759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044720" y="5442120"/>
            <a:ext cx="312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болотный лун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207280" cy="5905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509800" y="620640"/>
            <a:ext cx="27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ерая воро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92680" y="549360"/>
            <a:ext cx="6791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И даже под водой приходится опасаться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1125360"/>
            <a:ext cx="4392360" cy="2521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0e09f"/>
              </a:gs>
              <a:gs pos="100000">
                <a:srgbClr val="1d674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43280" y="3716280"/>
            <a:ext cx="3888000" cy="2521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0e09f"/>
              </a:gs>
              <a:gs pos="100000">
                <a:srgbClr val="1d674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932360" y="4005360"/>
            <a:ext cx="3311640" cy="19447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302520" y="5373720"/>
            <a:ext cx="10281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сом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900000" y="1413000"/>
            <a:ext cx="3816360" cy="19447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844720" y="2852640"/>
            <a:ext cx="111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щу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 rot="9343800">
            <a:off x="6300720" y="907920"/>
            <a:ext cx="2160720" cy="1152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1332000" y="1052640"/>
            <a:ext cx="396072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оверь себя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4360" y="2133720"/>
            <a:ext cx="7796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Выхухоль – это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45440" y="2637000"/>
            <a:ext cx="145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а) цвето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45800" y="3141720"/>
            <a:ext cx="145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б) зверё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46880" y="3573360"/>
            <a:ext cx="284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) название гор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9640" y="4076640"/>
            <a:ext cx="801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2.  Какое другое название имеет выхухоль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74520" y="4581360"/>
            <a:ext cx="184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а) хохлуш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74520" y="5013360"/>
            <a:ext cx="177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б) хохлат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75240" y="5445000"/>
            <a:ext cx="1499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) хоху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755640" y="4653000"/>
            <a:ext cx="1873440" cy="16556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738360" y="625320"/>
            <a:ext cx="7645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3. Какое из этих животных русская выхухоль?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1187280" y="1197000"/>
            <a:ext cx="3095640" cy="1224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4643280" y="1341360"/>
            <a:ext cx="3816360" cy="3024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900000" y="2565360"/>
            <a:ext cx="3538800" cy="20192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6"/>
          <a:stretch/>
        </p:blipFill>
        <p:spPr>
          <a:xfrm>
            <a:off x="2916360" y="4724280"/>
            <a:ext cx="2719440" cy="13431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7"/>
          <a:stretch/>
        </p:blipFill>
        <p:spPr>
          <a:xfrm>
            <a:off x="5867280" y="4724280"/>
            <a:ext cx="2552760" cy="12556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118160" y="1125360"/>
            <a:ext cx="4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4160" y="1268280"/>
            <a:ext cx="446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29440" y="2492280"/>
            <a:ext cx="444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45080" y="4653000"/>
            <a:ext cx="389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8520" y="4653000"/>
            <a:ext cx="45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д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059280" y="4581360"/>
            <a:ext cx="2736720" cy="1584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1908000" y="981000"/>
            <a:ext cx="489456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машнее зада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9640" y="2565360"/>
            <a:ext cx="7993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Рассказать дома о том, что узнали на уроке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Составить и оформить охранную грамоту выхухол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751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1758600">
            <a:off x="6876720" y="549000"/>
            <a:ext cx="1120680" cy="208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826920" y="476280"/>
          <a:ext cx="4321440" cy="6210360"/>
        </p:xfrm>
        <a:graphic>
          <a:graphicData uri="http://schemas.openxmlformats.org/drawingml/2006/table">
            <a:tbl>
              <a:tblPr/>
              <a:tblGrid>
                <a:gridCol w="538200"/>
                <a:gridCol w="542880"/>
                <a:gridCol w="538200"/>
                <a:gridCol w="543240"/>
                <a:gridCol w="539640"/>
                <a:gridCol w="538200"/>
                <a:gridCol w="542880"/>
                <a:gridCol w="538200"/>
              </a:tblGrid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ff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381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1023840" y="2103480"/>
            <a:ext cx="18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2520" y="2133720"/>
            <a:ext cx="41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1800" y="2637000"/>
            <a:ext cx="36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1800" y="3141720"/>
            <a:ext cx="37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1800" y="371628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1800" y="4221000"/>
            <a:ext cx="36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1800" y="4724280"/>
            <a:ext cx="37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1800" y="530064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5080" y="314172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05080" y="3645000"/>
            <a:ext cx="418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05080" y="4221000"/>
            <a:ext cx="37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57280" y="4767120"/>
            <a:ext cx="36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05080" y="530064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620640"/>
            <a:ext cx="36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81800" y="1125360"/>
            <a:ext cx="39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81440" y="162864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81800" y="2133720"/>
            <a:ext cx="39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61640" y="2679840"/>
            <a:ext cx="41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440" y="314172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3716280"/>
            <a:ext cx="36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81440" y="422100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86160" y="162864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86160" y="220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86160" y="2708280"/>
            <a:ext cx="36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86160" y="314172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57080" y="3716280"/>
            <a:ext cx="35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57080" y="4221000"/>
            <a:ext cx="35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60720" y="3716280"/>
            <a:ext cx="36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61440" y="4221000"/>
            <a:ext cx="39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61800" y="4724280"/>
            <a:ext cx="41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61080" y="530064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60360" y="5805360"/>
            <a:ext cx="35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292720" y="3429000"/>
            <a:ext cx="3311640" cy="2557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292720" y="3429000"/>
            <a:ext cx="3311640" cy="2592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5292720" y="3429000"/>
            <a:ext cx="3311640" cy="2592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5450040" y="2997360"/>
            <a:ext cx="2920680" cy="3024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5435640" y="2997360"/>
            <a:ext cx="2855880" cy="3240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565800" y="314172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66160" y="3716280"/>
            <a:ext cx="39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65800" y="422100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65440" y="4724280"/>
            <a:ext cx="36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5435640" y="2997360"/>
            <a:ext cx="3168720" cy="3147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142160" y="263700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41800" y="3141720"/>
            <a:ext cx="36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1800" y="3716280"/>
            <a:ext cx="37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41440" y="4221000"/>
            <a:ext cx="35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42160" y="472428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9"/>
          <a:stretch/>
        </p:blipFill>
        <p:spPr>
          <a:xfrm>
            <a:off x="5292720" y="3500280"/>
            <a:ext cx="3311640" cy="2489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645080" y="2133720"/>
            <a:ext cx="37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5440" y="2708280"/>
            <a:ext cx="39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5080" y="314172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97640" y="368784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0"/>
          <a:stretch/>
        </p:blipFill>
        <p:spPr>
          <a:xfrm>
            <a:off x="5292720" y="3068640"/>
            <a:ext cx="3311640" cy="2557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135240" y="620640"/>
            <a:ext cx="2727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ВЫХУХОЛ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98600" y="466560"/>
            <a:ext cx="814536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84360" y="692280"/>
            <a:ext cx="7704000" cy="5472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26920" y="857160"/>
            <a:ext cx="734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Выхухоль – загадочный, малоизученный житель с хобот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ведущий полуводный образ жизни. Дошёл до на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из глубокой древности в почти неизменённ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виде. Таких животных называют жив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                                      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ископаемыми, ровесниками мамо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16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84360" y="980280"/>
            <a:ext cx="7993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Абсолютно бесшумно - всплывает, высовывае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из-под воды свой “перископчик”, на подводную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лодку  жуть как похожа!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55640" y="620640"/>
            <a:ext cx="7777080" cy="5616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32000" y="981000"/>
            <a:ext cx="68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суше выхухоль довольно беспомощна. Зато в воде чувствует себя прекрасно – быстро плавает, хорошо ныря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280360" cy="5905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02160" y="549360"/>
            <a:ext cx="713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Типичные местообитания выхухо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207280" cy="5905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rot="20401200">
            <a:off x="611280" y="691920"/>
            <a:ext cx="4097160" cy="2668320"/>
          </a:xfrm>
          <a:prstGeom prst="irregularSeal1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516800">
            <a:off x="5006520" y="830160"/>
            <a:ext cx="3738600" cy="2737080"/>
          </a:xfrm>
          <a:prstGeom prst="irregularSeal1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9726800">
            <a:off x="1403280" y="1125000"/>
            <a:ext cx="29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секомые и их личинки, черви, пиявки, мелкая рыба, лягушки, моллю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2108400">
            <a:off x="5579640" y="177300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рневища кубышки, стебли рогоза, тростник, водяная ли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5373720"/>
            <a:ext cx="8569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ыхухоль умеет справляться даже с двустворчатыми моллюсками, очень прочно замыкающими свои раковины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8:20:23Z</dcterms:created>
  <dc:creator>Olqa Kruchina</dc:creator>
  <dc:description/>
  <dc:language>en-US</dc:language>
  <cp:lastModifiedBy>Алексей Новоселов</cp:lastModifiedBy>
  <dcterms:modified xsi:type="dcterms:W3CDTF">2009-07-10T05:27:45Z</dcterms:modified>
  <cp:revision>49</cp:revision>
  <dc:subject>Окружающий мир</dc:subject>
  <dc:title>Выхухоль</dc:title>
</cp:coreProperties>
</file>