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F0A6-0D24-4AC8-BCF5-955E0331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B5C1-04F0-475D-BE4C-592D246F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4364-A0BA-4B22-9BB5-5C829F8F7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FDB0-BA42-4E59-8C97-512F7C50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501B-2246-425F-AEEA-12D68B06D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207C-D679-483B-A976-22BB3A22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DBF6-98FA-498D-B24A-697939F4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B732-368D-476C-BC70-A6E196D7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FC7F-0A8C-4CF0-B949-9BA1DE35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5F8D-8453-4222-A03C-24B380A8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F7C5-E332-4DC9-A101-794E86CA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3E10-F9B9-40E4-854E-725D3807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6C46-DA62-490D-8F58-C5CEA54F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2DA1-FD8D-4E04-8FCE-496C98AC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E473-4C1C-4B6F-B6A9-50E354C0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C94A-CFB8-4FF9-84AA-3CBCA2F0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3F72-AA00-45FE-A28D-7131D4E21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3705-6DC8-4252-A6E8-57BC1171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DB81-4D11-40C5-BEDB-FC64F04D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4DCE-4A25-4480-8C46-5233C85F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51DB-ADEF-4DA7-9979-988B6E9A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6EA4-4811-4CEC-B711-0D4EDC4B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BC39-2007-4ACE-8BF7-D2D420E0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3509-065D-4CBD-A6BA-86E267B7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D15C-7039-434B-9E48-EA6C43E07A5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1677-9E42-4C09-BB4C-F5EF1542054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>
            <a:lum contrast="-24000"/>
          </a:blip>
          <a:stretch/>
        </p:blipFill>
        <p:spPr>
          <a:xfrm>
            <a:off x="-304920" y="-228600"/>
            <a:ext cx="9750600" cy="731376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cc66"/>
                </a:solidFill>
                <a:latin typeface="Arial"/>
              </a:rPr>
              <a:t>Русская выхухоль - чудо природы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508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 факторах негативно влияющих на популяции этого зверька нам расскажут знаток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5543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66ff"/>
                </a:solidFill>
                <a:latin typeface="Arial"/>
              </a:rPr>
              <a:t>Мы за них в ответе!!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Человек,  помоги! Мое будущее, в твоих руках 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06472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915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Garamond"/>
              </a:rPr>
              <a:t>Посвящается хохуле !!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ff"/>
                </a:solidFill>
                <a:latin typeface="Garamond"/>
              </a:rPr>
              <a:t>Хохуля – носатое чудо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Этот забавный и чрезвычайно симпатичный зверек является одним из древнейших млекопитающих, который обитает в Евразии вот уже 5 млн. ле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Место 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вы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х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у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х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ли с системе органического мира.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339640" y="2276640"/>
            <a:ext cx="849636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1116000" y="0"/>
            <a:ext cx="1202544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276720" y="1268280"/>
            <a:ext cx="6383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Царство: Живот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1fcef1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Тип: Хордов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Класс: Млекопитающ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Отряд: Насекомояд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Семейство: Выхухолев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Род: Выхухол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1fcef1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Вид: Выхухоль русск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1fcef1"/>
                </a:solidFill>
                <a:latin typeface="Verdana"/>
              </a:rPr>
              <a:t>(Desmana moschata L</a:t>
            </a:r>
            <a:r>
              <a:rPr b="0" lang="ru-RU" sz="2800" spc="-1" strike="noStrike">
                <a:solidFill>
                  <a:srgbClr val="336600"/>
                </a:solidFill>
                <a:latin typeface="Verdana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-900000" y="5661000"/>
            <a:ext cx="855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cef1"/>
                </a:solidFill>
                <a:latin typeface="Verdana"/>
              </a:rPr>
              <a:t>           </a:t>
            </a:r>
            <a:r>
              <a:rPr b="0" lang="ru-RU" sz="2400" spc="-1" strike="noStrike">
                <a:solidFill>
                  <a:srgbClr val="1fcef1"/>
                </a:solidFill>
                <a:latin typeface="Verdana"/>
              </a:rPr>
              <a:t>Место</a:t>
            </a:r>
            <a:r>
              <a:rPr b="0" lang="en-US" sz="2400" spc="-1" strike="noStrike">
                <a:solidFill>
                  <a:srgbClr val="1fcef1"/>
                </a:solidFill>
                <a:latin typeface="Verdana"/>
              </a:rPr>
              <a:t> выхухо</a:t>
            </a:r>
            <a:r>
              <a:rPr b="0" lang="ru-RU" sz="2400" spc="-1" strike="noStrike">
                <a:solidFill>
                  <a:srgbClr val="1fcef1"/>
                </a:solidFill>
                <a:latin typeface="Verdana"/>
              </a:rPr>
              <a:t>ли </a:t>
            </a:r>
            <a:r>
              <a:rPr b="0" lang="en-US" sz="2400" spc="-1" strike="noStrike">
                <a:solidFill>
                  <a:srgbClr val="1fcef1"/>
                </a:solidFill>
                <a:latin typeface="Verdana"/>
              </a:rPr>
              <a:t>в</a:t>
            </a:r>
            <a:r>
              <a:rPr b="0" lang="ru-RU" sz="2400" spc="-1" strike="noStrike">
                <a:solidFill>
                  <a:srgbClr val="1fcef1"/>
                </a:solidFill>
                <a:latin typeface="Verdana"/>
              </a:rPr>
              <a:t> системе органическ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cef1"/>
                </a:solidFill>
                <a:latin typeface="Verdana"/>
              </a:rPr>
              <a:t>             </a:t>
            </a:r>
            <a:r>
              <a:rPr b="0" lang="en-US" sz="2400" spc="-1" strike="noStrike">
                <a:solidFill>
                  <a:srgbClr val="1fcef1"/>
                </a:solidFill>
                <a:latin typeface="Verdana"/>
              </a:rPr>
              <a:t>мира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26920" y="256680"/>
            <a:ext cx="7634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В наши дни основная часть популяции выхухоли обитает в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России – в основном в бассейнах рек Волги и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Дона, в меньшей степени – в бассейнах рек Днепра, Урала, Уй и Тобола.  Кроме России выхухоли обитают еще в Казахстане,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Украине и Белоруссии, но и там их совсем немног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12061800" cy="7694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116000" y="4869000"/>
            <a:ext cx="1297080" cy="64908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067280" y="3860640"/>
            <a:ext cx="1296720" cy="649440"/>
          </a:xfrm>
          <a:prstGeom prst="rightArrow">
            <a:avLst>
              <a:gd name="adj1" fmla="val 50000"/>
              <a:gd name="adj2" fmla="val 4991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0800000">
            <a:off x="826920" y="2997000"/>
            <a:ext cx="1224000" cy="647640"/>
          </a:xfrm>
          <a:prstGeom prst="rightArrow">
            <a:avLst>
              <a:gd name="adj1" fmla="val 50000"/>
              <a:gd name="adj2" fmla="val 4724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08360" y="5589720"/>
            <a:ext cx="1297080" cy="64908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840000">
            <a:off x="395280" y="3860640"/>
            <a:ext cx="1297080" cy="649440"/>
          </a:xfrm>
          <a:prstGeom prst="rightArrow">
            <a:avLst>
              <a:gd name="adj1" fmla="val 50000"/>
              <a:gd name="adj2" fmla="val 4993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-72720" y="5047920"/>
            <a:ext cx="1297080" cy="64908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826560" y="333360"/>
            <a:ext cx="7264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 прошлом выхухоль была широко распространена в бассейнах рек Днепра, Волги, Урала и ее ареал был более широким и сплошным, чем современный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 начале 1970 г. На территории России обитало около 69 тыс. выхухолей. Однако с этого времени численность зверьков и область их распространения стали резко сокращаться, из – за чего вид был включен в Красную книгу России, а также в Красную книгу Всемирного союза охраны природы. (МСОП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егодня осталось только 25 тыс. хохуле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trips dir="l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-468720" y="1628640"/>
            <a:ext cx="915516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7:07:48Z</dcterms:created>
  <dc:creator>Katya</dc:creator>
  <dc:description/>
  <dc:language>en-US</dc:language>
  <cp:lastModifiedBy>User</cp:lastModifiedBy>
  <dcterms:modified xsi:type="dcterms:W3CDTF">2009-06-10T09:54:56Z</dcterms:modified>
  <cp:revision>10</cp:revision>
  <dc:subject/>
  <dc:title>Русская выхухоль - чудо природы</dc:title>
</cp:coreProperties>
</file>