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BC2-9607-422E-8711-485E6C73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4D6-D72B-437E-9242-F61AE0B6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AA2-92FC-42A3-99A8-05B71895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D20-6767-475C-8502-E44529C9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26B-6552-4295-B484-9679166B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A1A-DBD8-4EC4-A467-0453A3AE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83E-FD46-4962-B253-E492798C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388-E055-4A48-ADB1-40D4D6C0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BAC-F494-413D-8BB8-EDE42B29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459-E017-4A44-996E-EAFA0D7A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DE3-52D4-4812-ADEE-5AC2DEF3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743-AF3F-4ADE-B52C-C0CD9B3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F195-AE33-4129-BBDC-1B6640579C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0080" y="285840"/>
            <a:ext cx="72439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9900"/>
                </a:solidFill>
                <a:latin typeface="Arial Black"/>
              </a:rPr>
              <a:t>урок в 7 классе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Русская выхухоль – РОВЕСНИК МАМОНТ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71840" y="3857400"/>
            <a:ext cx="477216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втор : Кобзарь Елена Юрьевна, учитель биологии и экологии МОУ СОШ №12 г. Приволжск Ивановская област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85840" y="115704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загрязнение водоёмов вызывает гибель зверьков и деградацию местообит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вырубка пойменных лесов нарушает гидрологический режим поймы, что вызывает деградацию местообитаний выхухо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осушение пойменных угодий лишает выхухоль исконных мест обитания и нередко сопровождается ликвидацией древесно-кустарниковой растительности методом химической обработки, что ухудшает кормовые и защитные условия выхухолевых угод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зарегулирование стока рек (спрямление русел, строительство плотин и дамб) приводит к падению уровня грунтовых вод и, как следствие, к пересыханию отдельных водоёмов и малых рек, исчезновению лесных родников, усыханию пойменны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застройка берегов водоёмов создаёт серьёзный фактор беспокойства для выхухолей, а сопутствующие людям домашние животные (кошки, собаки) могут уничтожать зверь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выпас скота вблизи водоёмов часто взывает разрушение нор и гибель их обита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500040" y="21420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Факторы, негативно влияющие на численность русской выхух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Для сохранения вида запретить следующие виды хозяйственной дея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ловля рыбы ставными рыболовными снаст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выпас скота в стометровой полосе вокруг водоё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рубка леса (за исключением санитарной) и кустарника в стометровой полосе вокруг водоё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нахождение туристов и рыболовов-любителей на водоёмах и по берегам водоё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применение ядохимикатов и проведение мелиоративных работ без согласования с Госохотинспек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min\Мои документы\Мои рисунки\file.jpeg"/>
          <p:cNvPicPr/>
          <p:nvPr/>
        </p:nvPicPr>
        <p:blipFill>
          <a:blip r:embed="rId1"/>
          <a:stretch/>
        </p:blipFill>
        <p:spPr>
          <a:xfrm>
            <a:off x="4765680" y="4071960"/>
            <a:ext cx="4021200" cy="255600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72" name="Picture 3" descr="D:\Портфель\Школа\уроки экологии\выхухоль\hohul-027m.jpg"/>
          <p:cNvPicPr/>
          <p:nvPr/>
        </p:nvPicPr>
        <p:blipFill>
          <a:blip r:embed="rId2"/>
          <a:stretch/>
        </p:blipFill>
        <p:spPr>
          <a:xfrm>
            <a:off x="571680" y="4071960"/>
            <a:ext cx="3429000" cy="25718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73" name="Picture 4" descr="C:\Documents and Settings\Admin\Мои документы\Мои рисунки\l1048752485.jpg"/>
          <p:cNvPicPr/>
          <p:nvPr/>
        </p:nvPicPr>
        <p:blipFill>
          <a:blip r:embed="rId3"/>
          <a:stretch/>
        </p:blipFill>
        <p:spPr>
          <a:xfrm>
            <a:off x="1857240" y="214200"/>
            <a:ext cx="5567400" cy="369900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Variant_1"/>
          <p:cNvPicPr/>
          <p:nvPr/>
        </p:nvPicPr>
        <p:blipFill>
          <a:blip r:embed="rId1"/>
          <a:stretch/>
        </p:blipFill>
        <p:spPr>
          <a:xfrm>
            <a:off x="0" y="2000160"/>
            <a:ext cx="2954160" cy="105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Variant_2"/>
          <p:cNvPicPr/>
          <p:nvPr/>
        </p:nvPicPr>
        <p:blipFill>
          <a:blip r:embed="rId2"/>
          <a:stretch/>
        </p:blipFill>
        <p:spPr>
          <a:xfrm>
            <a:off x="3000240" y="142884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Variant_3_Rihgt"/>
          <p:cNvPicPr/>
          <p:nvPr/>
        </p:nvPicPr>
        <p:blipFill>
          <a:blip r:embed="rId3"/>
          <a:stretch/>
        </p:blipFill>
        <p:spPr>
          <a:xfrm>
            <a:off x="714240" y="4143240"/>
            <a:ext cx="3543480" cy="2019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Variant_4"/>
          <p:cNvPicPr/>
          <p:nvPr/>
        </p:nvPicPr>
        <p:blipFill>
          <a:blip r:embed="rId4"/>
          <a:stretch/>
        </p:blipFill>
        <p:spPr>
          <a:xfrm>
            <a:off x="5929200" y="1928880"/>
            <a:ext cx="2714760" cy="1342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variant_5"/>
          <p:cNvPicPr/>
          <p:nvPr/>
        </p:nvPicPr>
        <p:blipFill>
          <a:blip r:embed="rId5"/>
          <a:stretch/>
        </p:blipFill>
        <p:spPr>
          <a:xfrm>
            <a:off x="5500800" y="4429080"/>
            <a:ext cx="3046320" cy="1500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1515960" y="972360"/>
            <a:ext cx="69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Какое из этих животных русская выхухо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95240" y="32162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646080" y="3144960"/>
            <a:ext cx="3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1929600" y="5931000"/>
            <a:ext cx="3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7434360" y="3287880"/>
            <a:ext cx="2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357960" y="585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1071720" y="214200"/>
            <a:ext cx="70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акрепление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444400" y="214200"/>
            <a:ext cx="49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85840" y="1000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усская выхухоль относится к отряду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Грызуны (Rodentia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Однопроходные (Monotremata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Насекомоядные (Insectivora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Хищные (Carniv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4357800" y="1000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кое пахучее вещество выделяет хвостовая железа выхухол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уксу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бурну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муску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акту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 куск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14200" y="31431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колько выхухоль может пробыть под водой при ныряни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е больше 1 мину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около 5 мину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коло 20 мину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исколько, выхухоль не умеет ныр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4857840" y="3150360"/>
            <a:ext cx="42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8000"/>
                </a:solidFill>
                <a:latin typeface="Tahoma"/>
                <a:ea typeface="Times New Roman"/>
              </a:rPr>
              <a:t>Сколько детенышей обычно рождается у выхухол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. всегда только оди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б. 3-5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в. 7-8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г. более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714680" y="5103720"/>
            <a:ext cx="564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«Домик» выхухоли представляет соб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й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ору в берег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хатк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дупло на дерев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нездо из сухой травы среди камней или в бурел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Variant_1"/>
          <p:cNvPicPr/>
          <p:nvPr/>
        </p:nvPicPr>
        <p:blipFill>
          <a:blip r:embed="rId1"/>
          <a:stretch/>
        </p:blipFill>
        <p:spPr>
          <a:xfrm>
            <a:off x="357120" y="2571840"/>
            <a:ext cx="2533680" cy="193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Variant_2_Right"/>
          <p:cNvPicPr/>
          <p:nvPr/>
        </p:nvPicPr>
        <p:blipFill>
          <a:blip r:embed="rId2"/>
          <a:stretch/>
        </p:blipFill>
        <p:spPr>
          <a:xfrm>
            <a:off x="2357280" y="4071960"/>
            <a:ext cx="3024360" cy="157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Variant_3"/>
          <p:cNvPicPr/>
          <p:nvPr/>
        </p:nvPicPr>
        <p:blipFill>
          <a:blip r:embed="rId3"/>
          <a:stretch/>
        </p:blipFill>
        <p:spPr>
          <a:xfrm>
            <a:off x="4127400" y="2286000"/>
            <a:ext cx="2944800" cy="1630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Variant_4"/>
          <p:cNvPicPr/>
          <p:nvPr/>
        </p:nvPicPr>
        <p:blipFill>
          <a:blip r:embed="rId4"/>
          <a:stretch/>
        </p:blipFill>
        <p:spPr>
          <a:xfrm>
            <a:off x="5456160" y="4500720"/>
            <a:ext cx="3476880" cy="121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114732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Какой из изображенных хвостов принадлежит русской выхухол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144440" y="4573800"/>
            <a:ext cx="3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717720" y="5716800"/>
            <a:ext cx="3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644600" y="3002040"/>
            <a:ext cx="3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934040" y="53586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Arial Unicode MS"/>
              </a:rPr>
              <a:t>г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1000080" y="21420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5214960" y="1000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хухоль активна преимущественно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а рассвете и в сумер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в дневное врем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но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1000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Зимой выхухоль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впадает в спячку на весь холодный период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впадает в спячку, но периодически просыпается, чтобы пое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ведет активный образ жизни всю зи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игрирует в теплые к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0" y="3500280"/>
            <a:ext cx="43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хухоли живут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семьями, создавая пару на всю жиз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стаями по 10-20 особ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выхухоли – строго одиночные животны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во время выращивания потомства - семьями, в остальное время - по один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4286160" y="3500280"/>
            <a:ext cx="485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м питается выхухол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она всеядна, но предпочитает личинок насекомых и моллюск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это травоядное животное, в теплое время года она питается водной растительностью; в холодное  - корой деревьев и кустарник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это хищник, основной ее рацион - рыб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тип питания – сапрофитный, питается органическими остат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1857240" y="214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14200" y="371484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кие из перечисленных мер могут оказать помощь в деле восстановления численности русской выхухол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внесение русской выхухоли в Красную книгу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введение полного запрета на промысел выхухо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распространение на радио, телевидении, в бумажных видах СМИ и сети Интернет социальной рекламы, посвящённой угрозе вымирания русской выхухоли вследствие широко использования населением лесочных сетей и электроудочек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включение русской выхухоли в Красный список Всемирного союза охраны природы (МСО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0" y="928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кой из перечисленных факторов является одной из важнейших причин сокращения численности русской выхухоли в наши дн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массовое незаконное использование ставных лесочных сетей и электроудочек при ловле рыб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увеличение численности европейского бобра на реках и озера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заготовка леса на территориях, входящих в ареал обитания русской выхухо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езаконная охота на выхухоль в больших масштаб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643040" y="214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епление материала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Домашнее задание: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( по выбор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21428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Сочините текст листовки о необходимости охраны русской выхухол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Напишите заметку в школьную газету об этом зверьке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Нарисуйте животное для школьного конкурса рисунков « Это чудо – выхухоль!»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Сочините стихотворение или загадку о зверьке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Calibri"/>
              </a:rPr>
              <a:t>Обязательно! </a:t>
            </a: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Расскажите о животном  своим родным и близки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 учащихся с особенностями строения и жизнедеятельности русской выхухоли, рассмотреть причины сокращения ее численности, меры по охране этого ви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84807"/>
                </a:solidFill>
                <a:latin typeface="Calibri"/>
              </a:rPr>
              <a:t>Задач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смотреть вопросы систематического положения, внешнего строения выхухол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накомить со средой обитания и образом жизни животног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делить основные причины сокращения численности вида и меры по его сохранен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должить воспитание бережного отношения к природе, чувство ответственности за результаты свое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preview.png"/>
          <p:cNvPicPr/>
          <p:nvPr/>
        </p:nvPicPr>
        <p:blipFill>
          <a:blip r:embed="rId1"/>
          <a:stretch/>
        </p:blipFill>
        <p:spPr>
          <a:xfrm>
            <a:off x="5929200" y="428760"/>
            <a:ext cx="2714760" cy="27144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6" name="Picture 2" descr="D:\Портфель\Школа\уроки экологии\выхухоль\10_m.jpg"/>
          <p:cNvPicPr/>
          <p:nvPr/>
        </p:nvPicPr>
        <p:blipFill>
          <a:blip r:embed="rId2"/>
          <a:stretch/>
        </p:blipFill>
        <p:spPr>
          <a:xfrm>
            <a:off x="2071800" y="3571920"/>
            <a:ext cx="4770360" cy="305280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47" name="Picture 3" descr="C:\Documents and Settings\Admin\Мои документы\Мои рисунки\1999_5.jpg"/>
          <p:cNvPicPr/>
          <p:nvPr/>
        </p:nvPicPr>
        <p:blipFill>
          <a:blip r:embed="rId3"/>
          <a:srcRect l="8042" t="18831" r="5351" b="15763"/>
          <a:stretch/>
        </p:blipFill>
        <p:spPr>
          <a:xfrm>
            <a:off x="285840" y="428760"/>
            <a:ext cx="5043240" cy="26636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Мои документы\Мои рисунки\36200000.jpg"/>
          <p:cNvPicPr/>
          <p:nvPr/>
        </p:nvPicPr>
        <p:blipFill>
          <a:blip r:embed="rId1"/>
          <a:srcRect l="4346" t="0" r="0" b="3986"/>
          <a:stretch/>
        </p:blipFill>
        <p:spPr>
          <a:xfrm>
            <a:off x="4286160" y="214200"/>
            <a:ext cx="4626000" cy="371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49" name="Прямоугольник 2"/>
          <p:cNvSpPr/>
          <p:nvPr/>
        </p:nvSpPr>
        <p:spPr>
          <a:xfrm>
            <a:off x="214200" y="40006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Класс -  млекопитающие(Mammali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Отряд - насекомоядные (Insectivora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Семейство - кротовых (Talpida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Род - Desma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Вид - русская выхухоль Desmana moschata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178596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Сис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Внешний вид и некоторые особенности стро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\Мои документы\Мои рисунки\vihuhol1.JPG"/>
          <p:cNvPicPr/>
          <p:nvPr/>
        </p:nvPicPr>
        <p:blipFill>
          <a:blip r:embed="rId1"/>
          <a:stretch/>
        </p:blipFill>
        <p:spPr>
          <a:xfrm>
            <a:off x="214200" y="1928880"/>
            <a:ext cx="4341960" cy="30002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53" name="Прямоугольник 3"/>
          <p:cNvSpPr/>
          <p:nvPr/>
        </p:nvSpPr>
        <p:spPr>
          <a:xfrm>
            <a:off x="4643280" y="1214280"/>
            <a:ext cx="45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выхухоль - это небольшое животное плотного сложения, весом около 450 г  и длиной тела около 20 см. Валикообразное тело покрыто густым волосяным покровом, на короткой и малоподвижной шее сидит конусовидная голова, оканчивающаяся довольно длинным подвижным хоботком с парой крупных носовых отверстий на ко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571680" y="565776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пки небольшие, пальцы соединены плавательными перепонками. Хвост длинный, чешуйчатый, сплющен с б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Мои документы\Мои рисунки\d4f0ab782b38.jpg"/>
          <p:cNvPicPr/>
          <p:nvPr/>
        </p:nvPicPr>
        <p:blipFill>
          <a:blip r:embed="rId1"/>
          <a:stretch/>
        </p:blipFill>
        <p:spPr>
          <a:xfrm>
            <a:off x="3714840" y="500040"/>
            <a:ext cx="5214960" cy="48434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56" name="Прямоугольник 2"/>
          <p:cNvSpPr/>
          <p:nvPr/>
        </p:nvSpPr>
        <p:spPr>
          <a:xfrm>
            <a:off x="0" y="0"/>
            <a:ext cx="3786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х у зверька густой, шелковистый и блестящий; на спине он буроватый, на горле, груди и брюшке - серебристо-белый. Благодаря таким сочетаниям цветов выхухоль малозаметна в воде как снизу, так и сверху. Структура волосяного покрова позволяет удерживать значительное количество воздуха в то время, когда зверёк находится в воде. Это обеспечивает ненамокаемость меха при плавании звер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017520" y="0"/>
            <a:ext cx="34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раз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desman-rus.mpg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7080120" cy="579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D:\Портфель\Школа\уроки экологии\выхухоль\NI4m.jpg"/>
          <p:cNvPicPr/>
          <p:nvPr/>
        </p:nvPicPr>
        <p:blipFill>
          <a:blip r:embed="rId2"/>
          <a:stretch/>
        </p:blipFill>
        <p:spPr>
          <a:xfrm>
            <a:off x="1785960" y="1000080"/>
            <a:ext cx="557208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Портфель\Школа\уроки экологии\выхухоль\arial-of-desmana_map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648040"/>
          </a:xfrm>
          <a:prstGeom prst="rect">
            <a:avLst/>
          </a:prstGeom>
          <a:ln w="0">
            <a:noFill/>
          </a:ln>
        </p:spPr>
      </p:pic>
      <p:sp>
        <p:nvSpPr>
          <p:cNvPr id="61" name="Овал 2"/>
          <p:cNvSpPr/>
          <p:nvPr/>
        </p:nvSpPr>
        <p:spPr>
          <a:xfrm>
            <a:off x="1857240" y="3071880"/>
            <a:ext cx="4287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432440" y="0"/>
            <a:ext cx="64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Человек и “живое ископаемое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Портфель\Школа\уроки экологии\выхухоль\NI2m.jpg"/>
          <p:cNvPicPr/>
          <p:nvPr/>
        </p:nvPicPr>
        <p:blipFill>
          <a:blip r:embed="rId1"/>
          <a:stretch/>
        </p:blipFill>
        <p:spPr>
          <a:xfrm>
            <a:off x="6072120" y="642960"/>
            <a:ext cx="2840040" cy="37861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64" name="Picture 3" descr="D:\Портфель\Школа\уроки экологии\выхухоль\vy-05m.jpg"/>
          <p:cNvPicPr/>
          <p:nvPr/>
        </p:nvPicPr>
        <p:blipFill>
          <a:blip r:embed="rId2"/>
          <a:stretch/>
        </p:blipFill>
        <p:spPr>
          <a:xfrm>
            <a:off x="2786040" y="4357800"/>
            <a:ext cx="3500640" cy="23335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65" name="Picture 4" descr="D:\Портфель\Школа\уроки экологии\выхухоль\vy-13m.jpg"/>
          <p:cNvPicPr/>
          <p:nvPr/>
        </p:nvPicPr>
        <p:blipFill>
          <a:blip r:embed="rId3"/>
          <a:stretch/>
        </p:blipFill>
        <p:spPr>
          <a:xfrm>
            <a:off x="214200" y="642960"/>
            <a:ext cx="2714760" cy="38066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66" name="Прямоугольник 5"/>
          <p:cNvSpPr/>
          <p:nvPr/>
        </p:nvSpPr>
        <p:spPr>
          <a:xfrm>
            <a:off x="2987640" y="549360"/>
            <a:ext cx="3071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Численность сниж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1985 году их было 39 тыс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001 году — 28 тысяч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005 году — только 25 ты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059280" y="2491200"/>
            <a:ext cx="300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Вид занесён в Красную книгу Российской Федерации, а также в Красный список МС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7:20:23Z</dcterms:created>
  <dc:creator>Кобзарь Е.Ю., учитель биологии и экологии МОУ СОШ №12 Г. Приволжск Ивановская область</dc:creator>
  <dc:description/>
  <dc:language>en-US</dc:language>
  <cp:lastModifiedBy>Алексей Новоселов</cp:lastModifiedBy>
  <dcterms:modified xsi:type="dcterms:W3CDTF">2009-07-04T14:27:43Z</dcterms:modified>
  <cp:revision>27</cp:revision>
  <dc:subject>животные Красной Книги</dc:subject>
  <dc:title>   Русская выхухоль – РОВЕСНИК МАМОНТА.  </dc:title>
</cp:coreProperties>
</file>