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D4CF6-C15B-4AA2-BD64-782571A64F0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E2A85-4BC2-41E2-B3CA-14F614D8457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2635-349F-4A5F-83A1-F19249ED3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EA0B-49D1-4874-A47F-ECE362E8A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EDAE-F8AD-4207-9391-F55163FE0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7826-6F0D-4C03-AD5D-26D6C4700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CBCE6-451B-485A-B7F5-60278AD6E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A2E11-FDCF-419C-8B38-7FF796FEF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E38C6-1998-4903-B501-604A3C41C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27A47-2473-4A62-B4A6-64C26AB76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4B8BA-BBF0-49AD-8F00-203624C20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72D59-0CEF-4FED-B2E1-6AB127853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8FF0A-8821-4E94-AB5D-C94B19331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9E8B-3A7C-4BD1-942F-C59D6CB73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C85FF-2DE7-4571-8BB1-8EA194CB7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A2D9E-33E7-4E51-9BCF-1D3EE8184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79B0B-E059-43AA-864B-EF0D1AC23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3B20F-E9DE-43F6-99ED-B82AD1B49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1F1D5-00AB-402A-95E1-354AC7E82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7D15D2-63B5-45AC-9A45-B206428F0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010D1C-7832-4D42-A578-2E8E8E278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795197-E49A-40BF-8BF6-B288E0394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4E1B12-4AC3-41B2-96D6-FF492CCC7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A73FC3-A4C0-4FF8-9072-0BB1E816B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F9FA-E7C5-4D67-968C-8F5BCC71B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CAE20A-CFCF-460F-B3E7-D5EB95147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D65BB5-53D7-42E2-BA25-2A0C0FB12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D41E9F-EAD5-4169-8E4D-E046954EE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9382B7-8674-4BB8-86EE-A92A3BDFA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389577-66F1-43D5-A5DD-4C0D23F35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8931FA-911B-495E-8572-A47028C8F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0EB2E1-284A-4392-8198-399CB2D76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EC3AFE-A311-4BE8-A07D-8CDEE2C60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4F6E40-677A-4C0B-ACE1-62B363761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C6FEEB-4D5E-4B7F-B00B-0DBB48E36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4981-52BE-4C56-8F6E-83C3ED836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5B0646-99BE-48E4-831D-0E855FF2E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3AB230-9543-4EC4-AE3F-1A8A330A1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8F21E9-FD34-4A4E-A4CA-67E5470A3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4D5F11-07C2-4337-855B-A7D8AE51F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C37D1A-5142-4044-BE13-1FE1D6362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6FA4CF-C7AD-40D8-8726-1120EB8B1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E5FC57-AD10-4395-9BC7-ED2DC92EA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25E478-8B65-4674-B4E4-57E1E5336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719DDE-53C7-4F0C-AFD4-9811D58A4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16CFB9-2C7C-42B4-93E5-21E799292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249B-789E-49B3-A60A-F9F60A804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A60759-8DD9-42F8-99AA-5D7DE4F7D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D17117-0AE1-4B00-8919-1B3319DEB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2FD0B9-3FB7-4BB9-9A44-7E0E134FF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590580-C3C3-41C2-A8F1-7DFD78085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EB3B0D-FDDB-477F-A4CF-CFC9E27F4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2EF27F-BE3B-409C-AFB9-D150B8794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E349EC-7D6E-48FD-8F7E-84922D59C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7E528B-7E25-4E49-A81A-252B45303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7C3AD5-70EC-48CE-821F-3862F6130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4C5194-8D6C-4C91-9F31-F45E59F47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2BD5-2390-40A3-9073-E0762DC1C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E85FE5-25C2-4684-ACAE-95FFA6C41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7F15F5-D115-4041-94D7-1DB0E1F21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D8DE0D-82ED-4CAB-9B97-599F40345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C5CA66-ABB5-488D-B945-8D2EFA7A6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16FF77-2D97-470A-B898-DF1983B00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FFAE85-F4D7-447B-AD75-1AB54FCEF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721B0C-B55C-43D6-8102-8FBEAE6B9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98AB75-F443-40FE-840E-AF04A6532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A1774F-04F3-4BBD-80B9-550E547DD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BCED7F-B169-471B-BFA5-53403EA9D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1EC8-23BB-473E-B49E-0C384CAB2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F8C62B-0C6B-41EF-9112-7A565EAD8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01047B-F340-4B08-A070-F21D64BD3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EA0F8E-5963-4CFF-9E19-6F6F6F1D2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969AF1-3ECE-4C7C-913D-233163F7F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5931D8-D608-43F5-A578-5F81F3C3C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80EE9F-0332-4139-9648-17A1C3FC9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E3D293-4FD9-47F0-99F9-F9DDAC11E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2A85EA-DBD1-4EDF-B154-9BF570EC3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2C5CE9-86A6-49A2-8174-7788B3104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B462A0-DC19-4452-9C68-3B969CD33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E8DA-7A92-4A13-9928-A35E84577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A0080A-B96F-4024-8C1A-B8B51F368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D85EBB-6B11-4472-8AA0-7D68EF3CC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024197-35A7-4E8A-A390-013DEF0DD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649B26-A939-4669-8AE0-36B6E4042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92523F-E356-4C1A-B862-8876C8890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DD9C-D917-4F32-B7E7-1877C2724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C5B46-585E-4977-958F-0A20644F5F4D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5" name="Овал 7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7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8" name="Овал 8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94039-041F-48D3-A2E1-31FF24421157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6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" name="Прямоугольник 9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102" name="Овал 7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7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105" name="Овал 8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FD699-70C0-47D2-BDCC-36F9B226CFB5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6B859-A947-42EC-A531-7FB4B4CDFACA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4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Прямоугольник 5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52996-1175-487F-A01A-D36BAD6B6142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DDD9D-9486-49AE-A206-610AE95ECA01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7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275" name="Блок-схема: процесс 8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Блок-схема: процесс 9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542D8-9410-4C73-9D30-658A238BEFED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48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Здравствуйте, ребята и гости!</a:t>
            </a:r>
            <a:endParaRPr b="0" lang="en-US" sz="88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2"/>
          <p:cNvSpPr/>
          <p:nvPr/>
        </p:nvSpPr>
        <p:spPr>
          <a:xfrm>
            <a:off x="5572080" y="1071720"/>
            <a:ext cx="642960" cy="57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rbe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Rectangle 2"/>
          <p:cNvSpPr/>
          <p:nvPr/>
        </p:nvSpPr>
        <p:spPr>
          <a:xfrm>
            <a:off x="4286160" y="1071720"/>
            <a:ext cx="642960" cy="57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rbel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8" name="Rectangle 2"/>
          <p:cNvSpPr/>
          <p:nvPr/>
        </p:nvSpPr>
        <p:spPr>
          <a:xfrm>
            <a:off x="2357280" y="1643040"/>
            <a:ext cx="642960" cy="57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rbel"/>
              </a:rPr>
              <a:t>б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Rectangle 2"/>
          <p:cNvSpPr/>
          <p:nvPr/>
        </p:nvSpPr>
        <p:spPr>
          <a:xfrm>
            <a:off x="3000240" y="1643040"/>
            <a:ext cx="642960" cy="57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rbel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Rectangle 2"/>
          <p:cNvSpPr/>
          <p:nvPr/>
        </p:nvSpPr>
        <p:spPr>
          <a:xfrm>
            <a:off x="3643200" y="1643040"/>
            <a:ext cx="642960" cy="57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rbel"/>
              </a:rPr>
              <a:t>б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1" name="Rectangle 2"/>
          <p:cNvSpPr/>
          <p:nvPr/>
        </p:nvSpPr>
        <p:spPr>
          <a:xfrm>
            <a:off x="4286160" y="1643040"/>
            <a:ext cx="642960" cy="57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rbel"/>
              </a:rPr>
              <a:t>р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2" name="Rectangle 2"/>
          <p:cNvSpPr/>
          <p:nvPr/>
        </p:nvSpPr>
        <p:spPr>
          <a:xfrm>
            <a:off x="4929120" y="1643040"/>
            <a:ext cx="642960" cy="571680"/>
          </a:xfrm>
          <a:prstGeom prst="rect">
            <a:avLst/>
          </a:prstGeom>
          <a:solidFill>
            <a:srgbClr val="ffffff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rbel"/>
              </a:rPr>
              <a:t>ы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3" name="Rectangle 2"/>
          <p:cNvSpPr/>
          <p:nvPr/>
        </p:nvSpPr>
        <p:spPr>
          <a:xfrm>
            <a:off x="5572080" y="2214720"/>
            <a:ext cx="642960" cy="57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rbel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4" name="Rectangle 2"/>
          <p:cNvSpPr/>
          <p:nvPr/>
        </p:nvSpPr>
        <p:spPr>
          <a:xfrm>
            <a:off x="6215040" y="2214720"/>
            <a:ext cx="642960" cy="57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rbel"/>
              </a:rPr>
              <a:t>м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5" name="Rectangle 2"/>
          <p:cNvSpPr/>
          <p:nvPr/>
        </p:nvSpPr>
        <p:spPr>
          <a:xfrm>
            <a:off x="6858000" y="2214720"/>
            <a:ext cx="642960" cy="57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rbel"/>
              </a:rPr>
              <a:t>я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6" name="Rectangle 2"/>
          <p:cNvSpPr/>
          <p:nvPr/>
        </p:nvSpPr>
        <p:spPr>
          <a:xfrm>
            <a:off x="7500960" y="2214720"/>
            <a:ext cx="642960" cy="57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rbel"/>
              </a:rPr>
              <a:t>к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7" name="Rectangle 2"/>
          <p:cNvSpPr/>
          <p:nvPr/>
        </p:nvSpPr>
        <p:spPr>
          <a:xfrm>
            <a:off x="4286160" y="2786040"/>
            <a:ext cx="642960" cy="57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rbel"/>
              </a:rPr>
              <a:t>г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Rectangle 2"/>
          <p:cNvSpPr/>
          <p:nvPr/>
        </p:nvSpPr>
        <p:spPr>
          <a:xfrm>
            <a:off x="3643200" y="2786040"/>
            <a:ext cx="642960" cy="57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rbel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9" name="Rectangle 2"/>
          <p:cNvSpPr/>
          <p:nvPr/>
        </p:nvSpPr>
        <p:spPr>
          <a:xfrm>
            <a:off x="5572080" y="2786040"/>
            <a:ext cx="642960" cy="57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rbel"/>
              </a:rPr>
              <a:t>р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0" name="Rectangle 2"/>
          <p:cNvSpPr/>
          <p:nvPr/>
        </p:nvSpPr>
        <p:spPr>
          <a:xfrm>
            <a:off x="6215040" y="2786040"/>
            <a:ext cx="642960" cy="57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rbel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Rectangle 2"/>
          <p:cNvSpPr/>
          <p:nvPr/>
        </p:nvSpPr>
        <p:spPr>
          <a:xfrm>
            <a:off x="6858000" y="2786040"/>
            <a:ext cx="642960" cy="57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rbel"/>
              </a:rPr>
              <a:t>ц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Rectangle 2"/>
          <p:cNvSpPr/>
          <p:nvPr/>
        </p:nvSpPr>
        <p:spPr>
          <a:xfrm>
            <a:off x="4286160" y="3357720"/>
            <a:ext cx="642960" cy="57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rbel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3" name="Rectangle 2"/>
          <p:cNvSpPr/>
          <p:nvPr/>
        </p:nvSpPr>
        <p:spPr>
          <a:xfrm>
            <a:off x="3000240" y="3357720"/>
            <a:ext cx="642960" cy="57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rbel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4" name="Rectangle 2"/>
          <p:cNvSpPr/>
          <p:nvPr/>
        </p:nvSpPr>
        <p:spPr>
          <a:xfrm>
            <a:off x="3643200" y="3357720"/>
            <a:ext cx="642960" cy="57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rbel"/>
              </a:rPr>
              <a:t>р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Rectangle 2"/>
          <p:cNvSpPr/>
          <p:nvPr/>
        </p:nvSpPr>
        <p:spPr>
          <a:xfrm>
            <a:off x="3000240" y="3929040"/>
            <a:ext cx="642960" cy="57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rbel"/>
              </a:rPr>
              <a:t>я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6" name="Rectangle 2"/>
          <p:cNvSpPr/>
          <p:nvPr/>
        </p:nvSpPr>
        <p:spPr>
          <a:xfrm>
            <a:off x="3643200" y="3929040"/>
            <a:ext cx="642960" cy="57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rbel"/>
              </a:rPr>
              <a:t>б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7" name="Rectangle 2"/>
          <p:cNvSpPr/>
          <p:nvPr/>
        </p:nvSpPr>
        <p:spPr>
          <a:xfrm>
            <a:off x="4286160" y="3929040"/>
            <a:ext cx="642960" cy="57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rbel"/>
              </a:rPr>
              <a:t>л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8" name="Rectangle 2"/>
          <p:cNvSpPr/>
          <p:nvPr/>
        </p:nvSpPr>
        <p:spPr>
          <a:xfrm>
            <a:off x="6215040" y="3929040"/>
            <a:ext cx="642960" cy="57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rbel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9" name="Rectangle 2"/>
          <p:cNvSpPr/>
          <p:nvPr/>
        </p:nvSpPr>
        <p:spPr>
          <a:xfrm>
            <a:off x="5572080" y="3929040"/>
            <a:ext cx="642960" cy="57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rbel"/>
              </a:rPr>
              <a:t>к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Rectangle 2"/>
          <p:cNvSpPr/>
          <p:nvPr/>
        </p:nvSpPr>
        <p:spPr>
          <a:xfrm>
            <a:off x="4929120" y="3929040"/>
            <a:ext cx="642960" cy="571680"/>
          </a:xfrm>
          <a:prstGeom prst="rect">
            <a:avLst/>
          </a:prstGeom>
          <a:solidFill>
            <a:srgbClr val="ffffff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rbel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1" name="Rectangle 2"/>
          <p:cNvSpPr/>
          <p:nvPr/>
        </p:nvSpPr>
        <p:spPr>
          <a:xfrm>
            <a:off x="6215040" y="4500720"/>
            <a:ext cx="642960" cy="57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rbel"/>
              </a:rPr>
              <a:t>с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2" name="Rectangle 2"/>
          <p:cNvSpPr/>
          <p:nvPr/>
        </p:nvSpPr>
        <p:spPr>
          <a:xfrm>
            <a:off x="5572080" y="4500720"/>
            <a:ext cx="642960" cy="57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rbel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3" name="Rectangle 2"/>
          <p:cNvSpPr/>
          <p:nvPr/>
        </p:nvSpPr>
        <p:spPr>
          <a:xfrm>
            <a:off x="4929120" y="4500720"/>
            <a:ext cx="642960" cy="571320"/>
          </a:xfrm>
          <a:prstGeom prst="rect">
            <a:avLst/>
          </a:prstGeom>
          <a:solidFill>
            <a:srgbClr val="ffffff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rbel"/>
              </a:rPr>
              <a:t>л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4" name="Rectangle 2"/>
          <p:cNvSpPr/>
          <p:nvPr/>
        </p:nvSpPr>
        <p:spPr>
          <a:xfrm>
            <a:off x="3000240" y="5072040"/>
            <a:ext cx="642960" cy="57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rbel"/>
              </a:rPr>
              <a:t>л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5" name="Rectangle 2"/>
          <p:cNvSpPr/>
          <p:nvPr/>
        </p:nvSpPr>
        <p:spPr>
          <a:xfrm>
            <a:off x="3643200" y="5072040"/>
            <a:ext cx="642960" cy="57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rbel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6" name="Rectangle 2"/>
          <p:cNvSpPr/>
          <p:nvPr/>
        </p:nvSpPr>
        <p:spPr>
          <a:xfrm>
            <a:off x="4286160" y="5072040"/>
            <a:ext cx="642960" cy="57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rbel"/>
              </a:rPr>
              <a:t>с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7" name="Rectangle 2"/>
          <p:cNvSpPr/>
          <p:nvPr/>
        </p:nvSpPr>
        <p:spPr>
          <a:xfrm>
            <a:off x="4929120" y="5072040"/>
            <a:ext cx="642960" cy="571680"/>
          </a:xfrm>
          <a:prstGeom prst="rect">
            <a:avLst/>
          </a:prstGeom>
          <a:solidFill>
            <a:srgbClr val="ffffff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rbel"/>
              </a:rPr>
              <a:t>ь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8" name="Rectangle 2"/>
          <p:cNvSpPr/>
          <p:nvPr/>
        </p:nvSpPr>
        <p:spPr>
          <a:xfrm>
            <a:off x="4929120" y="1071720"/>
            <a:ext cx="642960" cy="571320"/>
          </a:xfrm>
          <a:prstGeom prst="rect">
            <a:avLst/>
          </a:prstGeom>
          <a:solidFill>
            <a:srgbClr val="ffffff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rbel"/>
              </a:rPr>
              <a:t>в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9" name="Rectangle 2"/>
          <p:cNvSpPr/>
          <p:nvPr/>
        </p:nvSpPr>
        <p:spPr>
          <a:xfrm>
            <a:off x="4929120" y="2214720"/>
            <a:ext cx="642960" cy="571320"/>
          </a:xfrm>
          <a:prstGeom prst="rect">
            <a:avLst/>
          </a:prstGeom>
          <a:solidFill>
            <a:srgbClr val="ffffff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rbel"/>
              </a:rPr>
              <a:t>х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0" name="Rectangle 2"/>
          <p:cNvSpPr/>
          <p:nvPr/>
        </p:nvSpPr>
        <p:spPr>
          <a:xfrm>
            <a:off x="4929120" y="2786040"/>
            <a:ext cx="642960" cy="571680"/>
          </a:xfrm>
          <a:prstGeom prst="rect">
            <a:avLst/>
          </a:prstGeom>
          <a:solidFill>
            <a:srgbClr val="ffffff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у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1" name="Rectangle 2"/>
          <p:cNvSpPr/>
          <p:nvPr/>
        </p:nvSpPr>
        <p:spPr>
          <a:xfrm>
            <a:off x="4929120" y="3357720"/>
            <a:ext cx="642960" cy="571320"/>
          </a:xfrm>
          <a:prstGeom prst="rect">
            <a:avLst/>
          </a:prstGeom>
          <a:solidFill>
            <a:srgbClr val="ffffff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rbel"/>
              </a:rPr>
              <a:t>х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2" name=""/>
          <p:cNvSpPr/>
          <p:nvPr/>
        </p:nvSpPr>
        <p:spPr>
          <a:xfrm>
            <a:off x="2053080" y="1773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3" name=""/>
          <p:cNvSpPr/>
          <p:nvPr/>
        </p:nvSpPr>
        <p:spPr>
          <a:xfrm>
            <a:off x="3997800" y="1125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4" name=""/>
          <p:cNvSpPr/>
          <p:nvPr/>
        </p:nvSpPr>
        <p:spPr>
          <a:xfrm>
            <a:off x="4500720" y="2349360"/>
            <a:ext cx="45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5" name=""/>
          <p:cNvSpPr/>
          <p:nvPr/>
        </p:nvSpPr>
        <p:spPr>
          <a:xfrm>
            <a:off x="3278520" y="285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6" name=""/>
          <p:cNvSpPr/>
          <p:nvPr/>
        </p:nvSpPr>
        <p:spPr>
          <a:xfrm>
            <a:off x="2629080" y="342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7" name=""/>
          <p:cNvSpPr/>
          <p:nvPr/>
        </p:nvSpPr>
        <p:spPr>
          <a:xfrm>
            <a:off x="2557800" y="4005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8" name=""/>
          <p:cNvSpPr/>
          <p:nvPr/>
        </p:nvSpPr>
        <p:spPr>
          <a:xfrm>
            <a:off x="4573800" y="45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9" name=""/>
          <p:cNvSpPr/>
          <p:nvPr/>
        </p:nvSpPr>
        <p:spPr>
          <a:xfrm>
            <a:off x="2629080" y="515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071360" y="-360"/>
            <a:ext cx="78627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Русская выхухоль</a:t>
            </a:r>
            <a:endParaRPr b="0" lang="en-US" sz="60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71" name="Picture 2" descr="K:\про выхухоль\Фотографии\фото_1.jpg"/>
          <p:cNvPicPr/>
          <p:nvPr/>
        </p:nvPicPr>
        <p:blipFill>
          <a:blip r:embed="rId2"/>
          <a:stretch/>
        </p:blipFill>
        <p:spPr>
          <a:xfrm>
            <a:off x="1547640" y="1857240"/>
            <a:ext cx="727416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071720" y="0"/>
            <a:ext cx="776736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  </a:t>
            </a:r>
            <a:r>
              <a:rPr b="1" lang="ru-RU" sz="6000" spc="-1" strike="noStrike">
                <a:solidFill>
                  <a:srgbClr val="425519"/>
                </a:solidFill>
                <a:latin typeface="Times New Roman"/>
                <a:ea typeface="Times New Roman"/>
              </a:rPr>
              <a:t>Внешний вид</a:t>
            </a:r>
            <a:endParaRPr b="0" lang="en-US" sz="6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1431720" y="1214280"/>
            <a:ext cx="7569000" cy="542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усская выхухоль-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енький симпатичный зверек с хоботком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ес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коло 450 г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лина тела-20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Лапки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большие, пальцы соединены плавательными перепонками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Хвост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линный, чешуйчатый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Глаза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енькие- поэтому зрение очень слабое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Ушные раковины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сутствуют, но слух хороший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Мех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устой, шелковистый и блестящий</a:t>
            </a:r>
            <a:r>
              <a:rPr b="1" lang="ru-RU" sz="2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 водой может находиться 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5 минут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 </a:t>
            </a:r>
            <a:r>
              <a:rPr b="1" lang="ru-RU" sz="6000" spc="-1" strike="noStrike">
                <a:solidFill>
                  <a:srgbClr val="425519"/>
                </a:solidFill>
                <a:latin typeface="Times New Roman"/>
                <a:ea typeface="Times New Roman"/>
              </a:rPr>
              <a:t>Среда обитания</a:t>
            </a:r>
            <a:endParaRPr b="0" lang="en-US" sz="6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5500800" y="1523880"/>
            <a:ext cx="392904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итает в поймах рек и по берегам озер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тречается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Европейской части России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азахстане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Украине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Белоруссии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76" name="Picture 2" descr="K:\про выхухоль\Фотографии\фото_11.jpg"/>
          <p:cNvPicPr/>
          <p:nvPr/>
        </p:nvPicPr>
        <p:blipFill>
          <a:blip r:embed="rId2"/>
          <a:stretch/>
        </p:blipFill>
        <p:spPr>
          <a:xfrm>
            <a:off x="1143000" y="1643040"/>
            <a:ext cx="4429080" cy="36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2" descr="K:\про выхухоль\Картографические материалы\Ареал выхухоли на 2005г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99720" y="360360"/>
            <a:ext cx="8358120" cy="13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 </a:t>
            </a:r>
            <a:r>
              <a:rPr b="1" lang="en-US" sz="5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чины исчезновения </a:t>
            </a:r>
            <a:br>
              <a:rPr sz="5400"/>
            </a:br>
            <a:r>
              <a:rPr b="1" lang="en-US" sz="5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выхухоли</a:t>
            </a:r>
            <a:endParaRPr b="0" lang="en-US" sz="5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1431720" y="2143080"/>
            <a:ext cx="7407000" cy="421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marL="270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грязнение водоемов;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рубка пойменных лесов;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стройка берегов водоемов;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водохранилищ;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ас скота вблизи водоемов;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ушение пойменных угодий;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сочные сети и электроудочки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20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20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20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20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20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20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20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20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2000" fill="hold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2000" fill="hold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2000" fill="hold"/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2000" fill="hold"/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2000" fill="hold"/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2000" fill="hold"/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Заголовок 1" descr=""/>
          <p:cNvPicPr/>
          <p:nvPr/>
        </p:nvPicPr>
        <p:blipFill>
          <a:blip r:embed="rId2"/>
          <a:stretch/>
        </p:blipFill>
        <p:spPr>
          <a:xfrm>
            <a:off x="390600" y="2152800"/>
            <a:ext cx="9131400" cy="17859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9" dur="80"/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0" dur="80"/>
                                        <p:tgtEl>
                                          <p:spTgt spid="3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1" dur="80"/>
                                        <p:tgtEl>
                                          <p:spTgt spid="3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9T17:24:16Z</dcterms:created>
  <dc:creator>Admin</dc:creator>
  <dc:description/>
  <dc:language>en-US</dc:language>
  <cp:lastModifiedBy>Alexey Novoselov</cp:lastModifiedBy>
  <dcterms:modified xsi:type="dcterms:W3CDTF">2009-10-22T15:23:31Z</dcterms:modified>
  <cp:revision>29</cp:revision>
  <dc:subject/>
  <dc:title>Защитим русскую         выхухоль</dc:title>
</cp:coreProperties>
</file>