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C7D-BE97-4A4D-B24C-9F7037C8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230-1088-4235-AFF0-FFA21E83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67E-D928-4C38-897D-B0797DCA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0E8-FC02-4093-9118-2A330620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C2F-9F1B-4757-994C-334A101F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578-8B91-44CA-AA65-343EB936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521-D6D9-40B5-94F0-A77B58E3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2E3-25BA-4780-8D68-FD6F0899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443-7F82-4ADD-A5D4-4186956F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EB2-083E-4B74-B89E-A8F8648A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2F9-AD20-4CBE-9171-25FA675E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B9F-14BB-4628-9D8C-37F4C54A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3134-0134-4520-BD34-20A8068BD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0"/>
            <a:ext cx="74170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00"/>
                </a:solidFill>
                <a:uFillTx/>
                <a:latin typeface="Monotype Corsiva"/>
              </a:rPr>
              <a:t>Русская выхухоль имеет право на жизн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989000"/>
            <a:ext cx="489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718080" cy="431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2708280"/>
            <a:ext cx="4608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Цель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изучить особенности биологии и экологии русской выхухоли, знание которых         необходимо для разработки мер по охране и сохранению в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24000" y="333360"/>
            <a:ext cx="47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Выхухоль"/>
          <p:cNvPicPr/>
          <p:nvPr/>
        </p:nvPicPr>
        <p:blipFill>
          <a:blip r:embed="rId2"/>
          <a:stretch/>
        </p:blipFill>
        <p:spPr>
          <a:xfrm>
            <a:off x="4356000" y="2781360"/>
            <a:ext cx="4538880" cy="388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3068640"/>
            <a:ext cx="4211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основании, подпушь извитая, на брюхе волосы даже гуще, чем на спине; сильный хвост шерстью не по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41300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Объясните следующие особенности волосяного               покрова зверь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х плотный, густой, хорошо смазан жиром; остевые волосы вверху шире, 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0"/>
            <a:ext cx="849636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Выхухоль приспособлена к жизни в вод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стой, плотный мех уменьшает отдачу теп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ровая смазка предотвращает намок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витая подпушь содержит много воздуха, что создает теплоизолирующий слой, в том числе и на брюх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789360"/>
            <a:ext cx="3816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хвост – не только хороший руль, но и теплоизлучатель на суше (предохраняет от перегре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24360" y="3500280"/>
            <a:ext cx="485460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260280"/>
            <a:ext cx="8786880" cy="69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А зап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идеть выхухоль нелегко: она очень осторожна, и лишь рано утром или вечером можно заметить торчащий из воды хоботок или голову высунувшегося подышать зверька. Жилая нора выхухоли имеет стойкий мускусный запах, выделяемый скоплением мускусных желез, расположенных в основании хвоста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620640"/>
            <a:ext cx="388944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Сле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присутствии в водоеме выхухоли можно узнать по кучкам пустых раковин у входа в нору, расходящимся от норы траншеям-тропинкам в донном иле, зимой — по цепочкам пузырьков, скапливающихся подо льдом над тропами. Отпечаток лапы пятипа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1700280"/>
            <a:ext cx="4440240" cy="4122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6237360"/>
            <a:ext cx="2158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620640"/>
            <a:ext cx="3384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остранена в бассейне Волги, Дона и Урала, завезена в верховья Днепра и на юг Западной Сибири. Обитает в заросших пойменных озерах и речных заводях с плесами открытой 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605040" y="1628640"/>
            <a:ext cx="5484960" cy="388620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835280" y="2602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Распростра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877000"/>
            <a:ext cx="83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ухоль - эндемик на территории Восточной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6269040" cy="64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1280" y="404640"/>
            <a:ext cx="9072720" cy="56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8143920" cy="5042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 flipV="1">
            <a:off x="6012000" y="4149720"/>
            <a:ext cx="0" cy="22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79280" y="2133720"/>
            <a:ext cx="151308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652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Русская выхухоль на территории Пензе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58920" y="4581360"/>
            <a:ext cx="3313080" cy="165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940000" y="692280"/>
            <a:ext cx="2016360" cy="172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6237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Выхухоль — исконный обитатель поймы Хоп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0"/>
            <a:ext cx="89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ейчас численность вида в России по экспертной оценке составляет около 35 тыс. особей, сосредоточенных в основном в бассейнах Волги (20 тыс. зверьков) и Дона (10 тыс. зверьков). В бассейнах Днепра и Урала по 1,5 тыс. особей и с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789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342900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же за Уралом, в бассейнах рек Уй и Тоб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40360" y="3068640"/>
            <a:ext cx="474336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0"/>
            <a:ext cx="82818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атус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-я катег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Вид, находящийся под угрозой исчезнов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3789360"/>
            <a:ext cx="828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ухоль включена в Красные книги России и Международного Союза охраны природы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ее охраны создано несколько заповедников и заказников. Предпринимались попытки разведения ее в неволе, но это оказалось исключительно сложным д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20843400">
            <a:off x="539640" y="907560"/>
            <a:ext cx="585324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>
                    <a:alpha val="92000"/>
                  </a:srgbClr>
                </a:solidFill>
                <a:latin typeface="Monotype Corsiva"/>
              </a:rPr>
              <a:t>Русская выхухоль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>
                  <a:alpha val="92000"/>
                </a:srgbClr>
              </a:solidFill>
              <a:latin typeface="Monotype Corsiva"/>
              <a:ea typeface="Monotype Corsiva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333360"/>
            <a:ext cx="3961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Дела давно минувших д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Преданья старины глубо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284640"/>
            <a:ext cx="468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-то очень давно (40 млн. лет назад) на Земле появился выхухоль - небольшой зверек, длина его в среднем 20 см, а вес примерно полкилограмма. Распространен он был по всей Европ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86200" y="2852640"/>
            <a:ext cx="4357800" cy="371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40720" y="6597720"/>
            <a:ext cx="71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6515280"/>
            <a:ext cx="1079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299280"/>
            <a:ext cx="792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6370560"/>
            <a:ext cx="57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637056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76500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3979800" cy="396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59280" y="2565360"/>
            <a:ext cx="3976920" cy="3976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11280" y="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Монеты Росс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83664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Н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рубль 2000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ия: Красная книг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алл: сереб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87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Лимитирующие факторы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Антропогенная трансформация пойменных местообитаний (вырубка прибрежных лесов, осушение водоемов, загрязнение их промышленными и сельскохозяйственными стоками, выпас скота по берега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Гибель зверьков при ловле рыбы лесочными сетями и электроудоч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211640" y="3500280"/>
            <a:ext cx="4264200" cy="3197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3789360"/>
            <a:ext cx="3311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Выявлена прямая зависимость численности вида от суммы летне-осенних осад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83664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их сетях  умирают  редкие животные, например, занесенная в Красную книгу выхухоль. Ее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численность на Земле сократилась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до 30 тысяч экземпляров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33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Браконьеры могут окончательно погубить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95640" y="2637000"/>
            <a:ext cx="4945320" cy="3722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2019240"/>
            <a:ext cx="377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В Пензенской области остались лишь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несколько десятков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этих животных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туация с выхухолью катастрофическая. Если в ближайшее время не принять кардинальных мер, это животное может исчезнуть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9280" y="1197000"/>
            <a:ext cx="86425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тественных врагов выхухоль не имеет. Опасными врагами выхухоль стали ондатра и американская норка, акклиматизированные в СССР и выпущенные в пределах ареала. В связи с изменением ландшафта пойм (вырубка деревьев, на которых выхухоль пережидает половодье) и уничтожением американской норкой и ондатрой численность выхухоль быстро сокращается. Необходима хорошо организованная и строгая охрана вида. В прошлом ценный промыслов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22840" cy="21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341360"/>
            <a:ext cx="88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9280" y="2205000"/>
            <a:ext cx="84247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 осени 2000 г. Центр охраны дикой природы при финансовой поддержке Фонда национальных парков осуществляет проект «Сохраним русскую выхухоль», посвященный оценке современного состояния популяции, разработке конкретных мер ее сохранения и их воплощения на мес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142884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0"/>
            <a:ext cx="8640720" cy="63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Рекомендации по сохранению вида в естественных условиях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учение современного распространения и численности выхух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я во вновь найденных местах обитания вида особо охраняемых природных территор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олнение решений по охране малых р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рет выпаса скота по берегам и неукоснительное соблюдение запрета лова рыбы вершами и сетями в водоемах, населенных выхухол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26920" y="54936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Заповедники, в которых охраняется русская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1628640"/>
            <a:ext cx="302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неж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пер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ерж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н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537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азников (около 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365640" cy="50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260280"/>
            <a:ext cx="864252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аповедники и заказники Пензенской обл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осударственный заказник «Земетчинский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осударственный заказник «Лесной» (Земетчинск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йо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осударственный заказник «Мещерский» (Сердоб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йо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Узинский заказник (Уза—левый приток Сур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ыхухолевый заповедник Хоперский (река Хопер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0"/>
            <a:ext cx="8893080" cy="75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Краткие тезисы к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ая выхухоль - реликтовый вид, эндемик на территории Восточной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рошлом ценный промыслов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Вырубка прибрежных лесов, осушение водоемов, загрязнение их промышленными и сельскохозяйственными стоками, выпас скота по берегам, вытеснение акклиматизированными американской норкой и ондатрой, зависимость от суммы летне-осенних осадков, лов рыбы сетями привели к катастрофическому сокращению численности 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4. Статус: 1-я категория. Вид, находящийся под угрозой   исчезнов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Выхухоль включена в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расные книг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России и Международного Союза охраны природ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30200" y="0"/>
            <a:ext cx="8713800" cy="68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авина Алевтина Борис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биологии МОУ СОШ с. Старая Кам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рес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405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зен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зен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 Старая Кам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. Молодежная, дом 6, квартира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. 8(412)3889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с: 8(412)3890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vtina704@rambler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33336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их животных называют живыми ископаемыми, ровесниками мамонта – ученые утверждают, что выхухоль почти не изменилась за последние 40 миллионов лет! Как и миллионы лет назад, это чудо с хоботом живет в поймах рек и по берегам оз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6726240" cy="44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1052640"/>
            <a:ext cx="446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арство: 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: Хор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тип :Позвон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: Млекопит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класс: Плацент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яд: Насекомоя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ейство: Выхух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: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: Русская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esmana mosch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40464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Систематическое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пол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91000" y="1125360"/>
            <a:ext cx="4314960" cy="50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189000"/>
            <a:ext cx="79912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ликтово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емейство Выхухолей (Desmanidae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ключает всего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два ви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из которых од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иренейская выхухоль (Galemys pyrenaicus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стречается в Пиренея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усская выхухоль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Desmana mosch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ти исключительно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79640" y="3213000"/>
            <a:ext cx="5178240" cy="34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359920" cy="5834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Места обитания русской выхух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0"/>
            <a:ext cx="896472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Внешний ви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иннохвостый зверек размером с крупную крысу, массой около 0,5 кг легко узнаваем по длинному подвижному хоботку. На лапах перепонки, хвост голый, сплюснутый с боков. Окраска темно-бурая сверху, светлая снизу, с сильным блеском. Молодые серова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340000" y="2637000"/>
            <a:ext cx="6337440" cy="40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0"/>
            <a:ext cx="820908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Питание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итается моллюсками, водными насекомыми, пиявками, лягушками и т.д., реже корневищами растений. Двустворчатых моллюсков (беззубок и перловиц) зверек обычно не торопится разгрызать, а затаскивает в нору, где они вскоре раскрываются 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03280" y="2876400"/>
            <a:ext cx="6434280" cy="39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692280"/>
            <a:ext cx="864072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Размножение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множается почти круглый год. Беременность длится 40-45 дней. Самка приносит потомство раз в год, в выводке 1-5 детенышей, которые становятся половозрелыми в возрасте одного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578560" cy="367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4:42:24Z</dcterms:created>
  <dc:creator>Александр</dc:creator>
  <dc:description/>
  <dc:language>en-US</dc:language>
  <cp:lastModifiedBy>Natasha Novoselova</cp:lastModifiedBy>
  <dcterms:modified xsi:type="dcterms:W3CDTF">2009-10-25T10:20:40Z</dcterms:modified>
  <cp:revision>26</cp:revision>
  <dc:subject/>
  <dc:title>Слайд 1</dc:title>
</cp:coreProperties>
</file>