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2B2-929F-4C7A-9B1C-FD3A727E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14B-A012-46CB-A54F-7CC7E2A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1CF-B220-4F1C-9AEF-32FDD1E6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968-B9D9-4BFB-8BFF-B6A091E9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73B2-179C-4E63-B530-DF6FDF3E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EA83-08A2-480F-B1B1-EE67037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36D4-FE16-4837-BD07-64057E17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AB35-04EF-4C0A-9065-713D2284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416-9FC7-4E47-9369-7B54C29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623-17ED-4620-8E50-AFA26123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1A5-CA14-4939-B097-AA03F3D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E32-F68C-4321-852F-DCF7E356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82E0-97C4-422F-B11F-5D8D9F19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2E56-29CE-453C-9C2F-82B64DC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CE18-7559-405D-8CE4-02300C83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E709-0D68-433B-8DDA-AFACBC83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8165-2F15-4F35-8AD0-4849D583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757-3300-4579-B07E-009EFF3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B4E-33FA-4AFE-A1EE-044FD795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F83-4A80-42F6-BF7A-41698984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3CB-AF8B-4115-B09D-AD4EE92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328-DD6A-4DCF-994D-EDC89B5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A1C-A4E1-4C52-8FF0-7740A2F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237-640F-4C06-A50D-E5C4B8F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e5a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D6B-BFA4-4374-A083-1AA361714C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ce96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5b26f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CEB-4A98-4900-8A6A-F3801A2AEC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4360" y="333360"/>
            <a:ext cx="8208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русская 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выхухоль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8" name="vixuxol" descr="Desmana moschata"/>
          <p:cNvPicPr/>
          <p:nvPr/>
        </p:nvPicPr>
        <p:blipFill>
          <a:blip r:embed="rId1"/>
          <a:stretch/>
        </p:blipFill>
        <p:spPr>
          <a:xfrm>
            <a:off x="6227640" y="4076640"/>
            <a:ext cx="2530440" cy="20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005360"/>
            <a:ext cx="5113080" cy="23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цова Ольга Ива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У Кашарской СО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Факторы, негативно влияющие на численность русской выхухоли:</a:t>
            </a: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54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грязнение водоём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убка пойменных лес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ушение пойменных угод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регулирование стока р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стройка берегов водоём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здание водохранили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пас скота вблизи водоёмов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63376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9090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6880" y="620640"/>
            <a:ext cx="556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Берегит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природу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ahoma"/>
              </a:rPr>
              <a:t>Выхухоль.</a:t>
            </a: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лкое  животное с длинным хвостом и короткими конечност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ина тела 180— 215 м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ина хвоста 170—205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ова крупная, оканчивается уплощенным хобот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ду пальцами имеются плавательные перепо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осяной покров мягкий, бархатистый с жесткими остевыми волос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раска спины интенсивно-бурая с сильным блес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выхухоль"/>
          <p:cNvPicPr/>
          <p:nvPr/>
        </p:nvPicPr>
        <p:blipFill>
          <a:blip r:embed="rId1"/>
          <a:stretch/>
        </p:blipFill>
        <p:spPr>
          <a:xfrm>
            <a:off x="6443640" y="260280"/>
            <a:ext cx="2471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лится выхухоль по берегам рек со слабым течением, берегам небольших озер и стариц. Предпочитает водоемы глубиной 1-3м, с умеренным развитием водной растительности, заросшими кустарником берегами с крутыми уступами, необходимыми для устройства нор. Выход из норы располагается под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93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916280"/>
            <a:ext cx="651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ошлом выхухоль была широко распространена в бассейнах рек Днепр, Волга, Урал, её ареал был сплошным и более широким, чем современный. В наши дни основная часть популяции выхухоли обитает в России — в основном в бассейнах рек Волги и Дона, в меньшей степени — в бассейнах рек Днепр, Урал, Уй и Тоб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Распространение выхухоли в СССР. Выхухоль."/>
          <p:cNvPicPr/>
          <p:nvPr/>
        </p:nvPicPr>
        <p:blipFill>
          <a:blip r:embed="rId1"/>
          <a:stretch/>
        </p:blipFill>
        <p:spPr>
          <a:xfrm>
            <a:off x="0" y="-254160"/>
            <a:ext cx="914400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Естественные  враги выхухоли.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33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выхухоли много естественных врагов, которые уничтожают самих зверьков или разрушают их норы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лисица, енотовидная собака, выдра, горностай, хорь, бродячие собаки и кошк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 наибольшее давление на выхухоль оказывают акклиматизированные «чужаки» —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мериканская норка и ондат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69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246400" cy="2652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206064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80000" y="2565360"/>
            <a:ext cx="302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Причины резкого сокращения численности русской выхухоли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чиная с XVII века выхухоль активно добывалась человеком из-за меха и мускуса. Это привело к тому, что к 30-м годам XX века на территории России зверёк был истреблён почти повсеместно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ahoma"/>
              </a:rPr>
              <a:t>Причины резкого сокращения численности русской выхухоли</a:t>
            </a:r>
            <a:endParaRPr b="0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1970-1980-е годы главными  факторами исчезновения выхухоли были загрязнение и сельскохозяйственное освоение речных пойм. Сегодня  наиболее значимая причина — массовое незаконное использова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авных лесочных сетей и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лектроудочек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7:37:59Z</dcterms:created>
  <dc:creator>Наталья</dc:creator>
  <dc:description/>
  <dc:language>en-US</dc:language>
  <cp:lastModifiedBy>KRAVTSOV</cp:lastModifiedBy>
  <dcterms:modified xsi:type="dcterms:W3CDTF">2009-01-10T16:19:34Z</dcterms:modified>
  <cp:revision>14</cp:revision>
  <dc:subject/>
  <dc:title>Слайд 1</dc:title>
</cp:coreProperties>
</file>