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CBB5-E084-452F-8D75-D13EB2EC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EDA-866C-4F66-AD4D-0B4CEC46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8FF-2C77-423E-9911-A46B59A3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D8C-8E54-48E5-8578-E44A068D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663-E5CE-4D68-9C85-B01DFCF7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E8C-C1FB-4D36-86E1-B84C35E5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277-391C-47BB-9E3F-1DD3B084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301-CE4E-4B9D-ACB5-5E3FE07A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412-43FC-4B07-BD84-4098C0D8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CCA-C142-4105-ABA9-C84F9625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77E-7B52-4DDB-A91A-00A580B9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C91-A054-49C2-8E64-917E4024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1B68-E681-4660-9392-2266C9DDB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54936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916280"/>
            <a:ext cx="7925040" cy="45370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6600"/>
                </a:solidFill>
                <a:uFillTx/>
                <a:latin typeface="Arial"/>
              </a:rPr>
              <a:t>«Защитим русскую выхухоль!»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600"/>
            </a:b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"/>
                            </p:stCondLst>
                            <p:childTnLst>
                              <p:par>
                                <p:cTn id="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Дорожки выхухоли по чистому ль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ris2-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607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00"/>
                </a:solidFill>
                <a:uFillTx/>
                <a:latin typeface="Arial"/>
              </a:rPr>
              <a:t>Меры по защите русской выхухо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го охранять места обитания выхухоли, вести учёт их чис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одясь на берегу водоёма, не шуметь,  не разводить костры, убирать за собой мус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вить рыбу только разрешёнными сна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оться с использованием сетей и электроудочек в районах обитания выхух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рыболовные снасти и другие орудия лова, исключающие гибель выхух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специализированные охотхозяйства по разведению и содержанию зверьков в нев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ерно распространять знания об этом удивительном «живом ископаемом», чудом дожившем до наших 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роверь свои знания о русской выхухо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1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б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2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б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 3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4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в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 5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а 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6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б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 7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 8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в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9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б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10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б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11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12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, 13-</a:t>
            </a:r>
            <a:r>
              <a:rPr b="1" i="1" lang="en-US" sz="6000" spc="-1" strike="noStrike">
                <a:solidFill>
                  <a:srgbClr val="006600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 сколько вопросов вы ответили правиль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9750"/>
                            </p:stCondLst>
                            <p:childTnLst>
                              <p:par>
                                <p:cTn id="2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475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«Ты пришёл в гости к природе, - не делай ничего такого, что счёл бы неприличным делать в гостях».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4465800" cy="34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прозванных Ольга Вениамин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СОШ» № 4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Норильск, р-н Талн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Рыбе – вода, птице – воздух,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Человеку нужна Родина,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Охранять природу – значи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Охранять Родину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(К. Паустовский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Arial"/>
              </a:rPr>
              <a:t>Телеграм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«Я забавный, загадочный, малоизученный, симпатичный зверёк. Являюсь одним из древнейших млекопитающих, который обитает в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Евразии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вот уже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5 млн. лет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, дошедший до наших дней в почти не изменённом ви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Живу я в поймах рек и по берегам озёр (в основном в бассейнах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Волги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Дона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Днепра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Урала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). Тело моё продолговатой формы длиной около 20 см с короткой малоподвижной шеей, покрытое густой серебристой шерстью. С одного конца торчит длинный подвижный хоботок с крупными носовыми отверстиями (он позволяет дышать, не поднимаясь на поверхность), с другой – сплющенный с боков чешуйчатый хвост. На лапах плавательные перепонки, отороченные жёсткими волосами. Глаза маленькие, зрение слабое. Ушных раковин нет, но слух – хороший. Всё это говорит о том, что я веду полуводный образ жизни. Я прекрасно плаваю и ныряю, практически всеядна.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Меня называют «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живым ископаемым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», чудом, дожившем до наших дней, ласково меня зовут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хохуля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628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Русская выхухо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Типичные места обитания выхухо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is2-4" descr=""/>
          <p:cNvPicPr/>
          <p:nvPr/>
        </p:nvPicPr>
        <p:blipFill>
          <a:blip r:embed="rId1"/>
          <a:stretch/>
        </p:blipFill>
        <p:spPr>
          <a:xfrm>
            <a:off x="0" y="1541520"/>
            <a:ext cx="9144000" cy="53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4:25:03Z</dcterms:created>
  <dc:creator>Леон</dc:creator>
  <dc:description/>
  <dc:language>en-US</dc:language>
  <cp:lastModifiedBy>Natasha Novoselova</cp:lastModifiedBy>
  <dcterms:modified xsi:type="dcterms:W3CDTF">2009-10-23T15:12:13Z</dcterms:modified>
  <cp:revision>11</cp:revision>
  <dc:subject/>
  <dc:title>Слайд 1</dc:title>
</cp:coreProperties>
</file>