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3208-F6C7-4523-9C4E-621E6F138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E4AA-1716-420E-8B6E-F3D42572F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24A0-3E77-4777-BD95-F27FEA7C3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9B9C-407C-459F-A4BA-7007735F7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97F4F-7DB9-4145-A606-7AE5AFDBF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875BA-D07A-430D-88CB-770DABC5D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39C4B-157A-45CE-88D2-0F5C11B43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A15B0-1949-4CC7-AC21-6665769A9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C7E8E-2D14-4D35-BFA0-E4BA5B11E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4CDEA-D6C5-4307-990B-3818CFAE7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78EEA-D229-4F74-8204-BFCDDD62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3460-A6FB-41FF-833C-0911B2F8C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3C36B-5BE9-40FE-84DA-C0F6E4F2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D5869-4F86-4916-8374-FF40C62A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1D7D2-6527-4221-8785-9E7667996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BCCAD-10B1-4F97-983A-FDA952576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F5164-5B93-4B34-B7D6-FFD731EB8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778A-CF51-4BB8-BD8C-16ED92746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7440-2A69-4631-A103-38F431FC8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0AE8-339A-4ED4-918C-B338BA89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087A-0F6F-42A3-801E-F3A094F25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2BA9-EBCA-46DB-80D1-14D7F5A6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23DF-DD4C-4BA1-9759-347DD59B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7D57-2550-488F-A854-B2A04BA2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6DB32-0D27-4EB6-B58B-44E3EA7F12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3E6FC-D156-4B84-83C7-E252C68A16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2627280" y="549360"/>
            <a:ext cx="374328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e5ffff"/>
                  </a:solidFill>
                  <a:miter/>
                </a:ln>
                <a:solidFill>
                  <a:srgbClr val="e5ffff"/>
                </a:solidFill>
                <a:latin typeface="Tahoma"/>
              </a:rPr>
              <a:t>Интегрированный урок</a:t>
            </a:r>
            <a:endParaRPr b="1" lang="en-US" sz="2800" spc="1" strike="noStrike">
              <a:ln w="9360">
                <a:solidFill>
                  <a:srgbClr val="e5ffff"/>
                </a:solidFill>
                <a:miter/>
              </a:ln>
              <a:solidFill>
                <a:srgbClr val="e5ffff"/>
              </a:solidFill>
              <a:latin typeface="Tahoma"/>
              <a:ea typeface="Tahoma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755640" y="1268280"/>
            <a:ext cx="7848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ccffcc"/>
                  </a:solidFill>
                  <a:miter/>
                </a:ln>
                <a:solidFill>
                  <a:srgbClr val="ccffcc"/>
                </a:solidFill>
                <a:latin typeface="Tahoma"/>
              </a:rPr>
              <a:t>"Носатое чудо России"</a:t>
            </a:r>
            <a:endParaRPr b="1" lang="en-US" sz="4400" spc="1" strike="noStrike">
              <a:ln w="9360">
                <a:solidFill>
                  <a:srgbClr val="ccffcc"/>
                </a:solidFill>
                <a:miter/>
              </a:ln>
              <a:solidFill>
                <a:srgbClr val="ccffcc"/>
              </a:solidFill>
              <a:latin typeface="Tahoma"/>
              <a:ea typeface="Tahom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924360" y="1052640"/>
            <a:ext cx="10666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e5ffff"/>
                  </a:solidFill>
                  <a:miter/>
                </a:ln>
                <a:solidFill>
                  <a:srgbClr val="e5ffff"/>
                </a:solidFill>
                <a:latin typeface="Arial"/>
              </a:rPr>
              <a:t>(4 класс)</a:t>
            </a:r>
            <a:endParaRPr b="0" lang="en-US" sz="2000" spc="1" strike="noStrike">
              <a:ln w="9360">
                <a:solidFill>
                  <a:srgbClr val="e5ffff"/>
                </a:solidFill>
                <a:miter/>
              </a:ln>
              <a:solidFill>
                <a:srgbClr val="e5ffff"/>
              </a:solidFill>
              <a:latin typeface="Arial"/>
              <a:ea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076720" y="4292640"/>
            <a:ext cx="3915000" cy="185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e5ffff"/>
                  </a:solidFill>
                  <a:miter/>
                </a:ln>
                <a:solidFill>
                  <a:srgbClr val="e5ffff"/>
                </a:solidFill>
                <a:latin typeface="Tahoma"/>
              </a:rPr>
              <a:t>разработала</a:t>
            </a:r>
            <a:endParaRPr b="0" lang="en-US" sz="2400" spc="1" strike="noStrike">
              <a:ln w="9360">
                <a:solidFill>
                  <a:srgbClr val="e5ffff"/>
                </a:solidFill>
                <a:miter/>
              </a:ln>
              <a:solidFill>
                <a:srgbClr val="e5ffff"/>
              </a:solidFill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e5ffff"/>
                  </a:solidFill>
                  <a:miter/>
                </a:ln>
                <a:solidFill>
                  <a:srgbClr val="e5ffff"/>
                </a:solidFill>
                <a:latin typeface="Tahoma"/>
              </a:rPr>
              <a:t>Е.В.Афонина</a:t>
            </a:r>
            <a:endParaRPr b="0" lang="en-US" sz="2400" spc="1" strike="noStrike">
              <a:ln w="9360">
                <a:solidFill>
                  <a:srgbClr val="e5ffff"/>
                </a:solidFill>
                <a:miter/>
              </a:ln>
              <a:solidFill>
                <a:srgbClr val="e5ffff"/>
              </a:solidFill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e5ffff"/>
                  </a:solidFill>
                  <a:miter/>
                </a:ln>
                <a:solidFill>
                  <a:srgbClr val="e5ffff"/>
                </a:solidFill>
                <a:latin typeface="Tahoma"/>
              </a:rPr>
              <a:t>учитель начальных классов</a:t>
            </a:r>
            <a:endParaRPr b="0" lang="en-US" sz="2400" spc="1" strike="noStrike">
              <a:ln w="9360">
                <a:solidFill>
                  <a:srgbClr val="e5ffff"/>
                </a:solidFill>
                <a:miter/>
              </a:ln>
              <a:solidFill>
                <a:srgbClr val="e5ffff"/>
              </a:solidFill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e5ffff"/>
                  </a:solidFill>
                  <a:miter/>
                </a:ln>
                <a:solidFill>
                  <a:srgbClr val="e5ffff"/>
                </a:solidFill>
                <a:latin typeface="Tahoma"/>
              </a:rPr>
              <a:t>МОУ  СОШ № 42</a:t>
            </a:r>
            <a:endParaRPr b="0" lang="en-US" sz="2400" spc="1" strike="noStrike">
              <a:ln w="9360">
                <a:solidFill>
                  <a:srgbClr val="e5ffff"/>
                </a:solidFill>
                <a:miter/>
              </a:ln>
              <a:solidFill>
                <a:srgbClr val="e5ffff"/>
              </a:solidFill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e5ffff"/>
                  </a:solidFill>
                  <a:miter/>
                </a:ln>
                <a:solidFill>
                  <a:srgbClr val="e5ffff"/>
                </a:solidFill>
                <a:latin typeface="Tahoma"/>
              </a:rPr>
              <a:t>город Норильск</a:t>
            </a:r>
            <a:endParaRPr b="0" lang="en-US" sz="2400" spc="1" strike="noStrike">
              <a:ln w="9360">
                <a:solidFill>
                  <a:srgbClr val="e5ffff"/>
                </a:solidFill>
                <a:miter/>
              </a:ln>
              <a:solidFill>
                <a:srgbClr val="e5ffff"/>
              </a:solidFill>
              <a:latin typeface="Tahoma"/>
              <a:ea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rcRect l="0" t="13392" r="-1783" b="21948"/>
          <a:stretch/>
        </p:blipFill>
        <p:spPr>
          <a:xfrm>
            <a:off x="468360" y="2781360"/>
            <a:ext cx="3744720" cy="3655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г.Норильск 2009г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e5ffff"/>
                </a:solidFill>
                <a:latin typeface="Tahoma"/>
              </a:rPr>
              <a:t>По сравнению с 70-ми годами ХХ века численность выхухоли в России сократилась в два раза. В последние годы реальная угроза существованию русской выхухоли исходит от массового браконьерского лова рыбы с использованием ставных лесочных сетей и так называемых «электросачков» («электроудочек»). </a:t>
            </a:r>
            <a:br>
              <a:rPr sz="1800"/>
            </a:br>
            <a:br>
              <a:rPr sz="4000"/>
            </a:b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7921440" cy="4892760"/>
          </a:xfrm>
          <a:prstGeom prst="rect">
            <a:avLst/>
          </a:prstGeom>
          <a:ln w="9360">
            <a:solidFill>
              <a:srgbClr val="2b548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2781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ff"/>
                </a:solidFill>
                <a:latin typeface="Tahoma"/>
              </a:rPr>
              <a:t>Факторы, негативно влияющие на численность русской выхухоли:</a:t>
            </a:r>
            <a:br>
              <a:rPr sz="2000"/>
            </a:br>
            <a:r>
              <a:rPr b="1" lang="en-US" sz="16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00ccff"/>
                </a:solidFill>
                <a:latin typeface="Tahoma"/>
              </a:rPr>
              <a:t>- </a:t>
            </a:r>
            <a:r>
              <a:rPr b="1" i="1" lang="en-US" sz="1600" spc="-1" strike="noStrike">
                <a:solidFill>
                  <a:srgbClr val="00ccff"/>
                </a:solidFill>
                <a:latin typeface="Tahoma"/>
              </a:rPr>
              <a:t>загрязнение водоёмов</a:t>
            </a:r>
            <a:r>
              <a:rPr b="0" lang="en-US" sz="1600" spc="-1" strike="noStrike">
                <a:solidFill>
                  <a:srgbClr val="e5ffff"/>
                </a:solidFill>
                <a:latin typeface="Tahoma"/>
              </a:rPr>
              <a:t> вызывает гибель зверьков и деградацию местообитаний;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ccff"/>
                </a:solidFill>
                <a:latin typeface="Tahoma"/>
              </a:rPr>
              <a:t>- </a:t>
            </a:r>
            <a:r>
              <a:rPr b="1" i="1" lang="en-US" sz="1600" spc="-1" strike="noStrike">
                <a:solidFill>
                  <a:srgbClr val="00ccff"/>
                </a:solidFill>
                <a:latin typeface="Tahoma"/>
              </a:rPr>
              <a:t>вырубка пойменных лесов</a:t>
            </a:r>
            <a:r>
              <a:rPr b="0" lang="en-US" sz="1600" spc="-1" strike="noStrike">
                <a:solidFill>
                  <a:srgbClr val="e5ffff"/>
                </a:solidFill>
                <a:latin typeface="Tahoma"/>
              </a:rPr>
              <a:t> нарушает гидрологический режим поймы, что вызывает деградацию местообитаний выхухоли;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ccff"/>
                </a:solidFill>
                <a:latin typeface="Tahoma"/>
              </a:rPr>
              <a:t>- </a:t>
            </a:r>
            <a:r>
              <a:rPr b="1" i="1" lang="en-US" sz="1600" spc="-1" strike="noStrike">
                <a:solidFill>
                  <a:srgbClr val="00ccff"/>
                </a:solidFill>
                <a:latin typeface="Tahoma"/>
              </a:rPr>
              <a:t>осушение пойменных угодий</a:t>
            </a:r>
            <a:r>
              <a:rPr b="0" lang="en-US" sz="1600" spc="-1" strike="noStrike">
                <a:solidFill>
                  <a:srgbClr val="e5ffff"/>
                </a:solidFill>
                <a:latin typeface="Tahoma"/>
              </a:rPr>
              <a:t> лишает выхухоль исконных мест обитания и нередко сопровождается ликвидацией древесно-кустарниковой растительности методом химической обработки, что ухудшает кормовые и защитные условия выхухолевых угодий;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ccff"/>
                </a:solidFill>
                <a:latin typeface="Tahoma"/>
              </a:rPr>
              <a:t>- </a:t>
            </a:r>
            <a:r>
              <a:rPr b="1" i="1" lang="en-US" sz="1600" spc="-1" strike="noStrike">
                <a:solidFill>
                  <a:srgbClr val="00ccff"/>
                </a:solidFill>
                <a:latin typeface="Tahoma"/>
              </a:rPr>
              <a:t>зарегулирование стока рек</a:t>
            </a:r>
            <a:r>
              <a:rPr b="0" lang="en-US" sz="1600" spc="-1" strike="noStrike">
                <a:solidFill>
                  <a:srgbClr val="e5ffff"/>
                </a:solidFill>
                <a:latin typeface="Tahoma"/>
              </a:rPr>
              <a:t> (спрямление русел, строительство плотин и дамб) приводит к падению уровня грунтовых вод и, как следствие, к пересыханию отдельных водоёмов и малых рек, исчезновению лесных родников, усыханию пойменных лесов;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ccff"/>
                </a:solidFill>
                <a:latin typeface="Tahoma"/>
              </a:rPr>
              <a:t>- </a:t>
            </a:r>
            <a:r>
              <a:rPr b="1" i="1" lang="en-US" sz="1600" spc="-1" strike="noStrike">
                <a:solidFill>
                  <a:srgbClr val="00ccff"/>
                </a:solidFill>
                <a:latin typeface="Tahoma"/>
              </a:rPr>
              <a:t>застройка берегов водоёмов</a:t>
            </a:r>
            <a:r>
              <a:rPr b="0" lang="en-US" sz="1600" spc="-1" strike="noStrike">
                <a:solidFill>
                  <a:srgbClr val="e5ffff"/>
                </a:solidFill>
                <a:latin typeface="Tahoma"/>
              </a:rPr>
              <a:t> создаёт серьёзный фактор беспокойства для выхухолей, а сопутствующие людям домашние животные (кошки, собаки) могут уничтожать зверьков;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ccff"/>
                </a:solidFill>
                <a:latin typeface="Tahoma"/>
              </a:rPr>
              <a:t>- </a:t>
            </a:r>
            <a:r>
              <a:rPr b="1" i="1" lang="en-US" sz="1600" spc="-1" strike="noStrike">
                <a:solidFill>
                  <a:srgbClr val="00ccff"/>
                </a:solidFill>
                <a:latin typeface="Tahoma"/>
              </a:rPr>
              <a:t>создание водохранилищ</a:t>
            </a:r>
            <a:r>
              <a:rPr b="0" lang="en-US" sz="1600" spc="-1" strike="noStrike">
                <a:solidFill>
                  <a:srgbClr val="e5ffff"/>
                </a:solidFill>
                <a:latin typeface="Tahoma"/>
              </a:rPr>
              <a:t> означает затопление выхухолевых угодий, при котором гибнут и сами зверьки;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ccff"/>
                </a:solidFill>
                <a:latin typeface="Tahoma"/>
              </a:rPr>
              <a:t>- </a:t>
            </a:r>
            <a:r>
              <a:rPr b="1" i="1" lang="en-US" sz="1600" spc="-1" strike="noStrike">
                <a:solidFill>
                  <a:srgbClr val="00ccff"/>
                </a:solidFill>
                <a:latin typeface="Tahoma"/>
              </a:rPr>
              <a:t>выпас скота вблизи водоёмов</a:t>
            </a:r>
            <a:r>
              <a:rPr b="0" lang="en-US" sz="1600" spc="-1" strike="noStrike">
                <a:solidFill>
                  <a:srgbClr val="e5ffff"/>
                </a:solidFill>
                <a:latin typeface="Tahoma"/>
              </a:rPr>
              <a:t> часто взывает разрушение нор и гибель их обитателей.</a:t>
            </a:r>
            <a:endParaRPr b="0" lang="en-US" sz="1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28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от вид занесен в Красную книгу Российской Федерации и Красный список Всемирного союза охраны природ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храняется на территориях нескольких федеральных и региональных ООПТ (заповедники «Брянский лес», «Воронежский», «Окский», «Хоперский», национальные парки «Орловское полесье», «Угра», заказники «Клязьминский», «Клетнянский», «Мокшинский», «Муромский», «Навашинский», «Рязанский» и др.), в специализированных охотхозяйствах («Сельцовское» во Владимирской области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539640" y="4508640"/>
            <a:ext cx="8136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ahoma"/>
              </a:rPr>
              <a:t>Сохраним русскую выхухоль !</a:t>
            </a:r>
            <a:endParaRPr b="1" lang="en-US" sz="40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ahoma"/>
              <a:ea typeface="Tahom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484360" y="5877000"/>
            <a:ext cx="3743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ahoma"/>
              </a:rPr>
              <a:t>Вместе !</a:t>
            </a:r>
            <a:endParaRPr b="1" lang="en-US" sz="40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росмотр фильма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ильм «Русская выхухоль», телестудии «Брянский лес» (11 мин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стов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ебята! С 2000 года специалисты природоохранной организации Центр охраны дикой природы реализует программу, направленную на сохранение русской выхухоли. Но помочь выхухоли выжить могут не только специалисты, но и каждый из нас. Вы получили  листовки с краткой информацией о проблеме исчезновения этого зверька. Эти листовки можно размножить на ксероксе или скачать из Интернета и распечатать на принтере. Пожалуйста, сделайте несколько копий этих листовок и разместите их на досках объявлений в посещаемых вами местах. Раздайте их вашим родителям, расскажите им о выхухоли, попросите их  отнести эти листовки на работу. Этим вы внесете свой вклад в дело спасения этого уникального животног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59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олезные ссылки к уроку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http://www.biodiversity.ru/programs/vyhuh/gallery/video.htm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. Фильм «Русская выхухоль», телестудии «Брянский лес» (11 мин., рус. и англ. язык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Фильм «Знакомьтесь: русская выхухоль», видеостудия заповедника «Керженский» (13 мин., рус. язык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 Видеоролик социальной рекламы, посвященный борьбе с использованием для лова рыбы лесочных сетей и защите русской выхухоли (35 секунд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://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ww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iodiversity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u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grams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yhuh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j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05-06/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ction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m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мплект информационных материалов к уроку о русской выхухоли, разработанный Центром охраны дикой природы. В комплект входят научно-популярные фильмы и статьи о русской выхухоли, научная монография, карты ареала, рекомендации по сохранению вида, тест на проверку полученных знаний, фотографии  и ряд других материалов. Также здесь размещен набор планов к уроку о русской выхухоли, разработанный профессиональными педагогами для школьников разных возрастов, а также приложенные к планам учебные игры и красочные презентации, которыми можно дополнить ваш урок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://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ww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iodiversity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u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grams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yhuh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yhuh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aflet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o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нформационная листовка, кратко освещающая проблему катастрофического уменьшения численности русской выхухол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72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68360" y="2060640"/>
          <a:ext cx="8229600" cy="4635360"/>
        </p:xfrm>
        <a:graphic>
          <a:graphicData uri="http://schemas.openxmlformats.org/drawingml/2006/table">
            <a:tbl>
              <a:tblPr/>
              <a:tblGrid>
                <a:gridCol w="1616040"/>
                <a:gridCol w="1949400"/>
                <a:gridCol w="1490760"/>
                <a:gridCol w="1665360"/>
                <a:gridCol w="15080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Ы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0 х 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4 : 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 х 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51 х 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5678 + 34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 : 212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5321 – 33344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6360 : 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"/>
          <p:cNvSpPr txBox="1"/>
          <p:nvPr/>
        </p:nvSpPr>
        <p:spPr>
          <a:xfrm>
            <a:off x="4211640" y="2276640"/>
            <a:ext cx="11476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e5ffff"/>
                  </a:solidFill>
                  <a:miter/>
                </a:ln>
                <a:solidFill>
                  <a:srgbClr val="e5ffff"/>
                </a:solidFill>
                <a:latin typeface="Tahoma"/>
              </a:rPr>
              <a:t>100000</a:t>
            </a:r>
            <a:endParaRPr b="0" lang="en-US" sz="2800" spc="1" strike="noStrike">
              <a:ln w="9360">
                <a:solidFill>
                  <a:srgbClr val="e5ffff"/>
                </a:solidFill>
                <a:miter/>
              </a:ln>
              <a:solidFill>
                <a:srgbClr val="e5ffff"/>
              </a:solidFill>
              <a:latin typeface="Tahoma"/>
              <a:ea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43280" y="2781360"/>
            <a:ext cx="2178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e5ffff"/>
                  </a:solidFill>
                  <a:miter/>
                </a:ln>
                <a:solidFill>
                  <a:srgbClr val="e5ffff"/>
                </a:solidFill>
                <a:latin typeface="Tahoma"/>
              </a:rPr>
              <a:t>6</a:t>
            </a:r>
            <a:endParaRPr b="0" lang="en-US" sz="2800" spc="1" strike="noStrike">
              <a:ln w="9360">
                <a:solidFill>
                  <a:srgbClr val="e5ffff"/>
                </a:solidFill>
                <a:miter/>
              </a:ln>
              <a:solidFill>
                <a:srgbClr val="e5ffff"/>
              </a:solidFill>
              <a:latin typeface="Tahoma"/>
              <a:ea typeface="Tahom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0" y="3429000"/>
            <a:ext cx="360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e5ffff"/>
                  </a:solidFill>
                  <a:miter/>
                </a:ln>
                <a:solidFill>
                  <a:srgbClr val="e5ffff"/>
                </a:solidFill>
                <a:latin typeface="Tahoma"/>
              </a:rPr>
              <a:t>72</a:t>
            </a:r>
            <a:endParaRPr b="0" lang="en-US" sz="2800" spc="1" strike="noStrike">
              <a:ln w="9360">
                <a:solidFill>
                  <a:srgbClr val="e5ffff"/>
                </a:solidFill>
                <a:miter/>
              </a:ln>
              <a:solidFill>
                <a:srgbClr val="e5ffff"/>
              </a:solidFill>
              <a:latin typeface="Tahoma"/>
              <a:ea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427640" y="4005360"/>
            <a:ext cx="71604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e5ffff"/>
                  </a:solidFill>
                  <a:miter/>
                </a:ln>
                <a:solidFill>
                  <a:srgbClr val="e5ffff"/>
                </a:solidFill>
                <a:latin typeface="Tahoma"/>
              </a:rPr>
              <a:t>2457</a:t>
            </a:r>
            <a:endParaRPr b="0" lang="en-US" sz="2800" spc="1" strike="noStrike">
              <a:ln w="9360">
                <a:solidFill>
                  <a:srgbClr val="e5ffff"/>
                </a:solidFill>
                <a:miter/>
              </a:ln>
              <a:solidFill>
                <a:srgbClr val="e5ffff"/>
              </a:solidFill>
              <a:latin typeface="Tahoma"/>
              <a:ea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356000" y="4581360"/>
            <a:ext cx="9367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e5ffff"/>
                  </a:solidFill>
                  <a:miter/>
                </a:ln>
                <a:solidFill>
                  <a:srgbClr val="e5ffff"/>
                </a:solidFill>
                <a:latin typeface="Tahoma"/>
              </a:rPr>
              <a:t>49148</a:t>
            </a:r>
            <a:endParaRPr b="0" lang="en-US" sz="2800" spc="1" strike="noStrike">
              <a:ln w="9360">
                <a:solidFill>
                  <a:srgbClr val="e5ffff"/>
                </a:solidFill>
                <a:miter/>
              </a:ln>
              <a:solidFill>
                <a:srgbClr val="e5ffff"/>
              </a:solidFill>
              <a:latin typeface="Tahoma"/>
              <a:ea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716360" y="5157720"/>
            <a:ext cx="2113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e5ffff"/>
                  </a:solidFill>
                  <a:miter/>
                </a:ln>
                <a:solidFill>
                  <a:srgbClr val="e5ffff"/>
                </a:solidFill>
                <a:latin typeface="Tahoma"/>
              </a:rPr>
              <a:t>0</a:t>
            </a:r>
            <a:endParaRPr b="0" lang="en-US" sz="2800" spc="1" strike="noStrike">
              <a:ln w="9360">
                <a:solidFill>
                  <a:srgbClr val="e5ffff"/>
                </a:solidFill>
                <a:miter/>
              </a:ln>
              <a:solidFill>
                <a:srgbClr val="e5ffff"/>
              </a:solidFill>
              <a:latin typeface="Tahoma"/>
              <a:ea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211640" y="5734080"/>
            <a:ext cx="11476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e5ffff"/>
                  </a:solidFill>
                  <a:miter/>
                </a:ln>
                <a:solidFill>
                  <a:srgbClr val="e5ffff"/>
                </a:solidFill>
                <a:latin typeface="Tahoma"/>
              </a:rPr>
              <a:t>271877</a:t>
            </a:r>
            <a:endParaRPr b="0" lang="en-US" sz="2800" spc="1" strike="noStrike">
              <a:ln w="9360">
                <a:solidFill>
                  <a:srgbClr val="e5ffff"/>
                </a:solidFill>
                <a:miter/>
              </a:ln>
              <a:solidFill>
                <a:srgbClr val="e5ffff"/>
              </a:solidFill>
              <a:latin typeface="Tahoma"/>
              <a:ea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427640" y="6308640"/>
            <a:ext cx="7207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e5ffff"/>
                  </a:solidFill>
                  <a:miter/>
                </a:ln>
                <a:solidFill>
                  <a:srgbClr val="e5ffff"/>
                </a:solidFill>
                <a:latin typeface="Tahoma"/>
              </a:rPr>
              <a:t>4545</a:t>
            </a:r>
            <a:endParaRPr b="0" lang="en-US" sz="2800" spc="1" strike="noStrike">
              <a:ln w="9360">
                <a:solidFill>
                  <a:srgbClr val="e5ffff"/>
                </a:solidFill>
                <a:miter/>
              </a:ln>
              <a:solidFill>
                <a:srgbClr val="e5ffff"/>
              </a:solidFill>
              <a:latin typeface="Tahoma"/>
              <a:ea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724360" y="2276640"/>
            <a:ext cx="114804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e5ffff"/>
                  </a:solidFill>
                  <a:miter/>
                </a:ln>
                <a:solidFill>
                  <a:srgbClr val="e5ffff"/>
                </a:solidFill>
                <a:latin typeface="Tahoma"/>
              </a:rPr>
              <a:t>271877</a:t>
            </a:r>
            <a:endParaRPr b="0" lang="en-US" sz="2800" spc="1" strike="noStrike">
              <a:ln w="9360">
                <a:solidFill>
                  <a:srgbClr val="e5ffff"/>
                </a:solidFill>
                <a:miter/>
              </a:ln>
              <a:solidFill>
                <a:srgbClr val="e5ffff"/>
              </a:solidFill>
              <a:latin typeface="Tahoma"/>
              <a:ea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796000" y="2781360"/>
            <a:ext cx="11476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e5ffff"/>
                  </a:solidFill>
                  <a:miter/>
                </a:ln>
                <a:solidFill>
                  <a:srgbClr val="e5ffff"/>
                </a:solidFill>
                <a:latin typeface="Tahoma"/>
              </a:rPr>
              <a:t>100000</a:t>
            </a:r>
            <a:endParaRPr b="0" lang="en-US" sz="2800" spc="1" strike="noStrike">
              <a:ln w="9360">
                <a:solidFill>
                  <a:srgbClr val="e5ffff"/>
                </a:solidFill>
                <a:miter/>
              </a:ln>
              <a:solidFill>
                <a:srgbClr val="e5ffff"/>
              </a:solidFill>
              <a:latin typeface="Tahoma"/>
              <a:ea typeface="Tahom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940360" y="3357720"/>
            <a:ext cx="93672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e5ffff"/>
                  </a:solidFill>
                  <a:miter/>
                </a:ln>
                <a:solidFill>
                  <a:srgbClr val="e5ffff"/>
                </a:solidFill>
                <a:latin typeface="Tahoma"/>
              </a:rPr>
              <a:t>49148</a:t>
            </a:r>
            <a:endParaRPr b="0" lang="en-US" sz="2800" spc="1" strike="noStrike">
              <a:ln w="9360">
                <a:solidFill>
                  <a:srgbClr val="e5ffff"/>
                </a:solidFill>
                <a:miter/>
              </a:ln>
              <a:solidFill>
                <a:srgbClr val="e5ffff"/>
              </a:solidFill>
              <a:latin typeface="Tahoma"/>
              <a:ea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012000" y="3933720"/>
            <a:ext cx="7207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e5ffff"/>
                  </a:solidFill>
                  <a:miter/>
                </a:ln>
                <a:solidFill>
                  <a:srgbClr val="e5ffff"/>
                </a:solidFill>
                <a:latin typeface="Tahoma"/>
              </a:rPr>
              <a:t>4545</a:t>
            </a:r>
            <a:endParaRPr b="0" lang="en-US" sz="2800" spc="1" strike="noStrike">
              <a:ln w="9360">
                <a:solidFill>
                  <a:srgbClr val="e5ffff"/>
                </a:solidFill>
                <a:miter/>
              </a:ln>
              <a:solidFill>
                <a:srgbClr val="e5ffff"/>
              </a:solidFill>
              <a:latin typeface="Tahoma"/>
              <a:ea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012000" y="4581360"/>
            <a:ext cx="7156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e5ffff"/>
                  </a:solidFill>
                  <a:miter/>
                </a:ln>
                <a:solidFill>
                  <a:srgbClr val="e5ffff"/>
                </a:solidFill>
                <a:latin typeface="Tahoma"/>
              </a:rPr>
              <a:t>2457</a:t>
            </a:r>
            <a:endParaRPr b="0" lang="en-US" sz="2800" spc="1" strike="noStrike">
              <a:ln w="9360">
                <a:solidFill>
                  <a:srgbClr val="e5ffff"/>
                </a:solidFill>
                <a:miter/>
              </a:ln>
              <a:solidFill>
                <a:srgbClr val="e5ffff"/>
              </a:solidFill>
              <a:latin typeface="Tahoma"/>
              <a:ea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156360" y="5157720"/>
            <a:ext cx="360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e5ffff"/>
                  </a:solidFill>
                  <a:miter/>
                </a:ln>
                <a:solidFill>
                  <a:srgbClr val="e5ffff"/>
                </a:solidFill>
                <a:latin typeface="Tahoma"/>
              </a:rPr>
              <a:t>72</a:t>
            </a:r>
            <a:endParaRPr b="0" lang="en-US" sz="2800" spc="1" strike="noStrike">
              <a:ln w="9360">
                <a:solidFill>
                  <a:srgbClr val="e5ffff"/>
                </a:solidFill>
                <a:miter/>
              </a:ln>
              <a:solidFill>
                <a:srgbClr val="e5ffff"/>
              </a:solidFill>
              <a:latin typeface="Tahoma"/>
              <a:ea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227640" y="5661000"/>
            <a:ext cx="2174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e5ffff"/>
                  </a:solidFill>
                  <a:miter/>
                </a:ln>
                <a:solidFill>
                  <a:srgbClr val="e5ffff"/>
                </a:solidFill>
                <a:latin typeface="Tahoma"/>
              </a:rPr>
              <a:t>6</a:t>
            </a:r>
            <a:endParaRPr b="0" lang="en-US" sz="2800" spc="1" strike="noStrike">
              <a:ln w="9360">
                <a:solidFill>
                  <a:srgbClr val="e5ffff"/>
                </a:solidFill>
                <a:miter/>
              </a:ln>
              <a:solidFill>
                <a:srgbClr val="e5ffff"/>
              </a:solidFill>
              <a:latin typeface="Tahoma"/>
              <a:ea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227640" y="6237360"/>
            <a:ext cx="2113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e5ffff"/>
                  </a:solidFill>
                  <a:miter/>
                </a:ln>
                <a:solidFill>
                  <a:srgbClr val="e5ffff"/>
                </a:solidFill>
                <a:latin typeface="Tahoma"/>
              </a:rPr>
              <a:t>0</a:t>
            </a:r>
            <a:endParaRPr b="0" lang="en-US" sz="2800" spc="1" strike="noStrike">
              <a:ln w="9360">
                <a:solidFill>
                  <a:srgbClr val="e5ffff"/>
                </a:solidFill>
                <a:miter/>
              </a:ln>
              <a:solidFill>
                <a:srgbClr val="e5ffff"/>
              </a:solidFill>
              <a:latin typeface="Tahoma"/>
              <a:ea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7740720" y="2133720"/>
            <a:ext cx="36036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ccff"/>
                </a:solidFill>
                <a:latin typeface="Tahoma"/>
              </a:rPr>
              <a:t>В</a:t>
            </a:r>
            <a:endParaRPr b="1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ccff"/>
              </a:solidFill>
              <a:latin typeface="Tahoma"/>
              <a:ea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740720" y="2781360"/>
            <a:ext cx="36036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ccff"/>
                </a:solidFill>
                <a:latin typeface="Tahoma"/>
              </a:rPr>
              <a:t>Ы</a:t>
            </a:r>
            <a:endParaRPr b="1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ccff"/>
              </a:solidFill>
              <a:latin typeface="Tahoma"/>
              <a:ea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7740720" y="3357720"/>
            <a:ext cx="36036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ccff"/>
                </a:solidFill>
                <a:latin typeface="Tahoma"/>
              </a:rPr>
              <a:t>Х</a:t>
            </a:r>
            <a:endParaRPr b="1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ccff"/>
              </a:solidFill>
              <a:latin typeface="Tahoma"/>
              <a:ea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7740720" y="3933720"/>
            <a:ext cx="36036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ccff"/>
                </a:solidFill>
                <a:latin typeface="Tahoma"/>
              </a:rPr>
              <a:t>У</a:t>
            </a:r>
            <a:endParaRPr b="1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ccff"/>
              </a:solidFill>
              <a:latin typeface="Tahoma"/>
              <a:ea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740720" y="4508640"/>
            <a:ext cx="36036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ccff"/>
                </a:solidFill>
                <a:latin typeface="Tahoma"/>
              </a:rPr>
              <a:t>Х</a:t>
            </a:r>
            <a:endParaRPr b="1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ccff"/>
              </a:solidFill>
              <a:latin typeface="Tahoma"/>
              <a:ea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740720" y="5084640"/>
            <a:ext cx="36036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ccff"/>
                </a:solidFill>
                <a:latin typeface="Tahoma"/>
              </a:rPr>
              <a:t>О</a:t>
            </a:r>
            <a:endParaRPr b="1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ccff"/>
              </a:solidFill>
              <a:latin typeface="Tahoma"/>
              <a:ea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740720" y="5661000"/>
            <a:ext cx="36036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ccff"/>
                </a:solidFill>
                <a:latin typeface="Tahoma"/>
              </a:rPr>
              <a:t>Л</a:t>
            </a:r>
            <a:endParaRPr b="1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ccff"/>
              </a:solidFill>
              <a:latin typeface="Tahoma"/>
              <a:ea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740720" y="6237360"/>
            <a:ext cx="43164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ccff"/>
                </a:solidFill>
                <a:latin typeface="Tahoma"/>
              </a:rPr>
              <a:t>Ь</a:t>
            </a:r>
            <a:endParaRPr b="1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ccff"/>
              </a:solidFill>
              <a:latin typeface="Tahoma"/>
              <a:ea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79280" y="333360"/>
            <a:ext cx="8696520" cy="12574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ffffff"/>
                </a:solidFill>
                <a:latin typeface="Tahoma"/>
              </a:rPr>
              <a:t>Найдите значение выражений.</a:t>
            </a:r>
            <a:endParaRPr b="0" lang="en-US" sz="2000" spc="1" strike="noStrike">
              <a:ln w="9360">
                <a:solidFill>
                  <a:srgbClr val="00ccff"/>
                </a:solidFill>
                <a:miter/>
              </a:ln>
              <a:solidFill>
                <a:srgbClr val="ffffff"/>
              </a:solidFill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ffffff"/>
                </a:solidFill>
                <a:latin typeface="Tahoma"/>
              </a:rPr>
              <a:t>Запишите получившиеся числа в порядке убывания.</a:t>
            </a:r>
            <a:endParaRPr b="0" lang="en-US" sz="2000" spc="1" strike="noStrike">
              <a:ln w="9360">
                <a:solidFill>
                  <a:srgbClr val="00ccff"/>
                </a:solidFill>
                <a:miter/>
              </a:ln>
              <a:solidFill>
                <a:srgbClr val="ffffff"/>
              </a:solidFill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ffffff"/>
                </a:solidFill>
                <a:latin typeface="Tahoma"/>
              </a:rPr>
              <a:t>Запишите букву, соответствующую каждому числу в последний столбик.</a:t>
            </a:r>
            <a:endParaRPr b="0" lang="en-US" sz="2000" spc="1" strike="noStrike">
              <a:ln w="9360">
                <a:solidFill>
                  <a:srgbClr val="00ccff"/>
                </a:solidFill>
                <a:miter/>
              </a:ln>
              <a:solidFill>
                <a:srgbClr val="ffffff"/>
              </a:solidFill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ffffff"/>
                </a:solidFill>
                <a:latin typeface="Tahoma"/>
              </a:rPr>
              <a:t>Что получилось?</a:t>
            </a:r>
            <a:endParaRPr b="0" lang="en-US" sz="2000" spc="1" strike="noStrike">
              <a:ln w="9360">
                <a:solidFill>
                  <a:srgbClr val="00ccff"/>
                </a:solidFill>
                <a:miter/>
              </a:ln>
              <a:solidFill>
                <a:srgbClr val="ffffff"/>
              </a:solidFill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68360" y="4221000"/>
            <a:ext cx="3744720" cy="23958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170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e5ffff"/>
                </a:solidFill>
                <a:latin typeface="Tahoma"/>
              </a:rPr>
              <a:t>Это небольшой зверек, который является одним из древнейших млекопитающих, живущих в Евразии еще со времен мамонтов. Она выглядит, как небольшая крыса с длинным, похожим на хобот, носиком.</a:t>
            </a:r>
            <a:br>
              <a:rPr sz="1800"/>
            </a:br>
            <a:r>
              <a:rPr b="0" lang="ru-RU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e5ffff"/>
                </a:solidFill>
                <a:latin typeface="Tahoma"/>
              </a:rPr>
              <a:t>Плотное валикообразное тело с короткой и малоподвижной шеей, голова конусовидной формы, оканчивающаяся довольно длинным подвижным хоботком с парой крупных носовых отверстий на конце, сплющенный с боков чешуйчатый хвост, лапы с плавательными перепонками, отороченные жесткими волосами, — все это делает выхухоль похожей на какой-то мифический персонаж. Глаза маленькие, хрусталик недоразвит, то есть зрение слабое. Ушные раковины отсутствуют, но слух — хороший. При погружении в воду ушные щели механически закрываются, а на носовых отверстиях замыкаются специальные клапаны.</a:t>
            </a:r>
            <a:br>
              <a:rPr sz="1800"/>
            </a:b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003640" y="4221000"/>
            <a:ext cx="3600720" cy="23972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219280" y="836280"/>
            <a:ext cx="3529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5ffff"/>
                </a:solidFill>
                <a:latin typeface="Tahoma"/>
              </a:rPr>
              <a:t>Русская выхухоль</a:t>
            </a: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 - это небольшое животное плотного сложения, весом около 450 г. и длиной тела около 20 см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4149360"/>
            <a:ext cx="82296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Сколько будут весит 25 выхухолей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(выразите в килограммах и граммах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Какова длина 32 выхухолей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(вырази в метрах и сантиметрах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rcRect l="995" t="0" r="0" b="8957"/>
          <a:stretch/>
        </p:blipFill>
        <p:spPr>
          <a:xfrm>
            <a:off x="250920" y="333360"/>
            <a:ext cx="4537080" cy="27795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120" name=""/>
          <p:cNvSpPr/>
          <p:nvPr/>
        </p:nvSpPr>
        <p:spPr>
          <a:xfrm>
            <a:off x="468360" y="3213000"/>
            <a:ext cx="424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ff"/>
                </a:solidFill>
                <a:latin typeface="Tahoma"/>
              </a:rPr>
              <a:t>Подсчитайт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Обитают выхухоли в поймах рек и по берегам озер. Зверёк прекрасно плавает, при нырянии умеет задерживать дыхание на 5 минут.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Выхухоли могут жить только в очень чистой воде, поэтому присутствие в водоеме этих зверьков служит индикатором его экологического благополучия, а значит наличия в нём рыбы и других полуводных млекопитающих.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50920" y="2039760"/>
            <a:ext cx="4321080" cy="28022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4716360" y="3357720"/>
            <a:ext cx="4248360" cy="30906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Увидеть </a:t>
            </a:r>
            <a:r>
              <a:rPr b="0" i="1" lang="en-US" sz="1800" spc="-1" strike="noStrike">
                <a:solidFill>
                  <a:srgbClr val="e5ffff"/>
                </a:solidFill>
                <a:latin typeface="Tahoma"/>
              </a:rPr>
              <a:t>выхухоль</a:t>
            </a: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 нелегко: она очень осторожна, и лишь рано утром или вечером настойчивый наблюдатель, если повезет, заметит торчащий из воды хоботок или голову высунувшегося подышать зверька. </a:t>
            </a:r>
            <a:br>
              <a:rPr sz="1800"/>
            </a:b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716360" y="1628640"/>
            <a:ext cx="3600720" cy="23018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126" name="" descr=""/>
          <p:cNvPicPr/>
          <p:nvPr/>
        </p:nvPicPr>
        <p:blipFill>
          <a:blip r:embed="rId3"/>
          <a:srcRect l="0" t="13392" r="0" b="10713"/>
          <a:stretch/>
        </p:blipFill>
        <p:spPr>
          <a:xfrm>
            <a:off x="324000" y="1844640"/>
            <a:ext cx="3741480" cy="43210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4716360" y="4149720"/>
            <a:ext cx="3837240" cy="24382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51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932360" y="1773360"/>
            <a:ext cx="3859200" cy="25714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1979640" y="4005360"/>
            <a:ext cx="3930480" cy="26193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539640" y="122760"/>
            <a:ext cx="813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ыхухоль практически всеядна. Она охотно поедает пиявок, моллюсков, личинки насекомых, дождевых червей, мелких рыбёшек, а также различные растительные корма. Ее каждодневное меню зависит от времени года, которое определяет обилие того или иного вида корм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4"/>
          <a:srcRect l="0" t="0" r="2551" b="2791"/>
          <a:stretch/>
        </p:blipFill>
        <p:spPr>
          <a:xfrm>
            <a:off x="395280" y="1773360"/>
            <a:ext cx="3992400" cy="26272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332000" y="1916280"/>
            <a:ext cx="6480000" cy="42987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135" name=""/>
          <p:cNvSpPr/>
          <p:nvPr/>
        </p:nvSpPr>
        <p:spPr>
          <a:xfrm>
            <a:off x="395280" y="46008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еред дракой зверьки встают “столбиком” и, опираясь на хвост, исследуют с помощью хоботка и окружающее пространство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ни принимают угрожающие позы, встают на задние лапы, покачиваются, раскрывают рот, издавая резкий своеобразный зву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Tahoma"/>
              </a:rPr>
              <a:t>Решите задачу: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начале 1970 г. на территории России обитало около 69 тысяч выхухолей. В настоящее время их осталось не более 25 тысяч. На сколько уменьшилась численность выхухолей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403280" y="4221000"/>
            <a:ext cx="6769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а 44  тысячи  !!!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6:49:40Z</dcterms:created>
  <dc:creator>User</dc:creator>
  <dc:description/>
  <dc:language>en-US</dc:language>
  <cp:lastModifiedBy>Alexey Novoselov</cp:lastModifiedBy>
  <dcterms:modified xsi:type="dcterms:W3CDTF">2009-10-23T09:18:42Z</dcterms:modified>
  <cp:revision>12</cp:revision>
  <dc:subject/>
  <dc:title>Слайд 1</dc:title>
</cp:coreProperties>
</file>